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E6815-458D-472F-B717-E68E45D4F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C98AD-B842-4BF6-9B2C-238D08F4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38221-A13A-43A1-AB7A-57233E9C9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997CC-5F90-4E5B-8ED4-05AF56C96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B8341-4041-4A96-BF9D-99CFEC40E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F3384-C99F-458F-8498-92CBB9A5F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77D8A-03FF-4A83-85C8-F9884A456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3D3E3-B975-42F8-83CC-63574FD36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B03C3-6D4E-4D2E-BBEF-FCDD9AB99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55D5-2181-49DE-9DB3-BEEADA8E0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90FCB-E6C8-4591-B1CA-B56ECF2A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CA63-BD15-4181-9E88-201E11589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4C067-D544-4125-9804-19B82171E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65D3E-4BAB-433A-AE90-541F28CF1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6CBC2-7182-4C32-95E6-364A5FCAF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2F5A5-8DCC-49E4-94B3-07BC15745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9A9D9-F77C-4DDA-9ABD-5A9D5BB08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8D28-C786-46DA-BDC5-2850D2E8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B012-4162-4907-B43C-18F48681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10AF-48ED-40FE-91C3-1316087E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EAC2B-F4F3-474A-AD0F-50CBC81F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AE17-96AA-442F-B287-DC9001CC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0262-0081-4BA7-B3EB-E9489A8B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50D9-E382-4709-812C-0D3B7E429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9A35-B07B-4C63-BD48-52B3DD8466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E73F-A88D-4D57-9CB8-CA735C0505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urning Points in </a:t>
            </a:r>
            <a:br>
              <a:rPr sz="5400"/>
            </a:br>
            <a:r>
              <a:rPr b="0" lang="en-US" sz="5400" spc="-1" strike="noStrike">
                <a:solidFill>
                  <a:srgbClr val="ffffcc"/>
                </a:solidFill>
                <a:latin typeface="Tahoma"/>
              </a:rPr>
              <a:t>European History</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eresa and Anthon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iod 5</a:t>
            </a:r>
            <a:endParaRPr b="0" lang="en-US" sz="3200" spc="-1" strike="noStrike">
              <a:solidFill>
                <a:srgbClr val="ffffff"/>
              </a:solidFill>
              <a:latin typeface="Tahoma"/>
            </a:endParaRPr>
          </a:p>
        </p:txBody>
      </p:sp>
      <p:sp>
        <p:nvSpPr>
          <p:cNvPr id="90"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ree most important event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tin Luther’s posting of the 95 Theses</a:t>
            </a:r>
            <a:endParaRPr b="0" lang="en-US" sz="32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ssination of Archduke Franz Ferdinand of Austria-Hungary</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cientific Revolution</a:t>
            </a:r>
            <a:endParaRPr b="0" lang="en-US" sz="3200" spc="-1" strike="noStrike">
              <a:solidFill>
                <a:srgbClr val="ffffff"/>
              </a:solidFill>
              <a:latin typeface="Tahoma"/>
            </a:endParaRPr>
          </a:p>
        </p:txBody>
      </p:sp>
      <p:sp>
        <p:nvSpPr>
          <p:cNvPr id="93"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artin Luther’s posting </a:t>
            </a:r>
            <a:br>
              <a:rPr sz="4000"/>
            </a:br>
            <a:r>
              <a:rPr b="0" lang="en-US" sz="4000" spc="-1" strike="noStrike">
                <a:solidFill>
                  <a:srgbClr val="ffffcc"/>
                </a:solidFill>
                <a:latin typeface="Tahoma"/>
              </a:rPr>
              <a:t>of the 95 Theses</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ized the Church’s 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ed extend the Renaissance and influence of classical views and independent though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ed a new definition of fa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uenced the course of religion toda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d smaller religious sects greater power and prominence</a:t>
            </a:r>
            <a:endParaRPr b="0" lang="en-US" sz="3200" spc="-1" strike="noStrike">
              <a:solidFill>
                <a:srgbClr val="ffffff"/>
              </a:solidFill>
              <a:latin typeface="Tahoma"/>
            </a:endParaRPr>
          </a:p>
        </p:txBody>
      </p:sp>
      <p:sp>
        <p:nvSpPr>
          <p:cNvPr id="96"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ssassination of Archduke Franz Ferdinand</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rked World War 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ught about World War I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I lead to the Russian Revolution, and later, the Cold W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d Serbia and Austria to reach compromi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cientific Revolution</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ed people comprehend how the world work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ed for current concepts of religion to be question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 to technological developm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ught about the publication of the Encyclopedi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stage for modern scie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tin Luther’s 95 Theses, the assassination of Archduke Franz Ferdinand, and the Scientific Revolution were all milestones for European history. Together, they formed complex religion, stable time periods, improved technologies, and improved Europe as a whole.</a:t>
            </a:r>
            <a:endParaRPr b="0" lang="en-US" sz="3200" spc="-1" strike="noStrike">
              <a:solidFill>
                <a:srgbClr val="ffffff"/>
              </a:solidFill>
              <a:latin typeface="Tahoma"/>
            </a:endParaRPr>
          </a:p>
        </p:txBody>
      </p:sp>
      <p:sp>
        <p:nvSpPr>
          <p:cNvPr id="105" name="TextBox 5"/>
          <p:cNvSpPr/>
          <p:nvPr/>
        </p:nvSpPr>
        <p:spPr>
          <a:xfrm>
            <a:off x="914400" y="640080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23:47:46Z</dcterms:created>
  <dc:creator>tasmolex</dc:creator>
  <dc:description/>
  <dc:language>en-US</dc:language>
  <cp:lastModifiedBy>ljfishex</cp:lastModifiedBy>
  <dcterms:modified xsi:type="dcterms:W3CDTF">2010-06-13T18:46:38Z</dcterms:modified>
  <cp:revision>9</cp:revision>
  <dc:subject/>
  <dc:title>Turning Points in  European History</dc:title>
</cp:coreProperties>
</file>