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wmf" ContentType="image/x-wmf"/>
  <Override PartName="/ppt/media/image7.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64F638-A422-44FA-8ABD-2823DED0A9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1447560" y="1600200"/>
            <a:ext cx="731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1447560" y="3964320"/>
            <a:ext cx="731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CAC761-97AE-4A7B-8E9F-08A612273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 name="PlaceHolder 2"/>
          <p:cNvSpPr>
            <a:spLocks noGrp="1"/>
          </p:cNvSpPr>
          <p:nvPr>
            <p:ph/>
          </p:nvPr>
        </p:nvSpPr>
        <p:spPr>
          <a:xfrm>
            <a:off x="14475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51951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1447560" y="396432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5195160" y="396432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26FE80-ED86-4047-8602-B88F225596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2"/>
          <p:cNvSpPr>
            <a:spLocks noGrp="1"/>
          </p:cNvSpPr>
          <p:nvPr>
            <p:ph/>
          </p:nvPr>
        </p:nvSpPr>
        <p:spPr>
          <a:xfrm>
            <a:off x="1447560" y="160020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920400" y="160020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393240" y="160020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1447560" y="396432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920400" y="396432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393240" y="396432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3A3733-23DF-4646-85AA-ACD40137C5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77C96B-F4AD-41B5-A49C-8B97DC2AF9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 name="PlaceHolder 2"/>
          <p:cNvSpPr>
            <a:spLocks noGrp="1"/>
          </p:cNvSpPr>
          <p:nvPr>
            <p:ph type="subTitle"/>
          </p:nvPr>
        </p:nvSpPr>
        <p:spPr>
          <a:xfrm>
            <a:off x="1447560" y="1600200"/>
            <a:ext cx="73134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3A4C25-B631-456E-829E-226284BFA7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 name="PlaceHolder 2"/>
          <p:cNvSpPr>
            <a:spLocks noGrp="1"/>
          </p:cNvSpPr>
          <p:nvPr>
            <p:ph/>
          </p:nvPr>
        </p:nvSpPr>
        <p:spPr>
          <a:xfrm>
            <a:off x="1447560" y="1600200"/>
            <a:ext cx="73134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60C8D4-A0D1-4931-B8D9-BF52C1C69F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 name="PlaceHolder 2"/>
          <p:cNvSpPr>
            <a:spLocks noGrp="1"/>
          </p:cNvSpPr>
          <p:nvPr>
            <p:ph/>
          </p:nvPr>
        </p:nvSpPr>
        <p:spPr>
          <a:xfrm>
            <a:off x="1447560" y="1600200"/>
            <a:ext cx="35686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5195160" y="1600200"/>
            <a:ext cx="35686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EAFC73-1A58-46FB-A8E7-74FCA0F0DD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22E1D8-EFD5-40D5-AACD-0A3ADC9BCC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447560" y="274320"/>
            <a:ext cx="7313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4CD717-E05B-4949-BC51-AFBCC410FE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 name="PlaceHolder 2"/>
          <p:cNvSpPr>
            <a:spLocks noGrp="1"/>
          </p:cNvSpPr>
          <p:nvPr>
            <p:ph/>
          </p:nvPr>
        </p:nvSpPr>
        <p:spPr>
          <a:xfrm>
            <a:off x="14475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5195160" y="1600200"/>
            <a:ext cx="35686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1447560" y="396432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B253C0-F19B-4BF7-90FE-B31ECF59ED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1447560" y="1600200"/>
            <a:ext cx="73134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E67F75-0DE3-4F72-90E4-A1A56CD063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 name="PlaceHolder 2"/>
          <p:cNvSpPr>
            <a:spLocks noGrp="1"/>
          </p:cNvSpPr>
          <p:nvPr>
            <p:ph/>
          </p:nvPr>
        </p:nvSpPr>
        <p:spPr>
          <a:xfrm>
            <a:off x="1447560" y="1600200"/>
            <a:ext cx="35686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51951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5195160" y="396432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A2CB41-8973-413D-9B26-DB8E10080E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4" name="PlaceHolder 2"/>
          <p:cNvSpPr>
            <a:spLocks noGrp="1"/>
          </p:cNvSpPr>
          <p:nvPr>
            <p:ph/>
          </p:nvPr>
        </p:nvSpPr>
        <p:spPr>
          <a:xfrm>
            <a:off x="14475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51951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1447560" y="3964320"/>
            <a:ext cx="731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33829C-0099-480E-B471-A2F72549BB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8" name="PlaceHolder 2"/>
          <p:cNvSpPr>
            <a:spLocks noGrp="1"/>
          </p:cNvSpPr>
          <p:nvPr>
            <p:ph/>
          </p:nvPr>
        </p:nvSpPr>
        <p:spPr>
          <a:xfrm>
            <a:off x="1447560" y="1600200"/>
            <a:ext cx="731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1447560" y="3964320"/>
            <a:ext cx="731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23A6E8-7E8B-47F8-912B-EA523CEF30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14475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51951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1447560" y="396432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5195160" y="396432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BD8B82-583D-4A3E-AEB5-1540E37E16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6" name="PlaceHolder 2"/>
          <p:cNvSpPr>
            <a:spLocks noGrp="1"/>
          </p:cNvSpPr>
          <p:nvPr>
            <p:ph/>
          </p:nvPr>
        </p:nvSpPr>
        <p:spPr>
          <a:xfrm>
            <a:off x="1447560" y="160020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3920400" y="160020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6393240" y="160020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1447560" y="396432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3920400" y="396432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6393240" y="396432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4B909A-6751-47CD-8F12-2793D7E374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1447560" y="1600200"/>
            <a:ext cx="73134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303A4-C37E-472D-B0B7-AD3698651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p:nvPr>
        </p:nvSpPr>
        <p:spPr>
          <a:xfrm>
            <a:off x="1447560" y="1600200"/>
            <a:ext cx="35686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5195160" y="1600200"/>
            <a:ext cx="35686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FD6F5A-DCD7-4AA2-99B1-E2F67A8601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764C2B-EFF1-4CBE-8B3B-A99860FCD3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447560" y="274320"/>
            <a:ext cx="7313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249218-CF84-4CE3-BA02-6084DD619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 name="PlaceHolder 2"/>
          <p:cNvSpPr>
            <a:spLocks noGrp="1"/>
          </p:cNvSpPr>
          <p:nvPr>
            <p:ph/>
          </p:nvPr>
        </p:nvSpPr>
        <p:spPr>
          <a:xfrm>
            <a:off x="14475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5195160" y="1600200"/>
            <a:ext cx="35686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1447560" y="396432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5447D-A28B-48B4-9FFA-69E3472690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1447560" y="1600200"/>
            <a:ext cx="35686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51951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5195160" y="396432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B7A9A-19D5-4FE7-8700-EF679C136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14475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51951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1447560" y="3964320"/>
            <a:ext cx="731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4FF99-AE44-4746-9F73-964BB53BF7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1447560" y="1600200"/>
            <a:ext cx="73134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1442520" y="6524640"/>
            <a:ext cx="2133720" cy="333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733560" y="6524640"/>
            <a:ext cx="2895480" cy="333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781320" y="6524640"/>
            <a:ext cx="2133720" cy="333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1A082-A4BB-4CB5-9A4F-362F6CC42E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2" name="PlaceHolder 2"/>
          <p:cNvSpPr>
            <a:spLocks noGrp="1"/>
          </p:cNvSpPr>
          <p:nvPr>
            <p:ph type="body"/>
          </p:nvPr>
        </p:nvSpPr>
        <p:spPr>
          <a:xfrm>
            <a:off x="1447560" y="1600200"/>
            <a:ext cx="73134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 name="PlaceHolder 3"/>
          <p:cNvSpPr>
            <a:spLocks noGrp="1"/>
          </p:cNvSpPr>
          <p:nvPr>
            <p:ph type="dt" idx="4"/>
          </p:nvPr>
        </p:nvSpPr>
        <p:spPr>
          <a:xfrm>
            <a:off x="1442520" y="6524640"/>
            <a:ext cx="2133720" cy="333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733560" y="6524640"/>
            <a:ext cx="2895480" cy="333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781320" y="6524640"/>
            <a:ext cx="2133720" cy="333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761B4-9FAE-48F3-B90F-A092096149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www.nature.com/nsu/011108/images/papermill_160.jpg&amp;imgrefurl=http://www.nature.com/nsu/011108/011108-9.html&amp;h=204&amp;w=195&amp;prev=/images%3Fq%3Dpaper%2Bmaking%26start%3D40%26svnum%3D10%26hl%3Den%26lr%3D%26ie%3DUTF-8%26oe%3DUTF-8%26sa%3DN"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images.google.com/imgres?imgurl=www.health.org/govpubs/workit/pol1.gif&amp;imgrefurl=http://www.health.org/govpubs/workit/ts5.htm&amp;h=208&amp;w=209&amp;prev=/images%3Fq%3Dpaper%2Bmaking%26start%3D340%26svnum%3D10%26hl%3Den%26lr%3D%26ie%3DUTF-8%26oe%3DUTF-8%26sa%3DN"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1142640"/>
            <a:ext cx="8381880" cy="2590920"/>
          </a:xfrm>
          <a:prstGeom prst="rect">
            <a:avLst/>
          </a:prstGeom>
          <a:solidFill>
            <a:srgbClr val="00006e">
              <a:alpha val="50000"/>
            </a:srgbClr>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Old English Text MT"/>
                <a:ea typeface="Times New Roman"/>
              </a:rPr>
              <a:t>Papyrus to PDA:</a:t>
            </a:r>
            <a:br>
              <a:rPr sz="4400"/>
            </a:br>
            <a:r>
              <a:rPr b="1" lang="en-US" sz="2800" spc="-1" strike="noStrike">
                <a:solidFill>
                  <a:srgbClr val="000000"/>
                </a:solidFill>
                <a:latin typeface="Old English Text MT"/>
                <a:ea typeface="Times New Roman"/>
              </a:rPr>
              <a:t>Visual Communication Through the Ages</a:t>
            </a:r>
            <a:r>
              <a:rPr b="0" lang="en-US" sz="5400" spc="-1" strike="noStrike">
                <a:solidFill>
                  <a:srgbClr val="000000"/>
                </a:solidFill>
                <a:latin typeface="Old English Text MT"/>
              </a:rPr>
              <a:t> </a:t>
            </a:r>
            <a:endParaRPr b="0" lang="en-US" sz="5400" spc="-1" strike="noStrike">
              <a:solidFill>
                <a:srgbClr val="000000"/>
              </a:solidFill>
              <a:latin typeface="Arial"/>
            </a:endParaRPr>
          </a:p>
        </p:txBody>
      </p:sp>
      <p:sp>
        <p:nvSpPr>
          <p:cNvPr id="83" name="PlaceHolder 2"/>
          <p:cNvSpPr>
            <a:spLocks noGrp="1"/>
          </p:cNvSpPr>
          <p:nvPr>
            <p:ph type="subTitle"/>
          </p:nvPr>
        </p:nvSpPr>
        <p:spPr>
          <a:xfrm>
            <a:off x="2514600" y="4038120"/>
            <a:ext cx="4572000" cy="175284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Group: Paper Pushers</a:t>
            </a:r>
            <a:endParaRPr b="0" lang="en-US" sz="20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Graphic Arts</a:t>
            </a:r>
            <a:br>
              <a:rPr sz="2000"/>
            </a:br>
            <a:r>
              <a:rPr b="1" lang="en-US" sz="2000" spc="-1" strike="noStrike">
                <a:solidFill>
                  <a:srgbClr val="000000"/>
                </a:solidFill>
                <a:latin typeface="Arial Narrow"/>
              </a:rPr>
              <a:t>Splendora High School</a:t>
            </a:r>
            <a:r>
              <a:rPr b="0" lang="en-US" sz="2800" spc="-1" strike="noStrike">
                <a:solidFill>
                  <a:srgbClr val="000000"/>
                </a:solidFill>
                <a:latin typeface="Arial"/>
              </a:rPr>
              <a:t> </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84" name="TextBox 6"/>
          <p:cNvSpPr/>
          <p:nvPr/>
        </p:nvSpPr>
        <p:spPr>
          <a:xfrm>
            <a:off x="1219320" y="647712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82"/>
                                        </p:tgtEl>
                                        <p:attrNameLst>
                                          <p:attrName>style.visibility</p:attrName>
                                        </p:attrNameLst>
                                      </p:cBhvr>
                                      <p:to>
                                        <p:strVal val="visible"/>
                                      </p:to>
                                    </p:set>
                                    <p:animEffect filter="dissolve" transition="in">
                                      <p:cBhvr additive="repl">
                                        <p:cTn id="7" dur="500"/>
                                        <p:tgtEl>
                                          <p:spTgt spid="8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83">
                                            <p:txEl>
                                              <p:pRg st="0" end="0"/>
                                            </p:txEl>
                                          </p:spTgt>
                                        </p:tgtEl>
                                        <p:attrNameLst>
                                          <p:attrName>style.visibility</p:attrName>
                                        </p:attrNameLst>
                                      </p:cBhvr>
                                      <p:to>
                                        <p:strVal val="visible"/>
                                      </p:to>
                                    </p:set>
                                    <p:animEffect filter="dissolve" transition="in">
                                      <p:cBhvr additive="repl">
                                        <p:cTn id="12" dur="500"/>
                                        <p:tgtEl>
                                          <p:spTgt spid="83">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83">
                                            <p:txEl>
                                              <p:pRg st="1" end="1"/>
                                            </p:txEl>
                                          </p:spTgt>
                                        </p:tgtEl>
                                        <p:attrNameLst>
                                          <p:attrName>style.visibility</p:attrName>
                                        </p:attrNameLst>
                                      </p:cBhvr>
                                      <p:to>
                                        <p:strVal val="visible"/>
                                      </p:to>
                                    </p:set>
                                    <p:animEffect filter="dissolve" transition="in">
                                      <p:cBhvr additive="repl">
                                        <p:cTn id="17" dur="500"/>
                                        <p:tgtEl>
                                          <p:spTgt spid="8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447560" y="304560"/>
            <a:ext cx="7313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Old English Text MT"/>
              </a:rPr>
              <a:t>Works Cited</a:t>
            </a:r>
            <a:endParaRPr b="0" lang="en-US" sz="4800" spc="-1" strike="noStrike">
              <a:solidFill>
                <a:srgbClr val="000000"/>
              </a:solidFill>
              <a:latin typeface="Arial"/>
            </a:endParaRPr>
          </a:p>
        </p:txBody>
      </p:sp>
      <p:sp>
        <p:nvSpPr>
          <p:cNvPr id="137" name="PlaceHolder 2"/>
          <p:cNvSpPr>
            <a:spLocks noGrp="1"/>
          </p:cNvSpPr>
          <p:nvPr>
            <p:ph/>
          </p:nvPr>
        </p:nvSpPr>
        <p:spPr>
          <a:xfrm>
            <a:off x="1295280" y="1752120"/>
            <a:ext cx="7391520" cy="44197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History of Paper by Conservatree: </a:t>
            </a:r>
            <a:r>
              <a:rPr b="0" lang="en-US" sz="2000" spc="-1" strike="noStrike">
                <a:solidFill>
                  <a:srgbClr val="0000ff"/>
                </a:solidFill>
                <a:latin typeface="Arial"/>
                <a:ea typeface="Arial"/>
              </a:rPr>
              <a:t>www.conservatree.com/learn/Papermaking/History.shtml</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History of Paper by Mead: </a:t>
            </a:r>
            <a:r>
              <a:rPr b="0" lang="en-US" sz="2000" spc="-1" strike="noStrike">
                <a:solidFill>
                  <a:srgbClr val="0000ff"/>
                </a:solidFill>
                <a:latin typeface="Arial"/>
                <a:ea typeface="Arial"/>
              </a:rPr>
              <a:t>www.mead.com/ml/docs/facts/history.html</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ea typeface="Arial"/>
              </a:rPr>
              <a:t>	</a:t>
            </a:r>
            <a:r>
              <a:rPr b="0" lang="en-US" sz="2000" spc="-1" strike="noStrike">
                <a:solidFill>
                  <a:srgbClr val="000000"/>
                </a:solidFill>
                <a:latin typeface="Arial"/>
                <a:ea typeface="Arial"/>
              </a:rPr>
              <a:t>Institute of Paper Science and Technology:</a:t>
            </a:r>
            <a:r>
              <a:rPr b="0" lang="en-US" sz="2000" spc="-1" strike="noStrike">
                <a:solidFill>
                  <a:srgbClr val="ccffff"/>
                </a:solidFill>
                <a:latin typeface="Arial"/>
                <a:ea typeface="Arial"/>
              </a:rPr>
              <a:t> www.ipst.edu</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Paper through the ages: www.hqpapermaker.com/paper.htm*</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Paper University: www.tappi.org/paperu/all_about_paper/paperHistory.htm*</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The Peculiar History of Paper:  www.ibfsrp.com/paper_history.htm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Wisconsin Paper Council: www.wipapercouncil.org/invention.htm*</a:t>
            </a:r>
            <a:endParaRPr b="0" lang="en-US" sz="2000" spc="-1" strike="noStrike">
              <a:solidFill>
                <a:srgbClr val="000000"/>
              </a:solidFill>
              <a:latin typeface="Arial"/>
            </a:endParaRPr>
          </a:p>
        </p:txBody>
      </p:sp>
      <p:sp>
        <p:nvSpPr>
          <p:cNvPr id="138" name="TextBox 6"/>
          <p:cNvSpPr/>
          <p:nvPr/>
        </p:nvSpPr>
        <p:spPr>
          <a:xfrm>
            <a:off x="1219320" y="647712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p:transition>
    <p:wipe dir="d"/>
  </p:transition>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withEffect" fill="hold" presetClass="entr" presetID="37">
                                  <p:stCondLst>
                                    <p:cond delay="0"/>
                                  </p:stCondLst>
                                  <p:childTnLst>
                                    <p:set>
                                      <p:cBhvr>
                                        <p:cTn id="235" dur="1" fill="hold">
                                          <p:stCondLst>
                                            <p:cond delay="0"/>
                                          </p:stCondLst>
                                        </p:cTn>
                                        <p:tgtEl>
                                          <p:spTgt spid="136"/>
                                        </p:tgtEl>
                                        <p:attrNameLst>
                                          <p:attrName>style.visibility</p:attrName>
                                        </p:attrNameLst>
                                      </p:cBhvr>
                                      <p:to>
                                        <p:strVal val="visible"/>
                                      </p:to>
                                    </p:set>
                                    <p:animEffect filter="fade" transition="in">
                                      <p:cBhvr additive="repl">
                                        <p:cTn id="236" dur="1000"/>
                                        <p:tgtEl>
                                          <p:spTgt spid="136"/>
                                        </p:tgtEl>
                                      </p:cBhvr>
                                    </p:animEffect>
                                    <p:anim calcmode="lin" valueType="num">
                                      <p:cBhvr additive="repl">
                                        <p:cTn id="237" dur="1000" fill="hold"/>
                                        <p:tgtEl>
                                          <p:spTgt spid="136"/>
                                        </p:tgtEl>
                                        <p:attrNameLst>
                                          <p:attrName>ppt_x</p:attrName>
                                        </p:attrNameLst>
                                      </p:cBhvr>
                                      <p:tavLst>
                                        <p:tav tm="0">
                                          <p:val>
                                            <p:strVal val="#ppt_x"/>
                                          </p:val>
                                        </p:tav>
                                        <p:tav tm="100000">
                                          <p:val>
                                            <p:strVal val="#ppt_x"/>
                                          </p:val>
                                        </p:tav>
                                      </p:tavLst>
                                    </p:anim>
                                    <p:anim calcmode="lin" valueType="num">
                                      <p:cBhvr additive="repl">
                                        <p:cTn id="238" dur="898" fill="hold"/>
                                        <p:tgtEl>
                                          <p:spTgt spid="136"/>
                                        </p:tgtEl>
                                        <p:attrNameLst>
                                          <p:attrName>ppt_y</p:attrName>
                                        </p:attrNameLst>
                                      </p:cBhvr>
                                      <p:tavLst>
                                        <p:tav tm="0">
                                          <p:val>
                                            <p:strVal val="#ppt_y+1"/>
                                          </p:val>
                                        </p:tav>
                                        <p:tav tm="100000">
                                          <p:val>
                                            <p:strVal val="#ppt_y-.03"/>
                                          </p:val>
                                        </p:tav>
                                      </p:tavLst>
                                    </p:anim>
                                    <p:anim calcmode="lin" valueType="num">
                                      <p:cBhvr additive="repl">
                                        <p:cTn id="239" dur="100" fill="hold">
                                          <p:stCondLst>
                                            <p:cond delay="898"/>
                                          </p:stCondLst>
                                        </p:cTn>
                                        <p:tgtEl>
                                          <p:spTgt spid="136"/>
                                        </p:tgtEl>
                                        <p:attrNameLst>
                                          <p:attrName>ppt_y</p:attrName>
                                        </p:attrNameLst>
                                      </p:cBhvr>
                                      <p:tavLst>
                                        <p:tav tm="0">
                                          <p:val>
                                            <p:strVal val="#ppt_y-.03"/>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37">
                                  <p:stCondLst>
                                    <p:cond delay="0"/>
                                  </p:stCondLst>
                                  <p:childTnLst>
                                    <p:set>
                                      <p:cBhvr>
                                        <p:cTn id="243" dur="1" fill="hold">
                                          <p:stCondLst>
                                            <p:cond delay="0"/>
                                          </p:stCondLst>
                                        </p:cTn>
                                        <p:tgtEl>
                                          <p:spTgt spid="137">
                                            <p:txEl>
                                              <p:pRg st="0" end="0"/>
                                            </p:txEl>
                                          </p:spTgt>
                                        </p:tgtEl>
                                        <p:attrNameLst>
                                          <p:attrName>style.visibility</p:attrName>
                                        </p:attrNameLst>
                                      </p:cBhvr>
                                      <p:to>
                                        <p:strVal val="visible"/>
                                      </p:to>
                                    </p:set>
                                    <p:animEffect filter="fade" transition="in">
                                      <p:cBhvr additive="repl">
                                        <p:cTn id="244" dur="1000"/>
                                        <p:tgtEl>
                                          <p:spTgt spid="137">
                                            <p:txEl>
                                              <p:pRg st="0" end="0"/>
                                            </p:txEl>
                                          </p:spTgt>
                                        </p:tgtEl>
                                      </p:cBhvr>
                                    </p:animEffect>
                                    <p:anim calcmode="lin" valueType="num">
                                      <p:cBhvr additive="repl">
                                        <p:cTn id="245" dur="10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repl">
                                        <p:cTn id="246" dur="898" fill="hold"/>
                                        <p:tgtEl>
                                          <p:spTgt spid="137">
                                            <p:txEl>
                                              <p:pRg st="0" end="0"/>
                                            </p:txEl>
                                          </p:spTgt>
                                        </p:tgtEl>
                                        <p:attrNameLst>
                                          <p:attrName>ppt_y</p:attrName>
                                        </p:attrNameLst>
                                      </p:cBhvr>
                                      <p:tavLst>
                                        <p:tav tm="0">
                                          <p:val>
                                            <p:strVal val="#ppt_y+1"/>
                                          </p:val>
                                        </p:tav>
                                        <p:tav tm="100000">
                                          <p:val>
                                            <p:strVal val="#ppt_y-.03"/>
                                          </p:val>
                                        </p:tav>
                                      </p:tavLst>
                                    </p:anim>
                                    <p:anim calcmode="lin" valueType="num">
                                      <p:cBhvr additive="repl">
                                        <p:cTn id="247" dur="100" fill="hold">
                                          <p:stCondLst>
                                            <p:cond delay="898"/>
                                          </p:stCondLst>
                                        </p:cTn>
                                        <p:tgtEl>
                                          <p:spTgt spid="13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7">
                                  <p:stCondLst>
                                    <p:cond delay="0"/>
                                  </p:stCondLst>
                                  <p:childTnLst>
                                    <p:set>
                                      <p:cBhvr>
                                        <p:cTn id="251" dur="1" fill="hold">
                                          <p:stCondLst>
                                            <p:cond delay="0"/>
                                          </p:stCondLst>
                                        </p:cTn>
                                        <p:tgtEl>
                                          <p:spTgt spid="137">
                                            <p:txEl>
                                              <p:pRg st="1" end="1"/>
                                            </p:txEl>
                                          </p:spTgt>
                                        </p:tgtEl>
                                        <p:attrNameLst>
                                          <p:attrName>style.visibility</p:attrName>
                                        </p:attrNameLst>
                                      </p:cBhvr>
                                      <p:to>
                                        <p:strVal val="visible"/>
                                      </p:to>
                                    </p:set>
                                    <p:animEffect filter="fade" transition="in">
                                      <p:cBhvr additive="repl">
                                        <p:cTn id="252" dur="1000"/>
                                        <p:tgtEl>
                                          <p:spTgt spid="137">
                                            <p:txEl>
                                              <p:pRg st="1" end="1"/>
                                            </p:txEl>
                                          </p:spTgt>
                                        </p:tgtEl>
                                      </p:cBhvr>
                                    </p:animEffect>
                                    <p:anim calcmode="lin" valueType="num">
                                      <p:cBhvr additive="repl">
                                        <p:cTn id="253" dur="10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repl">
                                        <p:cTn id="254" dur="898" fill="hold"/>
                                        <p:tgtEl>
                                          <p:spTgt spid="137">
                                            <p:txEl>
                                              <p:pRg st="1" end="1"/>
                                            </p:txEl>
                                          </p:spTgt>
                                        </p:tgtEl>
                                        <p:attrNameLst>
                                          <p:attrName>ppt_y</p:attrName>
                                        </p:attrNameLst>
                                      </p:cBhvr>
                                      <p:tavLst>
                                        <p:tav tm="0">
                                          <p:val>
                                            <p:strVal val="#ppt_y+1"/>
                                          </p:val>
                                        </p:tav>
                                        <p:tav tm="100000">
                                          <p:val>
                                            <p:strVal val="#ppt_y-.03"/>
                                          </p:val>
                                        </p:tav>
                                      </p:tavLst>
                                    </p:anim>
                                    <p:anim calcmode="lin" valueType="num">
                                      <p:cBhvr additive="repl">
                                        <p:cTn id="255" dur="100" fill="hold">
                                          <p:stCondLst>
                                            <p:cond delay="898"/>
                                          </p:stCondLst>
                                        </p:cTn>
                                        <p:tgtEl>
                                          <p:spTgt spid="137">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7">
                                  <p:stCondLst>
                                    <p:cond delay="0"/>
                                  </p:stCondLst>
                                  <p:childTnLst>
                                    <p:set>
                                      <p:cBhvr>
                                        <p:cTn id="259" dur="1" fill="hold">
                                          <p:stCondLst>
                                            <p:cond delay="0"/>
                                          </p:stCondLst>
                                        </p:cTn>
                                        <p:tgtEl>
                                          <p:spTgt spid="137">
                                            <p:txEl>
                                              <p:pRg st="2" end="2"/>
                                            </p:txEl>
                                          </p:spTgt>
                                        </p:tgtEl>
                                        <p:attrNameLst>
                                          <p:attrName>style.visibility</p:attrName>
                                        </p:attrNameLst>
                                      </p:cBhvr>
                                      <p:to>
                                        <p:strVal val="visible"/>
                                      </p:to>
                                    </p:set>
                                    <p:animEffect filter="fade" transition="in">
                                      <p:cBhvr additive="repl">
                                        <p:cTn id="260" dur="1000"/>
                                        <p:tgtEl>
                                          <p:spTgt spid="137">
                                            <p:txEl>
                                              <p:pRg st="2" end="2"/>
                                            </p:txEl>
                                          </p:spTgt>
                                        </p:tgtEl>
                                      </p:cBhvr>
                                    </p:animEffect>
                                    <p:anim calcmode="lin" valueType="num">
                                      <p:cBhvr additive="repl">
                                        <p:cTn id="261" dur="10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repl">
                                        <p:cTn id="262" dur="898" fill="hold"/>
                                        <p:tgtEl>
                                          <p:spTgt spid="137">
                                            <p:txEl>
                                              <p:pRg st="2" end="2"/>
                                            </p:txEl>
                                          </p:spTgt>
                                        </p:tgtEl>
                                        <p:attrNameLst>
                                          <p:attrName>ppt_y</p:attrName>
                                        </p:attrNameLst>
                                      </p:cBhvr>
                                      <p:tavLst>
                                        <p:tav tm="0">
                                          <p:val>
                                            <p:strVal val="#ppt_y+1"/>
                                          </p:val>
                                        </p:tav>
                                        <p:tav tm="100000">
                                          <p:val>
                                            <p:strVal val="#ppt_y-.03"/>
                                          </p:val>
                                        </p:tav>
                                      </p:tavLst>
                                    </p:anim>
                                    <p:anim calcmode="lin" valueType="num">
                                      <p:cBhvr additive="repl">
                                        <p:cTn id="263" dur="100" fill="hold">
                                          <p:stCondLst>
                                            <p:cond delay="898"/>
                                          </p:stCondLst>
                                        </p:cTn>
                                        <p:tgtEl>
                                          <p:spTgt spid="137">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37">
                                  <p:stCondLst>
                                    <p:cond delay="0"/>
                                  </p:stCondLst>
                                  <p:childTnLst>
                                    <p:set>
                                      <p:cBhvr>
                                        <p:cTn id="267" dur="1" fill="hold">
                                          <p:stCondLst>
                                            <p:cond delay="0"/>
                                          </p:stCondLst>
                                        </p:cTn>
                                        <p:tgtEl>
                                          <p:spTgt spid="137">
                                            <p:txEl>
                                              <p:pRg st="3" end="3"/>
                                            </p:txEl>
                                          </p:spTgt>
                                        </p:tgtEl>
                                        <p:attrNameLst>
                                          <p:attrName>style.visibility</p:attrName>
                                        </p:attrNameLst>
                                      </p:cBhvr>
                                      <p:to>
                                        <p:strVal val="visible"/>
                                      </p:to>
                                    </p:set>
                                    <p:animEffect filter="fade" transition="in">
                                      <p:cBhvr additive="repl">
                                        <p:cTn id="268" dur="1000"/>
                                        <p:tgtEl>
                                          <p:spTgt spid="137">
                                            <p:txEl>
                                              <p:pRg st="3" end="3"/>
                                            </p:txEl>
                                          </p:spTgt>
                                        </p:tgtEl>
                                      </p:cBhvr>
                                    </p:animEffect>
                                    <p:anim calcmode="lin" valueType="num">
                                      <p:cBhvr additive="repl">
                                        <p:cTn id="269" dur="1000" fill="hold"/>
                                        <p:tgtEl>
                                          <p:spTgt spid="137">
                                            <p:txEl>
                                              <p:pRg st="3" end="3"/>
                                            </p:txEl>
                                          </p:spTgt>
                                        </p:tgtEl>
                                        <p:attrNameLst>
                                          <p:attrName>ppt_x</p:attrName>
                                        </p:attrNameLst>
                                      </p:cBhvr>
                                      <p:tavLst>
                                        <p:tav tm="0">
                                          <p:val>
                                            <p:strVal val="#ppt_x"/>
                                          </p:val>
                                        </p:tav>
                                        <p:tav tm="100000">
                                          <p:val>
                                            <p:strVal val="#ppt_x"/>
                                          </p:val>
                                        </p:tav>
                                      </p:tavLst>
                                    </p:anim>
                                    <p:anim calcmode="lin" valueType="num">
                                      <p:cBhvr additive="repl">
                                        <p:cTn id="270" dur="898" fill="hold"/>
                                        <p:tgtEl>
                                          <p:spTgt spid="137">
                                            <p:txEl>
                                              <p:pRg st="3" end="3"/>
                                            </p:txEl>
                                          </p:spTgt>
                                        </p:tgtEl>
                                        <p:attrNameLst>
                                          <p:attrName>ppt_y</p:attrName>
                                        </p:attrNameLst>
                                      </p:cBhvr>
                                      <p:tavLst>
                                        <p:tav tm="0">
                                          <p:val>
                                            <p:strVal val="#ppt_y+1"/>
                                          </p:val>
                                        </p:tav>
                                        <p:tav tm="100000">
                                          <p:val>
                                            <p:strVal val="#ppt_y-.03"/>
                                          </p:val>
                                        </p:tav>
                                      </p:tavLst>
                                    </p:anim>
                                    <p:anim calcmode="lin" valueType="num">
                                      <p:cBhvr additive="repl">
                                        <p:cTn id="271" dur="100" fill="hold">
                                          <p:stCondLst>
                                            <p:cond delay="898"/>
                                          </p:stCondLst>
                                        </p:cTn>
                                        <p:tgtEl>
                                          <p:spTgt spid="137">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37">
                                  <p:stCondLst>
                                    <p:cond delay="0"/>
                                  </p:stCondLst>
                                  <p:childTnLst>
                                    <p:set>
                                      <p:cBhvr>
                                        <p:cTn id="275" dur="1" fill="hold">
                                          <p:stCondLst>
                                            <p:cond delay="0"/>
                                          </p:stCondLst>
                                        </p:cTn>
                                        <p:tgtEl>
                                          <p:spTgt spid="137">
                                            <p:txEl>
                                              <p:pRg st="4" end="4"/>
                                            </p:txEl>
                                          </p:spTgt>
                                        </p:tgtEl>
                                        <p:attrNameLst>
                                          <p:attrName>style.visibility</p:attrName>
                                        </p:attrNameLst>
                                      </p:cBhvr>
                                      <p:to>
                                        <p:strVal val="visible"/>
                                      </p:to>
                                    </p:set>
                                    <p:animEffect filter="fade" transition="in">
                                      <p:cBhvr additive="repl">
                                        <p:cTn id="276" dur="1000"/>
                                        <p:tgtEl>
                                          <p:spTgt spid="137">
                                            <p:txEl>
                                              <p:pRg st="4" end="4"/>
                                            </p:txEl>
                                          </p:spTgt>
                                        </p:tgtEl>
                                      </p:cBhvr>
                                    </p:animEffect>
                                    <p:anim calcmode="lin" valueType="num">
                                      <p:cBhvr additive="repl">
                                        <p:cTn id="277" dur="1000" fill="hold"/>
                                        <p:tgtEl>
                                          <p:spTgt spid="137">
                                            <p:txEl>
                                              <p:pRg st="4" end="4"/>
                                            </p:txEl>
                                          </p:spTgt>
                                        </p:tgtEl>
                                        <p:attrNameLst>
                                          <p:attrName>ppt_x</p:attrName>
                                        </p:attrNameLst>
                                      </p:cBhvr>
                                      <p:tavLst>
                                        <p:tav tm="0">
                                          <p:val>
                                            <p:strVal val="#ppt_x"/>
                                          </p:val>
                                        </p:tav>
                                        <p:tav tm="100000">
                                          <p:val>
                                            <p:strVal val="#ppt_x"/>
                                          </p:val>
                                        </p:tav>
                                      </p:tavLst>
                                    </p:anim>
                                    <p:anim calcmode="lin" valueType="num">
                                      <p:cBhvr additive="repl">
                                        <p:cTn id="278" dur="898" fill="hold"/>
                                        <p:tgtEl>
                                          <p:spTgt spid="137">
                                            <p:txEl>
                                              <p:pRg st="4" end="4"/>
                                            </p:txEl>
                                          </p:spTgt>
                                        </p:tgtEl>
                                        <p:attrNameLst>
                                          <p:attrName>ppt_y</p:attrName>
                                        </p:attrNameLst>
                                      </p:cBhvr>
                                      <p:tavLst>
                                        <p:tav tm="0">
                                          <p:val>
                                            <p:strVal val="#ppt_y+1"/>
                                          </p:val>
                                        </p:tav>
                                        <p:tav tm="100000">
                                          <p:val>
                                            <p:strVal val="#ppt_y-.03"/>
                                          </p:val>
                                        </p:tav>
                                      </p:tavLst>
                                    </p:anim>
                                    <p:anim calcmode="lin" valueType="num">
                                      <p:cBhvr additive="repl">
                                        <p:cTn id="279" dur="100" fill="hold">
                                          <p:stCondLst>
                                            <p:cond delay="898"/>
                                          </p:stCondLst>
                                        </p:cTn>
                                        <p:tgtEl>
                                          <p:spTgt spid="137">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37">
                                  <p:stCondLst>
                                    <p:cond delay="0"/>
                                  </p:stCondLst>
                                  <p:childTnLst>
                                    <p:set>
                                      <p:cBhvr>
                                        <p:cTn id="283" dur="1" fill="hold">
                                          <p:stCondLst>
                                            <p:cond delay="0"/>
                                          </p:stCondLst>
                                        </p:cTn>
                                        <p:tgtEl>
                                          <p:spTgt spid="137">
                                            <p:txEl>
                                              <p:pRg st="5" end="5"/>
                                            </p:txEl>
                                          </p:spTgt>
                                        </p:tgtEl>
                                        <p:attrNameLst>
                                          <p:attrName>style.visibility</p:attrName>
                                        </p:attrNameLst>
                                      </p:cBhvr>
                                      <p:to>
                                        <p:strVal val="visible"/>
                                      </p:to>
                                    </p:set>
                                    <p:animEffect filter="fade" transition="in">
                                      <p:cBhvr additive="repl">
                                        <p:cTn id="284" dur="1000"/>
                                        <p:tgtEl>
                                          <p:spTgt spid="137">
                                            <p:txEl>
                                              <p:pRg st="5" end="5"/>
                                            </p:txEl>
                                          </p:spTgt>
                                        </p:tgtEl>
                                      </p:cBhvr>
                                    </p:animEffect>
                                    <p:anim calcmode="lin" valueType="num">
                                      <p:cBhvr additive="repl">
                                        <p:cTn id="285" dur="1000" fill="hold"/>
                                        <p:tgtEl>
                                          <p:spTgt spid="137">
                                            <p:txEl>
                                              <p:pRg st="5" end="5"/>
                                            </p:txEl>
                                          </p:spTgt>
                                        </p:tgtEl>
                                        <p:attrNameLst>
                                          <p:attrName>ppt_x</p:attrName>
                                        </p:attrNameLst>
                                      </p:cBhvr>
                                      <p:tavLst>
                                        <p:tav tm="0">
                                          <p:val>
                                            <p:strVal val="#ppt_x"/>
                                          </p:val>
                                        </p:tav>
                                        <p:tav tm="100000">
                                          <p:val>
                                            <p:strVal val="#ppt_x"/>
                                          </p:val>
                                        </p:tav>
                                      </p:tavLst>
                                    </p:anim>
                                    <p:anim calcmode="lin" valueType="num">
                                      <p:cBhvr additive="repl">
                                        <p:cTn id="286" dur="898" fill="hold"/>
                                        <p:tgtEl>
                                          <p:spTgt spid="137">
                                            <p:txEl>
                                              <p:pRg st="5" end="5"/>
                                            </p:txEl>
                                          </p:spTgt>
                                        </p:tgtEl>
                                        <p:attrNameLst>
                                          <p:attrName>ppt_y</p:attrName>
                                        </p:attrNameLst>
                                      </p:cBhvr>
                                      <p:tavLst>
                                        <p:tav tm="0">
                                          <p:val>
                                            <p:strVal val="#ppt_y+1"/>
                                          </p:val>
                                        </p:tav>
                                        <p:tav tm="100000">
                                          <p:val>
                                            <p:strVal val="#ppt_y-.03"/>
                                          </p:val>
                                        </p:tav>
                                      </p:tavLst>
                                    </p:anim>
                                    <p:anim calcmode="lin" valueType="num">
                                      <p:cBhvr additive="repl">
                                        <p:cTn id="287" dur="100" fill="hold">
                                          <p:stCondLst>
                                            <p:cond delay="898"/>
                                          </p:stCondLst>
                                        </p:cTn>
                                        <p:tgtEl>
                                          <p:spTgt spid="137">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37">
                                  <p:stCondLst>
                                    <p:cond delay="0"/>
                                  </p:stCondLst>
                                  <p:childTnLst>
                                    <p:set>
                                      <p:cBhvr>
                                        <p:cTn id="291" dur="1" fill="hold">
                                          <p:stCondLst>
                                            <p:cond delay="0"/>
                                          </p:stCondLst>
                                        </p:cTn>
                                        <p:tgtEl>
                                          <p:spTgt spid="137">
                                            <p:txEl>
                                              <p:pRg st="6" end="6"/>
                                            </p:txEl>
                                          </p:spTgt>
                                        </p:tgtEl>
                                        <p:attrNameLst>
                                          <p:attrName>style.visibility</p:attrName>
                                        </p:attrNameLst>
                                      </p:cBhvr>
                                      <p:to>
                                        <p:strVal val="visible"/>
                                      </p:to>
                                    </p:set>
                                    <p:animEffect filter="fade" transition="in">
                                      <p:cBhvr additive="repl">
                                        <p:cTn id="292" dur="1000"/>
                                        <p:tgtEl>
                                          <p:spTgt spid="137">
                                            <p:txEl>
                                              <p:pRg st="6" end="6"/>
                                            </p:txEl>
                                          </p:spTgt>
                                        </p:tgtEl>
                                      </p:cBhvr>
                                    </p:animEffect>
                                    <p:anim calcmode="lin" valueType="num">
                                      <p:cBhvr additive="repl">
                                        <p:cTn id="293" dur="1000" fill="hold"/>
                                        <p:tgtEl>
                                          <p:spTgt spid="137">
                                            <p:txEl>
                                              <p:pRg st="6" end="6"/>
                                            </p:txEl>
                                          </p:spTgt>
                                        </p:tgtEl>
                                        <p:attrNameLst>
                                          <p:attrName>ppt_x</p:attrName>
                                        </p:attrNameLst>
                                      </p:cBhvr>
                                      <p:tavLst>
                                        <p:tav tm="0">
                                          <p:val>
                                            <p:strVal val="#ppt_x"/>
                                          </p:val>
                                        </p:tav>
                                        <p:tav tm="100000">
                                          <p:val>
                                            <p:strVal val="#ppt_x"/>
                                          </p:val>
                                        </p:tav>
                                      </p:tavLst>
                                    </p:anim>
                                    <p:anim calcmode="lin" valueType="num">
                                      <p:cBhvr additive="repl">
                                        <p:cTn id="294" dur="898" fill="hold"/>
                                        <p:tgtEl>
                                          <p:spTgt spid="137">
                                            <p:txEl>
                                              <p:pRg st="6" end="6"/>
                                            </p:txEl>
                                          </p:spTgt>
                                        </p:tgtEl>
                                        <p:attrNameLst>
                                          <p:attrName>ppt_y</p:attrName>
                                        </p:attrNameLst>
                                      </p:cBhvr>
                                      <p:tavLst>
                                        <p:tav tm="0">
                                          <p:val>
                                            <p:strVal val="#ppt_y+1"/>
                                          </p:val>
                                        </p:tav>
                                        <p:tav tm="100000">
                                          <p:val>
                                            <p:strVal val="#ppt_y-.03"/>
                                          </p:val>
                                        </p:tav>
                                      </p:tavLst>
                                    </p:anim>
                                    <p:anim calcmode="lin" valueType="num">
                                      <p:cBhvr additive="repl">
                                        <p:cTn id="295" dur="100" fill="hold">
                                          <p:stCondLst>
                                            <p:cond delay="898"/>
                                          </p:stCondLst>
                                        </p:cTn>
                                        <p:tgtEl>
                                          <p:spTgt spid="137">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447560" y="274320"/>
            <a:ext cx="7313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Old English Text MT"/>
              </a:rPr>
              <a:t>Introduction of Paper</a:t>
            </a:r>
            <a:endParaRPr b="0" lang="en-US" sz="4800" spc="-1" strike="noStrike">
              <a:solidFill>
                <a:srgbClr val="000000"/>
              </a:solidFill>
              <a:latin typeface="Arial"/>
            </a:endParaRPr>
          </a:p>
        </p:txBody>
      </p:sp>
      <p:sp>
        <p:nvSpPr>
          <p:cNvPr id="86" name="PlaceHolder 2"/>
          <p:cNvSpPr>
            <a:spLocks noGrp="1"/>
          </p:cNvSpPr>
          <p:nvPr>
            <p:ph/>
          </p:nvPr>
        </p:nvSpPr>
        <p:spPr>
          <a:xfrm>
            <a:off x="1447920" y="1676520"/>
            <a:ext cx="449568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Which invention had the greatest social, political, and economical impac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We make the case for </a:t>
            </a:r>
            <a:r>
              <a:rPr b="1" lang="en-US" sz="3200" spc="-1" strike="noStrike">
                <a:solidFill>
                  <a:srgbClr val="0066cc"/>
                </a:solidFill>
                <a:latin typeface="Arial Narrow"/>
              </a:rPr>
              <a:t>PAPER</a:t>
            </a:r>
            <a:r>
              <a:rPr b="0" lang="en-US" sz="3200" spc="-1" strike="noStrike">
                <a:solidFill>
                  <a:srgbClr val="000000"/>
                </a:solidFill>
                <a:latin typeface="Old English Text MT"/>
              </a:rPr>
              <a:t>.</a:t>
            </a:r>
            <a:endParaRPr b="0" lang="en-US" sz="3200" spc="-1" strike="noStrike">
              <a:solidFill>
                <a:srgbClr val="000000"/>
              </a:solidFill>
              <a:latin typeface="Arial"/>
            </a:endParaRPr>
          </a:p>
        </p:txBody>
      </p:sp>
      <p:grpSp>
        <p:nvGrpSpPr>
          <p:cNvPr id="87" name="Group 30"/>
          <p:cNvGrpSpPr/>
          <p:nvPr/>
        </p:nvGrpSpPr>
        <p:grpSpPr>
          <a:xfrm>
            <a:off x="6248520" y="3733920"/>
            <a:ext cx="2514600" cy="2430360"/>
            <a:chOff x="6248520" y="3733920"/>
            <a:chExt cx="2514600" cy="2430360"/>
          </a:xfrm>
        </p:grpSpPr>
        <p:sp>
          <p:nvSpPr>
            <p:cNvPr id="88" name="AutoShape 8"/>
            <p:cNvSpPr/>
            <p:nvPr/>
          </p:nvSpPr>
          <p:spPr>
            <a:xfrm>
              <a:off x="6248520" y="3733920"/>
              <a:ext cx="2514600" cy="2430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Freeform 11"/>
            <p:cNvSpPr/>
            <p:nvPr/>
          </p:nvSpPr>
          <p:spPr>
            <a:xfrm>
              <a:off x="6253200" y="3735000"/>
              <a:ext cx="2502720" cy="2424240"/>
            </a:xfrm>
            <a:custGeom>
              <a:avLst/>
              <a:gdLst>
                <a:gd name="textAreaLeft" fmla="*/ 0 w 2502720"/>
                <a:gd name="textAreaRight" fmla="*/ 2503080 w 2502720"/>
                <a:gd name="textAreaTop" fmla="*/ 0 h 2424240"/>
                <a:gd name="textAreaBottom" fmla="*/ 2424600 h 2424240"/>
              </a:gdLst>
              <a:ahLst/>
              <a:rect l="textAreaLeft" t="textAreaTop" r="textAreaRight" b="textAreaBottom"/>
              <a:pathLst>
                <a:path w="4300" h="3820">
                  <a:moveTo>
                    <a:pt x="3516" y="664"/>
                  </a:moveTo>
                  <a:lnTo>
                    <a:pt x="3661" y="651"/>
                  </a:lnTo>
                  <a:lnTo>
                    <a:pt x="3756" y="641"/>
                  </a:lnTo>
                  <a:lnTo>
                    <a:pt x="3828" y="630"/>
                  </a:lnTo>
                  <a:lnTo>
                    <a:pt x="3896" y="617"/>
                  </a:lnTo>
                  <a:lnTo>
                    <a:pt x="3967" y="603"/>
                  </a:lnTo>
                  <a:lnTo>
                    <a:pt x="4013" y="592"/>
                  </a:lnTo>
                  <a:lnTo>
                    <a:pt x="4081" y="571"/>
                  </a:lnTo>
                  <a:lnTo>
                    <a:pt x="4127" y="557"/>
                  </a:lnTo>
                  <a:lnTo>
                    <a:pt x="4196" y="532"/>
                  </a:lnTo>
                  <a:lnTo>
                    <a:pt x="4263" y="503"/>
                  </a:lnTo>
                  <a:lnTo>
                    <a:pt x="4256" y="526"/>
                  </a:lnTo>
                  <a:lnTo>
                    <a:pt x="4248" y="548"/>
                  </a:lnTo>
                  <a:lnTo>
                    <a:pt x="4230" y="576"/>
                  </a:lnTo>
                  <a:lnTo>
                    <a:pt x="4213" y="602"/>
                  </a:lnTo>
                  <a:lnTo>
                    <a:pt x="4193" y="624"/>
                  </a:lnTo>
                  <a:lnTo>
                    <a:pt x="4174" y="647"/>
                  </a:lnTo>
                  <a:lnTo>
                    <a:pt x="4145" y="674"/>
                  </a:lnTo>
                  <a:lnTo>
                    <a:pt x="4085" y="726"/>
                  </a:lnTo>
                  <a:lnTo>
                    <a:pt x="4065" y="747"/>
                  </a:lnTo>
                  <a:lnTo>
                    <a:pt x="4058" y="754"/>
                  </a:lnTo>
                  <a:lnTo>
                    <a:pt x="4084" y="745"/>
                  </a:lnTo>
                  <a:lnTo>
                    <a:pt x="4108" y="735"/>
                  </a:lnTo>
                  <a:lnTo>
                    <a:pt x="4169" y="702"/>
                  </a:lnTo>
                  <a:lnTo>
                    <a:pt x="4196" y="690"/>
                  </a:lnTo>
                  <a:lnTo>
                    <a:pt x="4198" y="692"/>
                  </a:lnTo>
                  <a:lnTo>
                    <a:pt x="4199" y="698"/>
                  </a:lnTo>
                  <a:lnTo>
                    <a:pt x="4201" y="712"/>
                  </a:lnTo>
                  <a:lnTo>
                    <a:pt x="4176" y="747"/>
                  </a:lnTo>
                  <a:lnTo>
                    <a:pt x="4139" y="790"/>
                  </a:lnTo>
                  <a:lnTo>
                    <a:pt x="4074" y="857"/>
                  </a:lnTo>
                  <a:lnTo>
                    <a:pt x="4057" y="879"/>
                  </a:lnTo>
                  <a:lnTo>
                    <a:pt x="4084" y="879"/>
                  </a:lnTo>
                  <a:lnTo>
                    <a:pt x="4092" y="876"/>
                  </a:lnTo>
                  <a:lnTo>
                    <a:pt x="4108" y="873"/>
                  </a:lnTo>
                  <a:lnTo>
                    <a:pt x="4129" y="862"/>
                  </a:lnTo>
                  <a:lnTo>
                    <a:pt x="4199" y="827"/>
                  </a:lnTo>
                  <a:lnTo>
                    <a:pt x="4219" y="817"/>
                  </a:lnTo>
                  <a:lnTo>
                    <a:pt x="4216" y="836"/>
                  </a:lnTo>
                  <a:lnTo>
                    <a:pt x="4213" y="855"/>
                  </a:lnTo>
                  <a:lnTo>
                    <a:pt x="4205" y="888"/>
                  </a:lnTo>
                  <a:lnTo>
                    <a:pt x="4196" y="912"/>
                  </a:lnTo>
                  <a:lnTo>
                    <a:pt x="4185" y="933"/>
                  </a:lnTo>
                  <a:lnTo>
                    <a:pt x="4174" y="954"/>
                  </a:lnTo>
                  <a:lnTo>
                    <a:pt x="4159" y="973"/>
                  </a:lnTo>
                  <a:lnTo>
                    <a:pt x="4139" y="994"/>
                  </a:lnTo>
                  <a:lnTo>
                    <a:pt x="4117" y="1013"/>
                  </a:lnTo>
                  <a:lnTo>
                    <a:pt x="4094" y="1032"/>
                  </a:lnTo>
                  <a:lnTo>
                    <a:pt x="4097" y="1038"/>
                  </a:lnTo>
                  <a:lnTo>
                    <a:pt x="4101" y="1041"/>
                  </a:lnTo>
                  <a:lnTo>
                    <a:pt x="4108" y="1045"/>
                  </a:lnTo>
                  <a:lnTo>
                    <a:pt x="4111" y="1045"/>
                  </a:lnTo>
                  <a:lnTo>
                    <a:pt x="4122" y="1042"/>
                  </a:lnTo>
                  <a:lnTo>
                    <a:pt x="4131" y="1040"/>
                  </a:lnTo>
                  <a:lnTo>
                    <a:pt x="4145" y="1031"/>
                  </a:lnTo>
                  <a:lnTo>
                    <a:pt x="4171" y="1018"/>
                  </a:lnTo>
                  <a:lnTo>
                    <a:pt x="4199" y="1007"/>
                  </a:lnTo>
                  <a:lnTo>
                    <a:pt x="4212" y="1000"/>
                  </a:lnTo>
                  <a:lnTo>
                    <a:pt x="4230" y="989"/>
                  </a:lnTo>
                  <a:lnTo>
                    <a:pt x="4236" y="987"/>
                  </a:lnTo>
                  <a:lnTo>
                    <a:pt x="4226" y="1013"/>
                  </a:lnTo>
                  <a:lnTo>
                    <a:pt x="4213" y="1038"/>
                  </a:lnTo>
                  <a:lnTo>
                    <a:pt x="4199" y="1061"/>
                  </a:lnTo>
                  <a:lnTo>
                    <a:pt x="4182" y="1082"/>
                  </a:lnTo>
                  <a:lnTo>
                    <a:pt x="4166" y="1102"/>
                  </a:lnTo>
                  <a:lnTo>
                    <a:pt x="4148" y="1118"/>
                  </a:lnTo>
                  <a:lnTo>
                    <a:pt x="4138" y="1126"/>
                  </a:lnTo>
                  <a:lnTo>
                    <a:pt x="4119" y="1139"/>
                  </a:lnTo>
                  <a:lnTo>
                    <a:pt x="4109" y="1144"/>
                  </a:lnTo>
                  <a:lnTo>
                    <a:pt x="4125" y="1146"/>
                  </a:lnTo>
                  <a:lnTo>
                    <a:pt x="4141" y="1145"/>
                  </a:lnTo>
                  <a:lnTo>
                    <a:pt x="4156" y="1144"/>
                  </a:lnTo>
                  <a:lnTo>
                    <a:pt x="4166" y="1141"/>
                  </a:lnTo>
                  <a:lnTo>
                    <a:pt x="4191" y="1133"/>
                  </a:lnTo>
                  <a:lnTo>
                    <a:pt x="4215" y="1123"/>
                  </a:lnTo>
                  <a:lnTo>
                    <a:pt x="4230" y="1114"/>
                  </a:lnTo>
                  <a:lnTo>
                    <a:pt x="4240" y="1107"/>
                  </a:lnTo>
                  <a:lnTo>
                    <a:pt x="4245" y="1102"/>
                  </a:lnTo>
                  <a:lnTo>
                    <a:pt x="4259" y="1079"/>
                  </a:lnTo>
                  <a:lnTo>
                    <a:pt x="4265" y="1074"/>
                  </a:lnTo>
                  <a:lnTo>
                    <a:pt x="4267" y="1074"/>
                  </a:lnTo>
                  <a:lnTo>
                    <a:pt x="4270" y="1075"/>
                  </a:lnTo>
                  <a:lnTo>
                    <a:pt x="4273" y="1080"/>
                  </a:lnTo>
                  <a:lnTo>
                    <a:pt x="4275" y="1088"/>
                  </a:lnTo>
                  <a:lnTo>
                    <a:pt x="4260" y="1118"/>
                  </a:lnTo>
                  <a:lnTo>
                    <a:pt x="4245" y="1147"/>
                  </a:lnTo>
                  <a:lnTo>
                    <a:pt x="4216" y="1190"/>
                  </a:lnTo>
                  <a:lnTo>
                    <a:pt x="4129" y="1309"/>
                  </a:lnTo>
                  <a:lnTo>
                    <a:pt x="4144" y="1311"/>
                  </a:lnTo>
                  <a:lnTo>
                    <a:pt x="4152" y="1311"/>
                  </a:lnTo>
                  <a:lnTo>
                    <a:pt x="4166" y="1308"/>
                  </a:lnTo>
                  <a:lnTo>
                    <a:pt x="4183" y="1303"/>
                  </a:lnTo>
                  <a:lnTo>
                    <a:pt x="4201" y="1297"/>
                  </a:lnTo>
                  <a:lnTo>
                    <a:pt x="4253" y="1273"/>
                  </a:lnTo>
                  <a:lnTo>
                    <a:pt x="4272" y="1266"/>
                  </a:lnTo>
                  <a:lnTo>
                    <a:pt x="4267" y="1287"/>
                  </a:lnTo>
                  <a:lnTo>
                    <a:pt x="4260" y="1306"/>
                  </a:lnTo>
                  <a:lnTo>
                    <a:pt x="4252" y="1322"/>
                  </a:lnTo>
                  <a:lnTo>
                    <a:pt x="4240" y="1340"/>
                  </a:lnTo>
                  <a:lnTo>
                    <a:pt x="4228" y="1352"/>
                  </a:lnTo>
                  <a:lnTo>
                    <a:pt x="4211" y="1366"/>
                  </a:lnTo>
                  <a:lnTo>
                    <a:pt x="4169" y="1402"/>
                  </a:lnTo>
                  <a:lnTo>
                    <a:pt x="4161" y="1409"/>
                  </a:lnTo>
                  <a:lnTo>
                    <a:pt x="4179" y="1409"/>
                  </a:lnTo>
                  <a:lnTo>
                    <a:pt x="4198" y="1404"/>
                  </a:lnTo>
                  <a:lnTo>
                    <a:pt x="4215" y="1398"/>
                  </a:lnTo>
                  <a:lnTo>
                    <a:pt x="4223" y="1394"/>
                  </a:lnTo>
                  <a:lnTo>
                    <a:pt x="4250" y="1378"/>
                  </a:lnTo>
                  <a:lnTo>
                    <a:pt x="4275" y="1358"/>
                  </a:lnTo>
                  <a:lnTo>
                    <a:pt x="4300" y="1333"/>
                  </a:lnTo>
                  <a:lnTo>
                    <a:pt x="4300" y="1349"/>
                  </a:lnTo>
                  <a:lnTo>
                    <a:pt x="4297" y="1361"/>
                  </a:lnTo>
                  <a:lnTo>
                    <a:pt x="4296" y="1370"/>
                  </a:lnTo>
                  <a:lnTo>
                    <a:pt x="4289" y="1385"/>
                  </a:lnTo>
                  <a:lnTo>
                    <a:pt x="4280" y="1401"/>
                  </a:lnTo>
                  <a:lnTo>
                    <a:pt x="4265" y="1422"/>
                  </a:lnTo>
                  <a:lnTo>
                    <a:pt x="4220" y="1471"/>
                  </a:lnTo>
                  <a:lnTo>
                    <a:pt x="4191" y="1502"/>
                  </a:lnTo>
                  <a:lnTo>
                    <a:pt x="4171" y="1522"/>
                  </a:lnTo>
                  <a:lnTo>
                    <a:pt x="4162" y="1535"/>
                  </a:lnTo>
                  <a:lnTo>
                    <a:pt x="4166" y="1536"/>
                  </a:lnTo>
                  <a:lnTo>
                    <a:pt x="4169" y="1541"/>
                  </a:lnTo>
                  <a:lnTo>
                    <a:pt x="4193" y="1532"/>
                  </a:lnTo>
                  <a:lnTo>
                    <a:pt x="4219" y="1522"/>
                  </a:lnTo>
                  <a:lnTo>
                    <a:pt x="4242" y="1511"/>
                  </a:lnTo>
                  <a:lnTo>
                    <a:pt x="4253" y="1504"/>
                  </a:lnTo>
                  <a:lnTo>
                    <a:pt x="4265" y="1497"/>
                  </a:lnTo>
                  <a:lnTo>
                    <a:pt x="4266" y="1498"/>
                  </a:lnTo>
                  <a:lnTo>
                    <a:pt x="4267" y="1504"/>
                  </a:lnTo>
                  <a:lnTo>
                    <a:pt x="4267" y="1512"/>
                  </a:lnTo>
                  <a:lnTo>
                    <a:pt x="4266" y="1518"/>
                  </a:lnTo>
                  <a:lnTo>
                    <a:pt x="4253" y="1536"/>
                  </a:lnTo>
                  <a:lnTo>
                    <a:pt x="4215" y="1587"/>
                  </a:lnTo>
                  <a:lnTo>
                    <a:pt x="4201" y="1607"/>
                  </a:lnTo>
                  <a:lnTo>
                    <a:pt x="4188" y="1628"/>
                  </a:lnTo>
                  <a:lnTo>
                    <a:pt x="4199" y="1631"/>
                  </a:lnTo>
                  <a:lnTo>
                    <a:pt x="4236" y="1637"/>
                  </a:lnTo>
                  <a:lnTo>
                    <a:pt x="4256" y="1642"/>
                  </a:lnTo>
                  <a:lnTo>
                    <a:pt x="4270" y="1647"/>
                  </a:lnTo>
                  <a:lnTo>
                    <a:pt x="4280" y="1655"/>
                  </a:lnTo>
                  <a:lnTo>
                    <a:pt x="4286" y="1660"/>
                  </a:lnTo>
                  <a:lnTo>
                    <a:pt x="4270" y="1682"/>
                  </a:lnTo>
                  <a:lnTo>
                    <a:pt x="4252" y="1699"/>
                  </a:lnTo>
                  <a:lnTo>
                    <a:pt x="4222" y="1721"/>
                  </a:lnTo>
                  <a:lnTo>
                    <a:pt x="4159" y="1760"/>
                  </a:lnTo>
                  <a:lnTo>
                    <a:pt x="4134" y="1779"/>
                  </a:lnTo>
                  <a:lnTo>
                    <a:pt x="4129" y="1783"/>
                  </a:lnTo>
                  <a:lnTo>
                    <a:pt x="4136" y="1792"/>
                  </a:lnTo>
                  <a:lnTo>
                    <a:pt x="4148" y="1799"/>
                  </a:lnTo>
                  <a:lnTo>
                    <a:pt x="4164" y="1806"/>
                  </a:lnTo>
                  <a:lnTo>
                    <a:pt x="4178" y="1807"/>
                  </a:lnTo>
                  <a:lnTo>
                    <a:pt x="4236" y="1807"/>
                  </a:lnTo>
                  <a:lnTo>
                    <a:pt x="4236" y="1812"/>
                  </a:lnTo>
                  <a:lnTo>
                    <a:pt x="4230" y="1821"/>
                  </a:lnTo>
                  <a:lnTo>
                    <a:pt x="4230" y="1825"/>
                  </a:lnTo>
                  <a:lnTo>
                    <a:pt x="4233" y="1826"/>
                  </a:lnTo>
                  <a:lnTo>
                    <a:pt x="4134" y="1880"/>
                  </a:lnTo>
                  <a:lnTo>
                    <a:pt x="4071" y="1920"/>
                  </a:lnTo>
                  <a:lnTo>
                    <a:pt x="4007" y="1961"/>
                  </a:lnTo>
                  <a:lnTo>
                    <a:pt x="3944" y="2006"/>
                  </a:lnTo>
                  <a:lnTo>
                    <a:pt x="3880" y="2051"/>
                  </a:lnTo>
                  <a:lnTo>
                    <a:pt x="3788" y="2124"/>
                  </a:lnTo>
                  <a:lnTo>
                    <a:pt x="3728" y="2175"/>
                  </a:lnTo>
                  <a:lnTo>
                    <a:pt x="3668" y="2229"/>
                  </a:lnTo>
                  <a:lnTo>
                    <a:pt x="3608" y="2283"/>
                  </a:lnTo>
                  <a:lnTo>
                    <a:pt x="3549" y="2339"/>
                  </a:lnTo>
                  <a:lnTo>
                    <a:pt x="3490" y="2398"/>
                  </a:lnTo>
                  <a:lnTo>
                    <a:pt x="3432" y="2460"/>
                  </a:lnTo>
                  <a:lnTo>
                    <a:pt x="3348" y="2555"/>
                  </a:lnTo>
                  <a:lnTo>
                    <a:pt x="3263" y="2654"/>
                  </a:lnTo>
                  <a:lnTo>
                    <a:pt x="3179" y="2764"/>
                  </a:lnTo>
                  <a:lnTo>
                    <a:pt x="3090" y="2873"/>
                  </a:lnTo>
                  <a:lnTo>
                    <a:pt x="2864" y="3150"/>
                  </a:lnTo>
                  <a:lnTo>
                    <a:pt x="2773" y="3263"/>
                  </a:lnTo>
                  <a:lnTo>
                    <a:pt x="2730" y="3321"/>
                  </a:lnTo>
                  <a:lnTo>
                    <a:pt x="2665" y="3409"/>
                  </a:lnTo>
                  <a:lnTo>
                    <a:pt x="2604" y="3500"/>
                  </a:lnTo>
                  <a:lnTo>
                    <a:pt x="2562" y="3562"/>
                  </a:lnTo>
                  <a:lnTo>
                    <a:pt x="2545" y="3582"/>
                  </a:lnTo>
                  <a:lnTo>
                    <a:pt x="2525" y="3612"/>
                  </a:lnTo>
                  <a:lnTo>
                    <a:pt x="2511" y="3634"/>
                  </a:lnTo>
                  <a:lnTo>
                    <a:pt x="2495" y="3666"/>
                  </a:lnTo>
                  <a:lnTo>
                    <a:pt x="2480" y="3700"/>
                  </a:lnTo>
                  <a:lnTo>
                    <a:pt x="2458" y="3751"/>
                  </a:lnTo>
                  <a:lnTo>
                    <a:pt x="2434" y="3820"/>
                  </a:lnTo>
                  <a:lnTo>
                    <a:pt x="2411" y="3783"/>
                  </a:lnTo>
                  <a:lnTo>
                    <a:pt x="2347" y="3661"/>
                  </a:lnTo>
                  <a:lnTo>
                    <a:pt x="2313" y="3599"/>
                  </a:lnTo>
                  <a:lnTo>
                    <a:pt x="2286" y="3559"/>
                  </a:lnTo>
                  <a:lnTo>
                    <a:pt x="2258" y="3525"/>
                  </a:lnTo>
                  <a:lnTo>
                    <a:pt x="2242" y="3509"/>
                  </a:lnTo>
                  <a:lnTo>
                    <a:pt x="2107" y="3386"/>
                  </a:lnTo>
                  <a:lnTo>
                    <a:pt x="1972" y="3267"/>
                  </a:lnTo>
                  <a:lnTo>
                    <a:pt x="1835" y="3149"/>
                  </a:lnTo>
                  <a:lnTo>
                    <a:pt x="1698" y="3036"/>
                  </a:lnTo>
                  <a:lnTo>
                    <a:pt x="1607" y="2963"/>
                  </a:lnTo>
                  <a:lnTo>
                    <a:pt x="1513" y="2891"/>
                  </a:lnTo>
                  <a:lnTo>
                    <a:pt x="1421" y="2821"/>
                  </a:lnTo>
                  <a:lnTo>
                    <a:pt x="1325" y="2755"/>
                  </a:lnTo>
                  <a:lnTo>
                    <a:pt x="1230" y="2692"/>
                  </a:lnTo>
                  <a:lnTo>
                    <a:pt x="1183" y="2660"/>
                  </a:lnTo>
                  <a:lnTo>
                    <a:pt x="1086" y="2602"/>
                  </a:lnTo>
                  <a:lnTo>
                    <a:pt x="1036" y="2573"/>
                  </a:lnTo>
                  <a:lnTo>
                    <a:pt x="940" y="2520"/>
                  </a:lnTo>
                  <a:lnTo>
                    <a:pt x="838" y="2468"/>
                  </a:lnTo>
                  <a:lnTo>
                    <a:pt x="739" y="2421"/>
                  </a:lnTo>
                  <a:lnTo>
                    <a:pt x="675" y="2397"/>
                  </a:lnTo>
                  <a:lnTo>
                    <a:pt x="612" y="2372"/>
                  </a:lnTo>
                  <a:lnTo>
                    <a:pt x="487" y="2317"/>
                  </a:lnTo>
                  <a:lnTo>
                    <a:pt x="424" y="2289"/>
                  </a:lnTo>
                  <a:lnTo>
                    <a:pt x="299" y="2235"/>
                  </a:lnTo>
                  <a:lnTo>
                    <a:pt x="235" y="2210"/>
                  </a:lnTo>
                  <a:lnTo>
                    <a:pt x="208" y="2187"/>
                  </a:lnTo>
                  <a:lnTo>
                    <a:pt x="134" y="2140"/>
                  </a:lnTo>
                  <a:lnTo>
                    <a:pt x="105" y="2120"/>
                  </a:lnTo>
                  <a:lnTo>
                    <a:pt x="77" y="2098"/>
                  </a:lnTo>
                  <a:lnTo>
                    <a:pt x="53" y="2072"/>
                  </a:lnTo>
                  <a:lnTo>
                    <a:pt x="34" y="2050"/>
                  </a:lnTo>
                  <a:lnTo>
                    <a:pt x="19" y="2025"/>
                  </a:lnTo>
                  <a:lnTo>
                    <a:pt x="44" y="2031"/>
                  </a:lnTo>
                  <a:lnTo>
                    <a:pt x="70" y="2036"/>
                  </a:lnTo>
                  <a:lnTo>
                    <a:pt x="88" y="2039"/>
                  </a:lnTo>
                  <a:lnTo>
                    <a:pt x="124" y="2040"/>
                  </a:lnTo>
                  <a:lnTo>
                    <a:pt x="161" y="2040"/>
                  </a:lnTo>
                  <a:lnTo>
                    <a:pt x="144" y="2021"/>
                  </a:lnTo>
                  <a:lnTo>
                    <a:pt x="124" y="2005"/>
                  </a:lnTo>
                  <a:lnTo>
                    <a:pt x="51" y="1944"/>
                  </a:lnTo>
                  <a:lnTo>
                    <a:pt x="30" y="1925"/>
                  </a:lnTo>
                  <a:lnTo>
                    <a:pt x="10" y="1905"/>
                  </a:lnTo>
                  <a:lnTo>
                    <a:pt x="0" y="1893"/>
                  </a:lnTo>
                  <a:lnTo>
                    <a:pt x="33" y="1893"/>
                  </a:lnTo>
                  <a:lnTo>
                    <a:pt x="101" y="1902"/>
                  </a:lnTo>
                  <a:lnTo>
                    <a:pt x="124" y="1905"/>
                  </a:lnTo>
                  <a:lnTo>
                    <a:pt x="142" y="1905"/>
                  </a:lnTo>
                  <a:lnTo>
                    <a:pt x="158" y="1901"/>
                  </a:lnTo>
                  <a:lnTo>
                    <a:pt x="175" y="1896"/>
                  </a:lnTo>
                  <a:lnTo>
                    <a:pt x="181" y="1893"/>
                  </a:lnTo>
                  <a:lnTo>
                    <a:pt x="177" y="1887"/>
                  </a:lnTo>
                  <a:lnTo>
                    <a:pt x="171" y="1880"/>
                  </a:lnTo>
                  <a:lnTo>
                    <a:pt x="158" y="1874"/>
                  </a:lnTo>
                  <a:lnTo>
                    <a:pt x="131" y="1861"/>
                  </a:lnTo>
                  <a:lnTo>
                    <a:pt x="120" y="1853"/>
                  </a:lnTo>
                  <a:lnTo>
                    <a:pt x="100" y="1835"/>
                  </a:lnTo>
                  <a:lnTo>
                    <a:pt x="88" y="1821"/>
                  </a:lnTo>
                  <a:lnTo>
                    <a:pt x="73" y="1806"/>
                  </a:lnTo>
                  <a:lnTo>
                    <a:pt x="61" y="1783"/>
                  </a:lnTo>
                  <a:lnTo>
                    <a:pt x="54" y="1769"/>
                  </a:lnTo>
                  <a:lnTo>
                    <a:pt x="51" y="1754"/>
                  </a:lnTo>
                  <a:lnTo>
                    <a:pt x="47" y="1739"/>
                  </a:lnTo>
                  <a:lnTo>
                    <a:pt x="47" y="1713"/>
                  </a:lnTo>
                  <a:lnTo>
                    <a:pt x="61" y="1730"/>
                  </a:lnTo>
                  <a:lnTo>
                    <a:pt x="77" y="1742"/>
                  </a:lnTo>
                  <a:lnTo>
                    <a:pt x="91" y="1755"/>
                  </a:lnTo>
                  <a:lnTo>
                    <a:pt x="107" y="1765"/>
                  </a:lnTo>
                  <a:lnTo>
                    <a:pt x="123" y="1770"/>
                  </a:lnTo>
                  <a:lnTo>
                    <a:pt x="141" y="1777"/>
                  </a:lnTo>
                  <a:lnTo>
                    <a:pt x="158" y="1780"/>
                  </a:lnTo>
                  <a:lnTo>
                    <a:pt x="175" y="1780"/>
                  </a:lnTo>
                  <a:lnTo>
                    <a:pt x="177" y="1779"/>
                  </a:lnTo>
                  <a:lnTo>
                    <a:pt x="179" y="1777"/>
                  </a:lnTo>
                  <a:lnTo>
                    <a:pt x="158" y="1756"/>
                  </a:lnTo>
                  <a:lnTo>
                    <a:pt x="134" y="1726"/>
                  </a:lnTo>
                  <a:lnTo>
                    <a:pt x="115" y="1699"/>
                  </a:lnTo>
                  <a:lnTo>
                    <a:pt x="104" y="1675"/>
                  </a:lnTo>
                  <a:lnTo>
                    <a:pt x="97" y="1660"/>
                  </a:lnTo>
                  <a:lnTo>
                    <a:pt x="88" y="1636"/>
                  </a:lnTo>
                  <a:lnTo>
                    <a:pt x="83" y="1611"/>
                  </a:lnTo>
                  <a:lnTo>
                    <a:pt x="81" y="1594"/>
                  </a:lnTo>
                  <a:lnTo>
                    <a:pt x="78" y="1577"/>
                  </a:lnTo>
                  <a:lnTo>
                    <a:pt x="81" y="1549"/>
                  </a:lnTo>
                  <a:lnTo>
                    <a:pt x="83" y="1541"/>
                  </a:lnTo>
                  <a:lnTo>
                    <a:pt x="86" y="1544"/>
                  </a:lnTo>
                  <a:lnTo>
                    <a:pt x="94" y="1550"/>
                  </a:lnTo>
                  <a:lnTo>
                    <a:pt x="108" y="1556"/>
                  </a:lnTo>
                  <a:lnTo>
                    <a:pt x="120" y="1558"/>
                  </a:lnTo>
                  <a:lnTo>
                    <a:pt x="135" y="1560"/>
                  </a:lnTo>
                  <a:lnTo>
                    <a:pt x="158" y="1560"/>
                  </a:lnTo>
                  <a:lnTo>
                    <a:pt x="138" y="1544"/>
                  </a:lnTo>
                  <a:lnTo>
                    <a:pt x="121" y="1525"/>
                  </a:lnTo>
                  <a:lnTo>
                    <a:pt x="105" y="1504"/>
                  </a:lnTo>
                  <a:lnTo>
                    <a:pt x="91" y="1482"/>
                  </a:lnTo>
                  <a:lnTo>
                    <a:pt x="77" y="1458"/>
                  </a:lnTo>
                  <a:lnTo>
                    <a:pt x="60" y="1417"/>
                  </a:lnTo>
                  <a:lnTo>
                    <a:pt x="51" y="1390"/>
                  </a:lnTo>
                  <a:lnTo>
                    <a:pt x="46" y="1377"/>
                  </a:lnTo>
                  <a:lnTo>
                    <a:pt x="64" y="1389"/>
                  </a:lnTo>
                  <a:lnTo>
                    <a:pt x="100" y="1415"/>
                  </a:lnTo>
                  <a:lnTo>
                    <a:pt x="114" y="1422"/>
                  </a:lnTo>
                  <a:lnTo>
                    <a:pt x="130" y="1426"/>
                  </a:lnTo>
                  <a:lnTo>
                    <a:pt x="137" y="1428"/>
                  </a:lnTo>
                  <a:lnTo>
                    <a:pt x="144" y="1428"/>
                  </a:lnTo>
                  <a:lnTo>
                    <a:pt x="157" y="1426"/>
                  </a:lnTo>
                  <a:lnTo>
                    <a:pt x="160" y="1425"/>
                  </a:lnTo>
                  <a:lnTo>
                    <a:pt x="137" y="1396"/>
                  </a:lnTo>
                  <a:lnTo>
                    <a:pt x="114" y="1364"/>
                  </a:lnTo>
                  <a:lnTo>
                    <a:pt x="94" y="1330"/>
                  </a:lnTo>
                  <a:lnTo>
                    <a:pt x="84" y="1304"/>
                  </a:lnTo>
                  <a:lnTo>
                    <a:pt x="68" y="1266"/>
                  </a:lnTo>
                  <a:lnTo>
                    <a:pt x="61" y="1240"/>
                  </a:lnTo>
                  <a:lnTo>
                    <a:pt x="100" y="1247"/>
                  </a:lnTo>
                  <a:lnTo>
                    <a:pt x="117" y="1250"/>
                  </a:lnTo>
                  <a:lnTo>
                    <a:pt x="127" y="1251"/>
                  </a:lnTo>
                  <a:lnTo>
                    <a:pt x="145" y="1250"/>
                  </a:lnTo>
                  <a:lnTo>
                    <a:pt x="164" y="1246"/>
                  </a:lnTo>
                  <a:lnTo>
                    <a:pt x="172" y="1244"/>
                  </a:lnTo>
                  <a:lnTo>
                    <a:pt x="189" y="1236"/>
                  </a:lnTo>
                  <a:lnTo>
                    <a:pt x="198" y="1230"/>
                  </a:lnTo>
                  <a:lnTo>
                    <a:pt x="177" y="1221"/>
                  </a:lnTo>
                  <a:lnTo>
                    <a:pt x="164" y="1216"/>
                  </a:lnTo>
                  <a:lnTo>
                    <a:pt x="151" y="1211"/>
                  </a:lnTo>
                  <a:lnTo>
                    <a:pt x="142" y="1203"/>
                  </a:lnTo>
                  <a:lnTo>
                    <a:pt x="134" y="1201"/>
                  </a:lnTo>
                  <a:lnTo>
                    <a:pt x="123" y="1197"/>
                  </a:lnTo>
                  <a:lnTo>
                    <a:pt x="115" y="1192"/>
                  </a:lnTo>
                  <a:lnTo>
                    <a:pt x="104" y="1179"/>
                  </a:lnTo>
                  <a:lnTo>
                    <a:pt x="94" y="1168"/>
                  </a:lnTo>
                  <a:lnTo>
                    <a:pt x="78" y="1144"/>
                  </a:lnTo>
                  <a:lnTo>
                    <a:pt x="53" y="1099"/>
                  </a:lnTo>
                  <a:lnTo>
                    <a:pt x="47" y="1090"/>
                  </a:lnTo>
                  <a:lnTo>
                    <a:pt x="44" y="1078"/>
                  </a:lnTo>
                  <a:lnTo>
                    <a:pt x="44" y="1066"/>
                  </a:lnTo>
                  <a:lnTo>
                    <a:pt x="47" y="1064"/>
                  </a:lnTo>
                  <a:lnTo>
                    <a:pt x="56" y="1064"/>
                  </a:lnTo>
                  <a:lnTo>
                    <a:pt x="93" y="1071"/>
                  </a:lnTo>
                  <a:lnTo>
                    <a:pt x="105" y="1071"/>
                  </a:lnTo>
                  <a:lnTo>
                    <a:pt x="107" y="1068"/>
                  </a:lnTo>
                  <a:lnTo>
                    <a:pt x="123" y="1061"/>
                  </a:lnTo>
                  <a:lnTo>
                    <a:pt x="152" y="1054"/>
                  </a:lnTo>
                  <a:lnTo>
                    <a:pt x="177" y="1047"/>
                  </a:lnTo>
                  <a:lnTo>
                    <a:pt x="195" y="1041"/>
                  </a:lnTo>
                  <a:lnTo>
                    <a:pt x="201" y="1040"/>
                  </a:lnTo>
                  <a:lnTo>
                    <a:pt x="177" y="1019"/>
                  </a:lnTo>
                  <a:lnTo>
                    <a:pt x="154" y="1000"/>
                  </a:lnTo>
                  <a:lnTo>
                    <a:pt x="88" y="956"/>
                  </a:lnTo>
                  <a:lnTo>
                    <a:pt x="71" y="946"/>
                  </a:lnTo>
                  <a:lnTo>
                    <a:pt x="64" y="928"/>
                  </a:lnTo>
                  <a:lnTo>
                    <a:pt x="63" y="921"/>
                  </a:lnTo>
                  <a:lnTo>
                    <a:pt x="63" y="914"/>
                  </a:lnTo>
                  <a:lnTo>
                    <a:pt x="64" y="913"/>
                  </a:lnTo>
                  <a:lnTo>
                    <a:pt x="68" y="913"/>
                  </a:lnTo>
                  <a:lnTo>
                    <a:pt x="77" y="918"/>
                  </a:lnTo>
                  <a:lnTo>
                    <a:pt x="97" y="927"/>
                  </a:lnTo>
                  <a:lnTo>
                    <a:pt x="108" y="933"/>
                  </a:lnTo>
                  <a:lnTo>
                    <a:pt x="121" y="933"/>
                  </a:lnTo>
                  <a:lnTo>
                    <a:pt x="127" y="930"/>
                  </a:lnTo>
                  <a:lnTo>
                    <a:pt x="226" y="930"/>
                  </a:lnTo>
                  <a:lnTo>
                    <a:pt x="256" y="927"/>
                  </a:lnTo>
                  <a:lnTo>
                    <a:pt x="197" y="856"/>
                  </a:lnTo>
                  <a:lnTo>
                    <a:pt x="172" y="823"/>
                  </a:lnTo>
                  <a:lnTo>
                    <a:pt x="148" y="789"/>
                  </a:lnTo>
                  <a:lnTo>
                    <a:pt x="124" y="754"/>
                  </a:lnTo>
                  <a:lnTo>
                    <a:pt x="111" y="723"/>
                  </a:lnTo>
                  <a:lnTo>
                    <a:pt x="101" y="704"/>
                  </a:lnTo>
                  <a:lnTo>
                    <a:pt x="91" y="674"/>
                  </a:lnTo>
                  <a:lnTo>
                    <a:pt x="86" y="650"/>
                  </a:lnTo>
                  <a:lnTo>
                    <a:pt x="86" y="642"/>
                  </a:lnTo>
                  <a:lnTo>
                    <a:pt x="90" y="623"/>
                  </a:lnTo>
                  <a:lnTo>
                    <a:pt x="88" y="614"/>
                  </a:lnTo>
                  <a:lnTo>
                    <a:pt x="88" y="611"/>
                  </a:lnTo>
                  <a:lnTo>
                    <a:pt x="100" y="628"/>
                  </a:lnTo>
                  <a:lnTo>
                    <a:pt x="120" y="647"/>
                  </a:lnTo>
                  <a:lnTo>
                    <a:pt x="134" y="657"/>
                  </a:lnTo>
                  <a:lnTo>
                    <a:pt x="154" y="670"/>
                  </a:lnTo>
                  <a:lnTo>
                    <a:pt x="167" y="676"/>
                  </a:lnTo>
                  <a:lnTo>
                    <a:pt x="201" y="688"/>
                  </a:lnTo>
                  <a:lnTo>
                    <a:pt x="256" y="704"/>
                  </a:lnTo>
                  <a:lnTo>
                    <a:pt x="209" y="628"/>
                  </a:lnTo>
                  <a:lnTo>
                    <a:pt x="165" y="546"/>
                  </a:lnTo>
                  <a:lnTo>
                    <a:pt x="135" y="484"/>
                  </a:lnTo>
                  <a:lnTo>
                    <a:pt x="105" y="419"/>
                  </a:lnTo>
                  <a:lnTo>
                    <a:pt x="88" y="376"/>
                  </a:lnTo>
                  <a:lnTo>
                    <a:pt x="117" y="403"/>
                  </a:lnTo>
                  <a:lnTo>
                    <a:pt x="150" y="426"/>
                  </a:lnTo>
                  <a:lnTo>
                    <a:pt x="181" y="448"/>
                  </a:lnTo>
                  <a:lnTo>
                    <a:pt x="212" y="469"/>
                  </a:lnTo>
                  <a:lnTo>
                    <a:pt x="246" y="485"/>
                  </a:lnTo>
                  <a:lnTo>
                    <a:pt x="279" y="502"/>
                  </a:lnTo>
                  <a:lnTo>
                    <a:pt x="315" y="516"/>
                  </a:lnTo>
                  <a:lnTo>
                    <a:pt x="347" y="526"/>
                  </a:lnTo>
                  <a:lnTo>
                    <a:pt x="383" y="536"/>
                  </a:lnTo>
                  <a:lnTo>
                    <a:pt x="419" y="543"/>
                  </a:lnTo>
                  <a:lnTo>
                    <a:pt x="456" y="550"/>
                  </a:lnTo>
                  <a:lnTo>
                    <a:pt x="491" y="552"/>
                  </a:lnTo>
                  <a:lnTo>
                    <a:pt x="528" y="556"/>
                  </a:lnTo>
                  <a:lnTo>
                    <a:pt x="562" y="557"/>
                  </a:lnTo>
                  <a:lnTo>
                    <a:pt x="599" y="557"/>
                  </a:lnTo>
                  <a:lnTo>
                    <a:pt x="636" y="555"/>
                  </a:lnTo>
                  <a:lnTo>
                    <a:pt x="673" y="551"/>
                  </a:lnTo>
                  <a:lnTo>
                    <a:pt x="710" y="548"/>
                  </a:lnTo>
                  <a:lnTo>
                    <a:pt x="747" y="542"/>
                  </a:lnTo>
                  <a:lnTo>
                    <a:pt x="784" y="536"/>
                  </a:lnTo>
                  <a:lnTo>
                    <a:pt x="821" y="528"/>
                  </a:lnTo>
                  <a:lnTo>
                    <a:pt x="858" y="518"/>
                  </a:lnTo>
                  <a:lnTo>
                    <a:pt x="931" y="499"/>
                  </a:lnTo>
                  <a:lnTo>
                    <a:pt x="1002" y="476"/>
                  </a:lnTo>
                  <a:lnTo>
                    <a:pt x="1073" y="451"/>
                  </a:lnTo>
                  <a:lnTo>
                    <a:pt x="1176" y="409"/>
                  </a:lnTo>
                  <a:lnTo>
                    <a:pt x="1209" y="395"/>
                  </a:lnTo>
                  <a:lnTo>
                    <a:pt x="1260" y="365"/>
                  </a:lnTo>
                  <a:lnTo>
                    <a:pt x="1416" y="280"/>
                  </a:lnTo>
                  <a:lnTo>
                    <a:pt x="1468" y="251"/>
                  </a:lnTo>
                  <a:lnTo>
                    <a:pt x="1516" y="218"/>
                  </a:lnTo>
                  <a:lnTo>
                    <a:pt x="1550" y="193"/>
                  </a:lnTo>
                  <a:lnTo>
                    <a:pt x="1600" y="153"/>
                  </a:lnTo>
                  <a:lnTo>
                    <a:pt x="1630" y="126"/>
                  </a:lnTo>
                  <a:lnTo>
                    <a:pt x="1661" y="93"/>
                  </a:lnTo>
                  <a:lnTo>
                    <a:pt x="1691" y="59"/>
                  </a:lnTo>
                  <a:lnTo>
                    <a:pt x="1720" y="21"/>
                  </a:lnTo>
                  <a:lnTo>
                    <a:pt x="1734" y="0"/>
                  </a:lnTo>
                  <a:lnTo>
                    <a:pt x="1779" y="55"/>
                  </a:lnTo>
                  <a:lnTo>
                    <a:pt x="1826" y="107"/>
                  </a:lnTo>
                  <a:lnTo>
                    <a:pt x="1875" y="155"/>
                  </a:lnTo>
                  <a:lnTo>
                    <a:pt x="1923" y="200"/>
                  </a:lnTo>
                  <a:lnTo>
                    <a:pt x="1973" y="243"/>
                  </a:lnTo>
                  <a:lnTo>
                    <a:pt x="2024" y="284"/>
                  </a:lnTo>
                  <a:lnTo>
                    <a:pt x="2077" y="319"/>
                  </a:lnTo>
                  <a:lnTo>
                    <a:pt x="2130" y="354"/>
                  </a:lnTo>
                  <a:lnTo>
                    <a:pt x="2182" y="385"/>
                  </a:lnTo>
                  <a:lnTo>
                    <a:pt x="2235" y="416"/>
                  </a:lnTo>
                  <a:lnTo>
                    <a:pt x="2289" y="443"/>
                  </a:lnTo>
                  <a:lnTo>
                    <a:pt x="2346" y="466"/>
                  </a:lnTo>
                  <a:lnTo>
                    <a:pt x="2400" y="490"/>
                  </a:lnTo>
                  <a:lnTo>
                    <a:pt x="2457" y="511"/>
                  </a:lnTo>
                  <a:lnTo>
                    <a:pt x="2515" y="530"/>
                  </a:lnTo>
                  <a:lnTo>
                    <a:pt x="2571" y="546"/>
                  </a:lnTo>
                  <a:lnTo>
                    <a:pt x="2629" y="562"/>
                  </a:lnTo>
                  <a:lnTo>
                    <a:pt x="2687" y="576"/>
                  </a:lnTo>
                  <a:lnTo>
                    <a:pt x="2746" y="589"/>
                  </a:lnTo>
                  <a:lnTo>
                    <a:pt x="2804" y="599"/>
                  </a:lnTo>
                  <a:lnTo>
                    <a:pt x="2864" y="609"/>
                  </a:lnTo>
                  <a:lnTo>
                    <a:pt x="2921" y="618"/>
                  </a:lnTo>
                  <a:lnTo>
                    <a:pt x="2981" y="624"/>
                  </a:lnTo>
                  <a:lnTo>
                    <a:pt x="3100" y="637"/>
                  </a:lnTo>
                  <a:lnTo>
                    <a:pt x="3161" y="643"/>
                  </a:lnTo>
                  <a:lnTo>
                    <a:pt x="3278" y="651"/>
                  </a:lnTo>
                  <a:lnTo>
                    <a:pt x="3398" y="657"/>
                  </a:lnTo>
                  <a:lnTo>
                    <a:pt x="3516" y="6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12"/>
            <p:cNvSpPr/>
            <p:nvPr/>
          </p:nvSpPr>
          <p:spPr>
            <a:xfrm>
              <a:off x="6318360" y="3761640"/>
              <a:ext cx="2392200" cy="904680"/>
            </a:xfrm>
            <a:custGeom>
              <a:avLst/>
              <a:gdLst>
                <a:gd name="textAreaLeft" fmla="*/ 0 w 2392200"/>
                <a:gd name="textAreaRight" fmla="*/ 2392560 w 2392200"/>
                <a:gd name="textAreaTop" fmla="*/ 0 h 904680"/>
                <a:gd name="textAreaBottom" fmla="*/ 905040 h 904680"/>
              </a:gdLst>
              <a:ahLst/>
              <a:rect l="textAreaLeft" t="textAreaTop" r="textAreaRight" b="textAreaBottom"/>
              <a:pathLst>
                <a:path w="4109" h="1427">
                  <a:moveTo>
                    <a:pt x="1742" y="117"/>
                  </a:moveTo>
                  <a:lnTo>
                    <a:pt x="1786" y="157"/>
                  </a:lnTo>
                  <a:lnTo>
                    <a:pt x="1830" y="196"/>
                  </a:lnTo>
                  <a:lnTo>
                    <a:pt x="1876" y="232"/>
                  </a:lnTo>
                  <a:lnTo>
                    <a:pt x="1922" y="266"/>
                  </a:lnTo>
                  <a:lnTo>
                    <a:pt x="1970" y="300"/>
                  </a:lnTo>
                  <a:lnTo>
                    <a:pt x="2017" y="329"/>
                  </a:lnTo>
                  <a:lnTo>
                    <a:pt x="2064" y="357"/>
                  </a:lnTo>
                  <a:lnTo>
                    <a:pt x="2112" y="384"/>
                  </a:lnTo>
                  <a:lnTo>
                    <a:pt x="2162" y="409"/>
                  </a:lnTo>
                  <a:lnTo>
                    <a:pt x="2211" y="431"/>
                  </a:lnTo>
                  <a:lnTo>
                    <a:pt x="2262" y="453"/>
                  </a:lnTo>
                  <a:lnTo>
                    <a:pt x="2312" y="471"/>
                  </a:lnTo>
                  <a:lnTo>
                    <a:pt x="2363" y="490"/>
                  </a:lnTo>
                  <a:lnTo>
                    <a:pt x="2415" y="508"/>
                  </a:lnTo>
                  <a:lnTo>
                    <a:pt x="2467" y="523"/>
                  </a:lnTo>
                  <a:lnTo>
                    <a:pt x="2519" y="537"/>
                  </a:lnTo>
                  <a:lnTo>
                    <a:pt x="2572" y="550"/>
                  </a:lnTo>
                  <a:lnTo>
                    <a:pt x="2625" y="561"/>
                  </a:lnTo>
                  <a:lnTo>
                    <a:pt x="2677" y="572"/>
                  </a:lnTo>
                  <a:lnTo>
                    <a:pt x="2730" y="581"/>
                  </a:lnTo>
                  <a:lnTo>
                    <a:pt x="2784" y="591"/>
                  </a:lnTo>
                  <a:lnTo>
                    <a:pt x="2892" y="605"/>
                  </a:lnTo>
                  <a:lnTo>
                    <a:pt x="3001" y="615"/>
                  </a:lnTo>
                  <a:lnTo>
                    <a:pt x="3110" y="626"/>
                  </a:lnTo>
                  <a:lnTo>
                    <a:pt x="3220" y="633"/>
                  </a:lnTo>
                  <a:lnTo>
                    <a:pt x="3275" y="636"/>
                  </a:lnTo>
                  <a:lnTo>
                    <a:pt x="3385" y="641"/>
                  </a:lnTo>
                  <a:lnTo>
                    <a:pt x="3611" y="619"/>
                  </a:lnTo>
                  <a:lnTo>
                    <a:pt x="3685" y="612"/>
                  </a:lnTo>
                  <a:lnTo>
                    <a:pt x="3722" y="607"/>
                  </a:lnTo>
                  <a:lnTo>
                    <a:pt x="3799" y="594"/>
                  </a:lnTo>
                  <a:lnTo>
                    <a:pt x="3853" y="582"/>
                  </a:lnTo>
                  <a:lnTo>
                    <a:pt x="3907" y="569"/>
                  </a:lnTo>
                  <a:lnTo>
                    <a:pt x="3963" y="553"/>
                  </a:lnTo>
                  <a:lnTo>
                    <a:pt x="3980" y="547"/>
                  </a:lnTo>
                  <a:lnTo>
                    <a:pt x="3997" y="546"/>
                  </a:lnTo>
                  <a:lnTo>
                    <a:pt x="4022" y="541"/>
                  </a:lnTo>
                  <a:lnTo>
                    <a:pt x="4047" y="533"/>
                  </a:lnTo>
                  <a:lnTo>
                    <a:pt x="4062" y="527"/>
                  </a:lnTo>
                  <a:lnTo>
                    <a:pt x="4109" y="504"/>
                  </a:lnTo>
                  <a:lnTo>
                    <a:pt x="4078" y="547"/>
                  </a:lnTo>
                  <a:lnTo>
                    <a:pt x="4047" y="585"/>
                  </a:lnTo>
                  <a:lnTo>
                    <a:pt x="4013" y="620"/>
                  </a:lnTo>
                  <a:lnTo>
                    <a:pt x="3978" y="655"/>
                  </a:lnTo>
                  <a:lnTo>
                    <a:pt x="3943" y="686"/>
                  </a:lnTo>
                  <a:lnTo>
                    <a:pt x="3907" y="718"/>
                  </a:lnTo>
                  <a:lnTo>
                    <a:pt x="3852" y="758"/>
                  </a:lnTo>
                  <a:lnTo>
                    <a:pt x="3815" y="785"/>
                  </a:lnTo>
                  <a:lnTo>
                    <a:pt x="3758" y="822"/>
                  </a:lnTo>
                  <a:lnTo>
                    <a:pt x="3681" y="870"/>
                  </a:lnTo>
                  <a:lnTo>
                    <a:pt x="3529" y="964"/>
                  </a:lnTo>
                  <a:lnTo>
                    <a:pt x="3490" y="990"/>
                  </a:lnTo>
                  <a:lnTo>
                    <a:pt x="3409" y="1040"/>
                  </a:lnTo>
                  <a:lnTo>
                    <a:pt x="3331" y="1089"/>
                  </a:lnTo>
                  <a:lnTo>
                    <a:pt x="3208" y="1157"/>
                  </a:lnTo>
                  <a:lnTo>
                    <a:pt x="3005" y="1269"/>
                  </a:lnTo>
                  <a:lnTo>
                    <a:pt x="2924" y="1314"/>
                  </a:lnTo>
                  <a:lnTo>
                    <a:pt x="2884" y="1337"/>
                  </a:lnTo>
                  <a:lnTo>
                    <a:pt x="2864" y="1347"/>
                  </a:lnTo>
                  <a:lnTo>
                    <a:pt x="2807" y="1370"/>
                  </a:lnTo>
                  <a:lnTo>
                    <a:pt x="2767" y="1384"/>
                  </a:lnTo>
                  <a:lnTo>
                    <a:pt x="2726" y="1399"/>
                  </a:lnTo>
                  <a:lnTo>
                    <a:pt x="2707" y="1403"/>
                  </a:lnTo>
                  <a:lnTo>
                    <a:pt x="2666" y="1413"/>
                  </a:lnTo>
                  <a:lnTo>
                    <a:pt x="2646" y="1417"/>
                  </a:lnTo>
                  <a:lnTo>
                    <a:pt x="2605" y="1423"/>
                  </a:lnTo>
                  <a:lnTo>
                    <a:pt x="2583" y="1426"/>
                  </a:lnTo>
                  <a:lnTo>
                    <a:pt x="2562" y="1427"/>
                  </a:lnTo>
                  <a:lnTo>
                    <a:pt x="2542" y="1427"/>
                  </a:lnTo>
                  <a:lnTo>
                    <a:pt x="2522" y="1426"/>
                  </a:lnTo>
                  <a:lnTo>
                    <a:pt x="2482" y="1422"/>
                  </a:lnTo>
                  <a:lnTo>
                    <a:pt x="2461" y="1419"/>
                  </a:lnTo>
                  <a:lnTo>
                    <a:pt x="2441" y="1414"/>
                  </a:lnTo>
                  <a:lnTo>
                    <a:pt x="2403" y="1402"/>
                  </a:lnTo>
                  <a:lnTo>
                    <a:pt x="2383" y="1394"/>
                  </a:lnTo>
                  <a:lnTo>
                    <a:pt x="2364" y="1384"/>
                  </a:lnTo>
                  <a:lnTo>
                    <a:pt x="2344" y="1375"/>
                  </a:lnTo>
                  <a:lnTo>
                    <a:pt x="2327" y="1364"/>
                  </a:lnTo>
                  <a:lnTo>
                    <a:pt x="2290" y="1337"/>
                  </a:lnTo>
                  <a:lnTo>
                    <a:pt x="2256" y="1304"/>
                  </a:lnTo>
                  <a:lnTo>
                    <a:pt x="2252" y="1297"/>
                  </a:lnTo>
                  <a:lnTo>
                    <a:pt x="2240" y="1271"/>
                  </a:lnTo>
                  <a:lnTo>
                    <a:pt x="2239" y="1267"/>
                  </a:lnTo>
                  <a:lnTo>
                    <a:pt x="2233" y="1262"/>
                  </a:lnTo>
                  <a:lnTo>
                    <a:pt x="2211" y="1278"/>
                  </a:lnTo>
                  <a:lnTo>
                    <a:pt x="2196" y="1289"/>
                  </a:lnTo>
                  <a:lnTo>
                    <a:pt x="2156" y="1309"/>
                  </a:lnTo>
                  <a:lnTo>
                    <a:pt x="2122" y="1323"/>
                  </a:lnTo>
                  <a:lnTo>
                    <a:pt x="2071" y="1342"/>
                  </a:lnTo>
                  <a:lnTo>
                    <a:pt x="2001" y="1364"/>
                  </a:lnTo>
                  <a:lnTo>
                    <a:pt x="1949" y="1381"/>
                  </a:lnTo>
                  <a:lnTo>
                    <a:pt x="1929" y="1388"/>
                  </a:lnTo>
                  <a:lnTo>
                    <a:pt x="1899" y="1390"/>
                  </a:lnTo>
                  <a:lnTo>
                    <a:pt x="1872" y="1390"/>
                  </a:lnTo>
                  <a:lnTo>
                    <a:pt x="1840" y="1388"/>
                  </a:lnTo>
                  <a:lnTo>
                    <a:pt x="1813" y="1383"/>
                  </a:lnTo>
                  <a:lnTo>
                    <a:pt x="1718" y="1362"/>
                  </a:lnTo>
                  <a:lnTo>
                    <a:pt x="1698" y="1360"/>
                  </a:lnTo>
                  <a:lnTo>
                    <a:pt x="1670" y="1356"/>
                  </a:lnTo>
                  <a:lnTo>
                    <a:pt x="1631" y="1355"/>
                  </a:lnTo>
                  <a:lnTo>
                    <a:pt x="1574" y="1350"/>
                  </a:lnTo>
                  <a:lnTo>
                    <a:pt x="1546" y="1345"/>
                  </a:lnTo>
                  <a:lnTo>
                    <a:pt x="1517" y="1342"/>
                  </a:lnTo>
                  <a:lnTo>
                    <a:pt x="1460" y="1329"/>
                  </a:lnTo>
                  <a:lnTo>
                    <a:pt x="1406" y="1317"/>
                  </a:lnTo>
                  <a:lnTo>
                    <a:pt x="1352" y="1302"/>
                  </a:lnTo>
                  <a:lnTo>
                    <a:pt x="1271" y="1274"/>
                  </a:lnTo>
                  <a:lnTo>
                    <a:pt x="1216" y="1255"/>
                  </a:lnTo>
                  <a:lnTo>
                    <a:pt x="1137" y="1222"/>
                  </a:lnTo>
                  <a:lnTo>
                    <a:pt x="898" y="1122"/>
                  </a:lnTo>
                  <a:lnTo>
                    <a:pt x="818" y="1090"/>
                  </a:lnTo>
                  <a:lnTo>
                    <a:pt x="791" y="1081"/>
                  </a:lnTo>
                  <a:lnTo>
                    <a:pt x="655" y="1023"/>
                  </a:lnTo>
                  <a:lnTo>
                    <a:pt x="586" y="993"/>
                  </a:lnTo>
                  <a:lnTo>
                    <a:pt x="542" y="971"/>
                  </a:lnTo>
                  <a:lnTo>
                    <a:pt x="498" y="947"/>
                  </a:lnTo>
                  <a:lnTo>
                    <a:pt x="431" y="908"/>
                  </a:lnTo>
                  <a:lnTo>
                    <a:pt x="389" y="883"/>
                  </a:lnTo>
                  <a:lnTo>
                    <a:pt x="347" y="851"/>
                  </a:lnTo>
                  <a:lnTo>
                    <a:pt x="326" y="833"/>
                  </a:lnTo>
                  <a:lnTo>
                    <a:pt x="306" y="815"/>
                  </a:lnTo>
                  <a:lnTo>
                    <a:pt x="266" y="780"/>
                  </a:lnTo>
                  <a:lnTo>
                    <a:pt x="226" y="739"/>
                  </a:lnTo>
                  <a:lnTo>
                    <a:pt x="191" y="695"/>
                  </a:lnTo>
                  <a:lnTo>
                    <a:pt x="171" y="672"/>
                  </a:lnTo>
                  <a:lnTo>
                    <a:pt x="135" y="622"/>
                  </a:lnTo>
                  <a:lnTo>
                    <a:pt x="118" y="595"/>
                  </a:lnTo>
                  <a:lnTo>
                    <a:pt x="95" y="555"/>
                  </a:lnTo>
                  <a:lnTo>
                    <a:pt x="40" y="446"/>
                  </a:lnTo>
                  <a:lnTo>
                    <a:pt x="27" y="418"/>
                  </a:lnTo>
                  <a:lnTo>
                    <a:pt x="0" y="377"/>
                  </a:lnTo>
                  <a:lnTo>
                    <a:pt x="10" y="382"/>
                  </a:lnTo>
                  <a:lnTo>
                    <a:pt x="24" y="394"/>
                  </a:lnTo>
                  <a:lnTo>
                    <a:pt x="58" y="424"/>
                  </a:lnTo>
                  <a:lnTo>
                    <a:pt x="68" y="432"/>
                  </a:lnTo>
                  <a:lnTo>
                    <a:pt x="121" y="461"/>
                  </a:lnTo>
                  <a:lnTo>
                    <a:pt x="144" y="470"/>
                  </a:lnTo>
                  <a:lnTo>
                    <a:pt x="165" y="480"/>
                  </a:lnTo>
                  <a:lnTo>
                    <a:pt x="188" y="489"/>
                  </a:lnTo>
                  <a:lnTo>
                    <a:pt x="236" y="503"/>
                  </a:lnTo>
                  <a:lnTo>
                    <a:pt x="283" y="514"/>
                  </a:lnTo>
                  <a:lnTo>
                    <a:pt x="307" y="519"/>
                  </a:lnTo>
                  <a:lnTo>
                    <a:pt x="333" y="522"/>
                  </a:lnTo>
                  <a:lnTo>
                    <a:pt x="381" y="528"/>
                  </a:lnTo>
                  <a:lnTo>
                    <a:pt x="431" y="531"/>
                  </a:lnTo>
                  <a:lnTo>
                    <a:pt x="507" y="531"/>
                  </a:lnTo>
                  <a:lnTo>
                    <a:pt x="558" y="528"/>
                  </a:lnTo>
                  <a:lnTo>
                    <a:pt x="582" y="527"/>
                  </a:lnTo>
                  <a:lnTo>
                    <a:pt x="656" y="515"/>
                  </a:lnTo>
                  <a:lnTo>
                    <a:pt x="680" y="513"/>
                  </a:lnTo>
                  <a:lnTo>
                    <a:pt x="706" y="508"/>
                  </a:lnTo>
                  <a:lnTo>
                    <a:pt x="780" y="493"/>
                  </a:lnTo>
                  <a:lnTo>
                    <a:pt x="826" y="480"/>
                  </a:lnTo>
                  <a:lnTo>
                    <a:pt x="848" y="471"/>
                  </a:lnTo>
                  <a:lnTo>
                    <a:pt x="935" y="441"/>
                  </a:lnTo>
                  <a:lnTo>
                    <a:pt x="1021" y="404"/>
                  </a:lnTo>
                  <a:lnTo>
                    <a:pt x="1086" y="376"/>
                  </a:lnTo>
                  <a:lnTo>
                    <a:pt x="1150" y="347"/>
                  </a:lnTo>
                  <a:lnTo>
                    <a:pt x="1233" y="303"/>
                  </a:lnTo>
                  <a:lnTo>
                    <a:pt x="1294" y="266"/>
                  </a:lnTo>
                  <a:lnTo>
                    <a:pt x="1355" y="228"/>
                  </a:lnTo>
                  <a:lnTo>
                    <a:pt x="1415" y="186"/>
                  </a:lnTo>
                  <a:lnTo>
                    <a:pt x="1453" y="157"/>
                  </a:lnTo>
                  <a:lnTo>
                    <a:pt x="1493" y="127"/>
                  </a:lnTo>
                  <a:lnTo>
                    <a:pt x="1512" y="111"/>
                  </a:lnTo>
                  <a:lnTo>
                    <a:pt x="1520" y="105"/>
                  </a:lnTo>
                  <a:lnTo>
                    <a:pt x="1530" y="98"/>
                  </a:lnTo>
                  <a:lnTo>
                    <a:pt x="1542" y="82"/>
                  </a:lnTo>
                  <a:lnTo>
                    <a:pt x="1571" y="39"/>
                  </a:lnTo>
                  <a:lnTo>
                    <a:pt x="1587" y="19"/>
                  </a:lnTo>
                  <a:lnTo>
                    <a:pt x="1597" y="11"/>
                  </a:lnTo>
                  <a:lnTo>
                    <a:pt x="1610" y="1"/>
                  </a:lnTo>
                  <a:lnTo>
                    <a:pt x="1620" y="0"/>
                  </a:lnTo>
                  <a:lnTo>
                    <a:pt x="1624" y="0"/>
                  </a:lnTo>
                  <a:lnTo>
                    <a:pt x="1630" y="1"/>
                  </a:lnTo>
                  <a:lnTo>
                    <a:pt x="1638" y="6"/>
                  </a:lnTo>
                  <a:lnTo>
                    <a:pt x="1650" y="17"/>
                  </a:lnTo>
                  <a:lnTo>
                    <a:pt x="1670" y="43"/>
                  </a:lnTo>
                  <a:lnTo>
                    <a:pt x="1697" y="72"/>
                  </a:lnTo>
                  <a:lnTo>
                    <a:pt x="1742" y="117"/>
                  </a:lnTo>
                  <a:close/>
                </a:path>
              </a:pathLst>
            </a:custGeom>
            <a:solidFill>
              <a:srgbClr val="ffe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13"/>
            <p:cNvSpPr/>
            <p:nvPr/>
          </p:nvSpPr>
          <p:spPr>
            <a:xfrm>
              <a:off x="6321600" y="4162680"/>
              <a:ext cx="2352600" cy="641880"/>
            </a:xfrm>
            <a:custGeom>
              <a:avLst/>
              <a:gdLst>
                <a:gd name="textAreaLeft" fmla="*/ 0 w 2352600"/>
                <a:gd name="textAreaRight" fmla="*/ 2352960 w 2352600"/>
                <a:gd name="textAreaTop" fmla="*/ 0 h 641880"/>
                <a:gd name="textAreaBottom" fmla="*/ 642240 h 641880"/>
              </a:gdLst>
              <a:ahLst/>
              <a:rect l="textAreaLeft" t="textAreaTop" r="textAreaRight" b="textAreaBottom"/>
              <a:pathLst>
                <a:path w="4041" h="1013">
                  <a:moveTo>
                    <a:pt x="277" y="191"/>
                  </a:moveTo>
                  <a:lnTo>
                    <a:pt x="319" y="222"/>
                  </a:lnTo>
                  <a:lnTo>
                    <a:pt x="357" y="252"/>
                  </a:lnTo>
                  <a:lnTo>
                    <a:pt x="378" y="266"/>
                  </a:lnTo>
                  <a:lnTo>
                    <a:pt x="438" y="305"/>
                  </a:lnTo>
                  <a:lnTo>
                    <a:pt x="479" y="328"/>
                  </a:lnTo>
                  <a:lnTo>
                    <a:pt x="521" y="352"/>
                  </a:lnTo>
                  <a:lnTo>
                    <a:pt x="583" y="382"/>
                  </a:lnTo>
                  <a:lnTo>
                    <a:pt x="647" y="412"/>
                  </a:lnTo>
                  <a:lnTo>
                    <a:pt x="775" y="466"/>
                  </a:lnTo>
                  <a:lnTo>
                    <a:pt x="818" y="484"/>
                  </a:lnTo>
                  <a:lnTo>
                    <a:pt x="904" y="522"/>
                  </a:lnTo>
                  <a:lnTo>
                    <a:pt x="948" y="541"/>
                  </a:lnTo>
                  <a:lnTo>
                    <a:pt x="973" y="548"/>
                  </a:lnTo>
                  <a:lnTo>
                    <a:pt x="1023" y="565"/>
                  </a:lnTo>
                  <a:lnTo>
                    <a:pt x="1073" y="585"/>
                  </a:lnTo>
                  <a:lnTo>
                    <a:pt x="1221" y="648"/>
                  </a:lnTo>
                  <a:lnTo>
                    <a:pt x="1295" y="677"/>
                  </a:lnTo>
                  <a:lnTo>
                    <a:pt x="1346" y="694"/>
                  </a:lnTo>
                  <a:lnTo>
                    <a:pt x="1573" y="728"/>
                  </a:lnTo>
                  <a:lnTo>
                    <a:pt x="1688" y="745"/>
                  </a:lnTo>
                  <a:lnTo>
                    <a:pt x="1763" y="760"/>
                  </a:lnTo>
                  <a:lnTo>
                    <a:pt x="1837" y="776"/>
                  </a:lnTo>
                  <a:lnTo>
                    <a:pt x="1913" y="795"/>
                  </a:lnTo>
                  <a:lnTo>
                    <a:pt x="1948" y="807"/>
                  </a:lnTo>
                  <a:lnTo>
                    <a:pt x="1994" y="813"/>
                  </a:lnTo>
                  <a:lnTo>
                    <a:pt x="2061" y="821"/>
                  </a:lnTo>
                  <a:lnTo>
                    <a:pt x="2106" y="823"/>
                  </a:lnTo>
                  <a:lnTo>
                    <a:pt x="2172" y="828"/>
                  </a:lnTo>
                  <a:lnTo>
                    <a:pt x="2239" y="829"/>
                  </a:lnTo>
                  <a:lnTo>
                    <a:pt x="2306" y="829"/>
                  </a:lnTo>
                  <a:lnTo>
                    <a:pt x="2350" y="828"/>
                  </a:lnTo>
                  <a:lnTo>
                    <a:pt x="2437" y="823"/>
                  </a:lnTo>
                  <a:lnTo>
                    <a:pt x="2569" y="814"/>
                  </a:lnTo>
                  <a:lnTo>
                    <a:pt x="2657" y="807"/>
                  </a:lnTo>
                  <a:lnTo>
                    <a:pt x="2697" y="795"/>
                  </a:lnTo>
                  <a:lnTo>
                    <a:pt x="2737" y="784"/>
                  </a:lnTo>
                  <a:lnTo>
                    <a:pt x="2775" y="770"/>
                  </a:lnTo>
                  <a:lnTo>
                    <a:pt x="2834" y="747"/>
                  </a:lnTo>
                  <a:lnTo>
                    <a:pt x="2872" y="729"/>
                  </a:lnTo>
                  <a:lnTo>
                    <a:pt x="2928" y="703"/>
                  </a:lnTo>
                  <a:lnTo>
                    <a:pt x="3002" y="664"/>
                  </a:lnTo>
                  <a:lnTo>
                    <a:pt x="3076" y="622"/>
                  </a:lnTo>
                  <a:lnTo>
                    <a:pt x="3224" y="537"/>
                  </a:lnTo>
                  <a:lnTo>
                    <a:pt x="3261" y="517"/>
                  </a:lnTo>
                  <a:lnTo>
                    <a:pt x="3310" y="491"/>
                  </a:lnTo>
                  <a:lnTo>
                    <a:pt x="3335" y="477"/>
                  </a:lnTo>
                  <a:lnTo>
                    <a:pt x="3406" y="432"/>
                  </a:lnTo>
                  <a:lnTo>
                    <a:pt x="3500" y="371"/>
                  </a:lnTo>
                  <a:lnTo>
                    <a:pt x="3548" y="342"/>
                  </a:lnTo>
                  <a:lnTo>
                    <a:pt x="3595" y="313"/>
                  </a:lnTo>
                  <a:lnTo>
                    <a:pt x="3642" y="290"/>
                  </a:lnTo>
                  <a:lnTo>
                    <a:pt x="3705" y="250"/>
                  </a:lnTo>
                  <a:lnTo>
                    <a:pt x="3796" y="191"/>
                  </a:lnTo>
                  <a:lnTo>
                    <a:pt x="3826" y="171"/>
                  </a:lnTo>
                  <a:lnTo>
                    <a:pt x="3861" y="141"/>
                  </a:lnTo>
                  <a:lnTo>
                    <a:pt x="3884" y="120"/>
                  </a:lnTo>
                  <a:lnTo>
                    <a:pt x="3914" y="114"/>
                  </a:lnTo>
                  <a:lnTo>
                    <a:pt x="3945" y="105"/>
                  </a:lnTo>
                  <a:lnTo>
                    <a:pt x="3974" y="94"/>
                  </a:lnTo>
                  <a:lnTo>
                    <a:pt x="3995" y="85"/>
                  </a:lnTo>
                  <a:lnTo>
                    <a:pt x="4032" y="62"/>
                  </a:lnTo>
                  <a:lnTo>
                    <a:pt x="4041" y="56"/>
                  </a:lnTo>
                  <a:lnTo>
                    <a:pt x="4005" y="99"/>
                  </a:lnTo>
                  <a:lnTo>
                    <a:pt x="3982" y="125"/>
                  </a:lnTo>
                  <a:lnTo>
                    <a:pt x="3930" y="174"/>
                  </a:lnTo>
                  <a:lnTo>
                    <a:pt x="3891" y="208"/>
                  </a:lnTo>
                  <a:lnTo>
                    <a:pt x="3836" y="252"/>
                  </a:lnTo>
                  <a:lnTo>
                    <a:pt x="3752" y="314"/>
                  </a:lnTo>
                  <a:lnTo>
                    <a:pt x="3611" y="413"/>
                  </a:lnTo>
                  <a:lnTo>
                    <a:pt x="3581" y="429"/>
                  </a:lnTo>
                  <a:lnTo>
                    <a:pt x="3521" y="465"/>
                  </a:lnTo>
                  <a:lnTo>
                    <a:pt x="3433" y="523"/>
                  </a:lnTo>
                  <a:lnTo>
                    <a:pt x="3373" y="562"/>
                  </a:lnTo>
                  <a:lnTo>
                    <a:pt x="3081" y="764"/>
                  </a:lnTo>
                  <a:lnTo>
                    <a:pt x="2993" y="822"/>
                  </a:lnTo>
                  <a:lnTo>
                    <a:pt x="2935" y="860"/>
                  </a:lnTo>
                  <a:lnTo>
                    <a:pt x="2875" y="894"/>
                  </a:lnTo>
                  <a:lnTo>
                    <a:pt x="2815" y="928"/>
                  </a:lnTo>
                  <a:lnTo>
                    <a:pt x="2754" y="960"/>
                  </a:lnTo>
                  <a:lnTo>
                    <a:pt x="2693" y="988"/>
                  </a:lnTo>
                  <a:lnTo>
                    <a:pt x="2660" y="1002"/>
                  </a:lnTo>
                  <a:lnTo>
                    <a:pt x="2633" y="1008"/>
                  </a:lnTo>
                  <a:lnTo>
                    <a:pt x="2604" y="1013"/>
                  </a:lnTo>
                  <a:lnTo>
                    <a:pt x="2566" y="1013"/>
                  </a:lnTo>
                  <a:lnTo>
                    <a:pt x="2548" y="1012"/>
                  </a:lnTo>
                  <a:lnTo>
                    <a:pt x="2521" y="1005"/>
                  </a:lnTo>
                  <a:lnTo>
                    <a:pt x="2502" y="1000"/>
                  </a:lnTo>
                  <a:lnTo>
                    <a:pt x="2476" y="988"/>
                  </a:lnTo>
                  <a:lnTo>
                    <a:pt x="2461" y="979"/>
                  </a:lnTo>
                  <a:lnTo>
                    <a:pt x="2435" y="961"/>
                  </a:lnTo>
                  <a:lnTo>
                    <a:pt x="2412" y="941"/>
                  </a:lnTo>
                  <a:lnTo>
                    <a:pt x="2390" y="918"/>
                  </a:lnTo>
                  <a:lnTo>
                    <a:pt x="2382" y="908"/>
                  </a:lnTo>
                  <a:lnTo>
                    <a:pt x="2372" y="902"/>
                  </a:lnTo>
                  <a:lnTo>
                    <a:pt x="2367" y="902"/>
                  </a:lnTo>
                  <a:lnTo>
                    <a:pt x="2354" y="897"/>
                  </a:lnTo>
                  <a:lnTo>
                    <a:pt x="2306" y="919"/>
                  </a:lnTo>
                  <a:lnTo>
                    <a:pt x="2254" y="940"/>
                  </a:lnTo>
                  <a:lnTo>
                    <a:pt x="2203" y="959"/>
                  </a:lnTo>
                  <a:lnTo>
                    <a:pt x="2152" y="975"/>
                  </a:lnTo>
                  <a:lnTo>
                    <a:pt x="2101" y="989"/>
                  </a:lnTo>
                  <a:lnTo>
                    <a:pt x="2061" y="999"/>
                  </a:lnTo>
                  <a:lnTo>
                    <a:pt x="2022" y="1005"/>
                  </a:lnTo>
                  <a:lnTo>
                    <a:pt x="1981" y="1010"/>
                  </a:lnTo>
                  <a:lnTo>
                    <a:pt x="1953" y="1012"/>
                  </a:lnTo>
                  <a:lnTo>
                    <a:pt x="1941" y="1013"/>
                  </a:lnTo>
                  <a:lnTo>
                    <a:pt x="1927" y="1002"/>
                  </a:lnTo>
                  <a:lnTo>
                    <a:pt x="1911" y="994"/>
                  </a:lnTo>
                  <a:lnTo>
                    <a:pt x="1890" y="988"/>
                  </a:lnTo>
                  <a:lnTo>
                    <a:pt x="1834" y="979"/>
                  </a:lnTo>
                  <a:lnTo>
                    <a:pt x="1822" y="974"/>
                  </a:lnTo>
                  <a:lnTo>
                    <a:pt x="1773" y="953"/>
                  </a:lnTo>
                  <a:lnTo>
                    <a:pt x="1726" y="933"/>
                  </a:lnTo>
                  <a:lnTo>
                    <a:pt x="1678" y="916"/>
                  </a:lnTo>
                  <a:lnTo>
                    <a:pt x="1629" y="899"/>
                  </a:lnTo>
                  <a:lnTo>
                    <a:pt x="1533" y="869"/>
                  </a:lnTo>
                  <a:lnTo>
                    <a:pt x="1409" y="833"/>
                  </a:lnTo>
                  <a:lnTo>
                    <a:pt x="1336" y="809"/>
                  </a:lnTo>
                  <a:lnTo>
                    <a:pt x="1265" y="784"/>
                  </a:lnTo>
                  <a:lnTo>
                    <a:pt x="1217" y="764"/>
                  </a:lnTo>
                  <a:lnTo>
                    <a:pt x="1170" y="742"/>
                  </a:lnTo>
                  <a:lnTo>
                    <a:pt x="1124" y="719"/>
                  </a:lnTo>
                  <a:lnTo>
                    <a:pt x="1079" y="691"/>
                  </a:lnTo>
                  <a:lnTo>
                    <a:pt x="1057" y="677"/>
                  </a:lnTo>
                  <a:lnTo>
                    <a:pt x="1009" y="658"/>
                  </a:lnTo>
                  <a:lnTo>
                    <a:pt x="941" y="628"/>
                  </a:lnTo>
                  <a:lnTo>
                    <a:pt x="872" y="595"/>
                  </a:lnTo>
                  <a:lnTo>
                    <a:pt x="649" y="477"/>
                  </a:lnTo>
                  <a:lnTo>
                    <a:pt x="558" y="433"/>
                  </a:lnTo>
                  <a:lnTo>
                    <a:pt x="488" y="404"/>
                  </a:lnTo>
                  <a:lnTo>
                    <a:pt x="442" y="385"/>
                  </a:lnTo>
                  <a:lnTo>
                    <a:pt x="395" y="367"/>
                  </a:lnTo>
                  <a:lnTo>
                    <a:pt x="348" y="352"/>
                  </a:lnTo>
                  <a:lnTo>
                    <a:pt x="323" y="346"/>
                  </a:lnTo>
                  <a:lnTo>
                    <a:pt x="300" y="333"/>
                  </a:lnTo>
                  <a:lnTo>
                    <a:pt x="254" y="305"/>
                  </a:lnTo>
                  <a:lnTo>
                    <a:pt x="210" y="275"/>
                  </a:lnTo>
                  <a:lnTo>
                    <a:pt x="166" y="241"/>
                  </a:lnTo>
                  <a:lnTo>
                    <a:pt x="135" y="213"/>
                  </a:lnTo>
                  <a:lnTo>
                    <a:pt x="114" y="193"/>
                  </a:lnTo>
                  <a:lnTo>
                    <a:pt x="95" y="171"/>
                  </a:lnTo>
                  <a:lnTo>
                    <a:pt x="75" y="147"/>
                  </a:lnTo>
                  <a:lnTo>
                    <a:pt x="48" y="108"/>
                  </a:lnTo>
                  <a:lnTo>
                    <a:pt x="32" y="81"/>
                  </a:lnTo>
                  <a:lnTo>
                    <a:pt x="17" y="52"/>
                  </a:lnTo>
                  <a:lnTo>
                    <a:pt x="1" y="20"/>
                  </a:lnTo>
                  <a:lnTo>
                    <a:pt x="0" y="12"/>
                  </a:lnTo>
                  <a:lnTo>
                    <a:pt x="1" y="3"/>
                  </a:lnTo>
                  <a:lnTo>
                    <a:pt x="3" y="0"/>
                  </a:lnTo>
                  <a:lnTo>
                    <a:pt x="40" y="14"/>
                  </a:lnTo>
                  <a:lnTo>
                    <a:pt x="77" y="29"/>
                  </a:lnTo>
                  <a:lnTo>
                    <a:pt x="114" y="47"/>
                  </a:lnTo>
                  <a:lnTo>
                    <a:pt x="149" y="67"/>
                  </a:lnTo>
                  <a:lnTo>
                    <a:pt x="166" y="80"/>
                  </a:lnTo>
                  <a:lnTo>
                    <a:pt x="200" y="105"/>
                  </a:lnTo>
                  <a:lnTo>
                    <a:pt x="225" y="127"/>
                  </a:lnTo>
                  <a:lnTo>
                    <a:pt x="247" y="152"/>
                  </a:lnTo>
                  <a:lnTo>
                    <a:pt x="270" y="180"/>
                  </a:lnTo>
                  <a:lnTo>
                    <a:pt x="277" y="191"/>
                  </a:lnTo>
                  <a:close/>
                </a:path>
              </a:pathLst>
            </a:custGeom>
            <a:solidFill>
              <a:srgbClr val="ffe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reeform 14"/>
            <p:cNvSpPr/>
            <p:nvPr/>
          </p:nvSpPr>
          <p:spPr>
            <a:xfrm>
              <a:off x="6320520" y="4279320"/>
              <a:ext cx="2371320" cy="714600"/>
            </a:xfrm>
            <a:custGeom>
              <a:avLst/>
              <a:gdLst>
                <a:gd name="textAreaLeft" fmla="*/ 0 w 2371320"/>
                <a:gd name="textAreaRight" fmla="*/ 2371680 w 2371320"/>
                <a:gd name="textAreaTop" fmla="*/ 0 h 714600"/>
                <a:gd name="textAreaBottom" fmla="*/ 714960 h 714600"/>
              </a:gdLst>
              <a:ahLst/>
              <a:rect l="textAreaLeft" t="textAreaTop" r="textAreaRight" b="textAreaBottom"/>
              <a:pathLst>
                <a:path w="4074" h="1124">
                  <a:moveTo>
                    <a:pt x="3897" y="206"/>
                  </a:moveTo>
                  <a:lnTo>
                    <a:pt x="3779" y="267"/>
                  </a:lnTo>
                  <a:lnTo>
                    <a:pt x="3664" y="332"/>
                  </a:lnTo>
                  <a:lnTo>
                    <a:pt x="3547" y="399"/>
                  </a:lnTo>
                  <a:lnTo>
                    <a:pt x="3395" y="492"/>
                  </a:lnTo>
                  <a:lnTo>
                    <a:pt x="3279" y="566"/>
                  </a:lnTo>
                  <a:lnTo>
                    <a:pt x="3128" y="667"/>
                  </a:lnTo>
                  <a:lnTo>
                    <a:pt x="2978" y="768"/>
                  </a:lnTo>
                  <a:lnTo>
                    <a:pt x="2901" y="820"/>
                  </a:lnTo>
                  <a:lnTo>
                    <a:pt x="2751" y="927"/>
                  </a:lnTo>
                  <a:lnTo>
                    <a:pt x="2677" y="980"/>
                  </a:lnTo>
                  <a:lnTo>
                    <a:pt x="2656" y="998"/>
                  </a:lnTo>
                  <a:lnTo>
                    <a:pt x="2646" y="1005"/>
                  </a:lnTo>
                  <a:lnTo>
                    <a:pt x="2623" y="1018"/>
                  </a:lnTo>
                  <a:lnTo>
                    <a:pt x="2599" y="1028"/>
                  </a:lnTo>
                  <a:lnTo>
                    <a:pt x="2576" y="1036"/>
                  </a:lnTo>
                  <a:lnTo>
                    <a:pt x="2551" y="1041"/>
                  </a:lnTo>
                  <a:lnTo>
                    <a:pt x="2528" y="1045"/>
                  </a:lnTo>
                  <a:lnTo>
                    <a:pt x="2504" y="1045"/>
                  </a:lnTo>
                  <a:lnTo>
                    <a:pt x="2491" y="1042"/>
                  </a:lnTo>
                  <a:lnTo>
                    <a:pt x="2467" y="1039"/>
                  </a:lnTo>
                  <a:lnTo>
                    <a:pt x="2442" y="1034"/>
                  </a:lnTo>
                  <a:lnTo>
                    <a:pt x="2430" y="1032"/>
                  </a:lnTo>
                  <a:lnTo>
                    <a:pt x="2407" y="1022"/>
                  </a:lnTo>
                  <a:lnTo>
                    <a:pt x="2371" y="1005"/>
                  </a:lnTo>
                  <a:lnTo>
                    <a:pt x="2338" y="985"/>
                  </a:lnTo>
                  <a:lnTo>
                    <a:pt x="2306" y="958"/>
                  </a:lnTo>
                  <a:lnTo>
                    <a:pt x="2273" y="993"/>
                  </a:lnTo>
                  <a:lnTo>
                    <a:pt x="2246" y="1015"/>
                  </a:lnTo>
                  <a:lnTo>
                    <a:pt x="2220" y="1036"/>
                  </a:lnTo>
                  <a:lnTo>
                    <a:pt x="2193" y="1056"/>
                  </a:lnTo>
                  <a:lnTo>
                    <a:pt x="2165" y="1072"/>
                  </a:lnTo>
                  <a:lnTo>
                    <a:pt x="2138" y="1088"/>
                  </a:lnTo>
                  <a:lnTo>
                    <a:pt x="2118" y="1095"/>
                  </a:lnTo>
                  <a:lnTo>
                    <a:pt x="2088" y="1107"/>
                  </a:lnTo>
                  <a:lnTo>
                    <a:pt x="2067" y="1113"/>
                  </a:lnTo>
                  <a:lnTo>
                    <a:pt x="2045" y="1118"/>
                  </a:lnTo>
                  <a:lnTo>
                    <a:pt x="2015" y="1123"/>
                  </a:lnTo>
                  <a:lnTo>
                    <a:pt x="2005" y="1124"/>
                  </a:lnTo>
                  <a:lnTo>
                    <a:pt x="1852" y="1032"/>
                  </a:lnTo>
                  <a:lnTo>
                    <a:pt x="1701" y="941"/>
                  </a:lnTo>
                  <a:lnTo>
                    <a:pt x="1292" y="708"/>
                  </a:lnTo>
                  <a:lnTo>
                    <a:pt x="1190" y="648"/>
                  </a:lnTo>
                  <a:lnTo>
                    <a:pt x="1119" y="604"/>
                  </a:lnTo>
                  <a:lnTo>
                    <a:pt x="1046" y="565"/>
                  </a:lnTo>
                  <a:lnTo>
                    <a:pt x="972" y="529"/>
                  </a:lnTo>
                  <a:lnTo>
                    <a:pt x="897" y="495"/>
                  </a:lnTo>
                  <a:lnTo>
                    <a:pt x="860" y="479"/>
                  </a:lnTo>
                  <a:lnTo>
                    <a:pt x="747" y="433"/>
                  </a:lnTo>
                  <a:lnTo>
                    <a:pt x="480" y="333"/>
                  </a:lnTo>
                  <a:lnTo>
                    <a:pt x="404" y="304"/>
                  </a:lnTo>
                  <a:lnTo>
                    <a:pt x="327" y="272"/>
                  </a:lnTo>
                  <a:lnTo>
                    <a:pt x="290" y="254"/>
                  </a:lnTo>
                  <a:lnTo>
                    <a:pt x="218" y="220"/>
                  </a:lnTo>
                  <a:lnTo>
                    <a:pt x="144" y="181"/>
                  </a:lnTo>
                  <a:lnTo>
                    <a:pt x="108" y="161"/>
                  </a:lnTo>
                  <a:lnTo>
                    <a:pt x="71" y="140"/>
                  </a:lnTo>
                  <a:lnTo>
                    <a:pt x="35" y="118"/>
                  </a:lnTo>
                  <a:lnTo>
                    <a:pt x="0" y="94"/>
                  </a:lnTo>
                  <a:lnTo>
                    <a:pt x="65" y="87"/>
                  </a:lnTo>
                  <a:lnTo>
                    <a:pt x="101" y="86"/>
                  </a:lnTo>
                  <a:lnTo>
                    <a:pt x="124" y="86"/>
                  </a:lnTo>
                  <a:lnTo>
                    <a:pt x="146" y="87"/>
                  </a:lnTo>
                  <a:lnTo>
                    <a:pt x="158" y="89"/>
                  </a:lnTo>
                  <a:lnTo>
                    <a:pt x="178" y="94"/>
                  </a:lnTo>
                  <a:lnTo>
                    <a:pt x="201" y="115"/>
                  </a:lnTo>
                  <a:lnTo>
                    <a:pt x="233" y="139"/>
                  </a:lnTo>
                  <a:lnTo>
                    <a:pt x="266" y="159"/>
                  </a:lnTo>
                  <a:lnTo>
                    <a:pt x="300" y="177"/>
                  </a:lnTo>
                  <a:lnTo>
                    <a:pt x="326" y="187"/>
                  </a:lnTo>
                  <a:lnTo>
                    <a:pt x="360" y="199"/>
                  </a:lnTo>
                  <a:lnTo>
                    <a:pt x="450" y="228"/>
                  </a:lnTo>
                  <a:lnTo>
                    <a:pt x="457" y="238"/>
                  </a:lnTo>
                  <a:lnTo>
                    <a:pt x="485" y="247"/>
                  </a:lnTo>
                  <a:lnTo>
                    <a:pt x="524" y="263"/>
                  </a:lnTo>
                  <a:lnTo>
                    <a:pt x="549" y="273"/>
                  </a:lnTo>
                  <a:lnTo>
                    <a:pt x="591" y="291"/>
                  </a:lnTo>
                  <a:lnTo>
                    <a:pt x="666" y="330"/>
                  </a:lnTo>
                  <a:lnTo>
                    <a:pt x="768" y="384"/>
                  </a:lnTo>
                  <a:lnTo>
                    <a:pt x="833" y="414"/>
                  </a:lnTo>
                  <a:lnTo>
                    <a:pt x="874" y="430"/>
                  </a:lnTo>
                  <a:lnTo>
                    <a:pt x="929" y="456"/>
                  </a:lnTo>
                  <a:lnTo>
                    <a:pt x="985" y="484"/>
                  </a:lnTo>
                  <a:lnTo>
                    <a:pt x="1171" y="579"/>
                  </a:lnTo>
                  <a:lnTo>
                    <a:pt x="1225" y="605"/>
                  </a:lnTo>
                  <a:lnTo>
                    <a:pt x="1264" y="622"/>
                  </a:lnTo>
                  <a:lnTo>
                    <a:pt x="1321" y="644"/>
                  </a:lnTo>
                  <a:lnTo>
                    <a:pt x="1339" y="652"/>
                  </a:lnTo>
                  <a:lnTo>
                    <a:pt x="1398" y="670"/>
                  </a:lnTo>
                  <a:lnTo>
                    <a:pt x="1439" y="681"/>
                  </a:lnTo>
                  <a:lnTo>
                    <a:pt x="1457" y="684"/>
                  </a:lnTo>
                  <a:lnTo>
                    <a:pt x="1479" y="689"/>
                  </a:lnTo>
                  <a:lnTo>
                    <a:pt x="1566" y="720"/>
                  </a:lnTo>
                  <a:lnTo>
                    <a:pt x="1738" y="784"/>
                  </a:lnTo>
                  <a:lnTo>
                    <a:pt x="1825" y="815"/>
                  </a:lnTo>
                  <a:lnTo>
                    <a:pt x="1855" y="825"/>
                  </a:lnTo>
                  <a:lnTo>
                    <a:pt x="1911" y="842"/>
                  </a:lnTo>
                  <a:lnTo>
                    <a:pt x="1940" y="848"/>
                  </a:lnTo>
                  <a:lnTo>
                    <a:pt x="1960" y="856"/>
                  </a:lnTo>
                  <a:lnTo>
                    <a:pt x="1997" y="869"/>
                  </a:lnTo>
                  <a:lnTo>
                    <a:pt x="2035" y="879"/>
                  </a:lnTo>
                  <a:lnTo>
                    <a:pt x="2094" y="889"/>
                  </a:lnTo>
                  <a:lnTo>
                    <a:pt x="2134" y="894"/>
                  </a:lnTo>
                  <a:lnTo>
                    <a:pt x="2213" y="896"/>
                  </a:lnTo>
                  <a:lnTo>
                    <a:pt x="2253" y="896"/>
                  </a:lnTo>
                  <a:lnTo>
                    <a:pt x="2293" y="895"/>
                  </a:lnTo>
                  <a:lnTo>
                    <a:pt x="2373" y="889"/>
                  </a:lnTo>
                  <a:lnTo>
                    <a:pt x="2533" y="875"/>
                  </a:lnTo>
                  <a:lnTo>
                    <a:pt x="2572" y="872"/>
                  </a:lnTo>
                  <a:lnTo>
                    <a:pt x="2595" y="866"/>
                  </a:lnTo>
                  <a:lnTo>
                    <a:pt x="2606" y="861"/>
                  </a:lnTo>
                  <a:lnTo>
                    <a:pt x="2637" y="850"/>
                  </a:lnTo>
                  <a:lnTo>
                    <a:pt x="2647" y="847"/>
                  </a:lnTo>
                  <a:lnTo>
                    <a:pt x="2659" y="846"/>
                  </a:lnTo>
                  <a:lnTo>
                    <a:pt x="2700" y="829"/>
                  </a:lnTo>
                  <a:lnTo>
                    <a:pt x="2764" y="801"/>
                  </a:lnTo>
                  <a:lnTo>
                    <a:pt x="2825" y="768"/>
                  </a:lnTo>
                  <a:lnTo>
                    <a:pt x="2886" y="733"/>
                  </a:lnTo>
                  <a:lnTo>
                    <a:pt x="2968" y="681"/>
                  </a:lnTo>
                  <a:lnTo>
                    <a:pt x="3227" y="504"/>
                  </a:lnTo>
                  <a:lnTo>
                    <a:pt x="3306" y="452"/>
                  </a:lnTo>
                  <a:lnTo>
                    <a:pt x="3360" y="413"/>
                  </a:lnTo>
                  <a:lnTo>
                    <a:pt x="3416" y="377"/>
                  </a:lnTo>
                  <a:lnTo>
                    <a:pt x="3524" y="310"/>
                  </a:lnTo>
                  <a:lnTo>
                    <a:pt x="3632" y="242"/>
                  </a:lnTo>
                  <a:lnTo>
                    <a:pt x="3704" y="197"/>
                  </a:lnTo>
                  <a:lnTo>
                    <a:pt x="3776" y="147"/>
                  </a:lnTo>
                  <a:lnTo>
                    <a:pt x="3829" y="106"/>
                  </a:lnTo>
                  <a:lnTo>
                    <a:pt x="3880" y="62"/>
                  </a:lnTo>
                  <a:lnTo>
                    <a:pt x="3941" y="48"/>
                  </a:lnTo>
                  <a:lnTo>
                    <a:pt x="3978" y="39"/>
                  </a:lnTo>
                  <a:lnTo>
                    <a:pt x="4014" y="27"/>
                  </a:lnTo>
                  <a:lnTo>
                    <a:pt x="4049" y="11"/>
                  </a:lnTo>
                  <a:lnTo>
                    <a:pt x="4074" y="0"/>
                  </a:lnTo>
                  <a:lnTo>
                    <a:pt x="4071" y="20"/>
                  </a:lnTo>
                  <a:lnTo>
                    <a:pt x="4062" y="39"/>
                  </a:lnTo>
                  <a:lnTo>
                    <a:pt x="4052" y="65"/>
                  </a:lnTo>
                  <a:lnTo>
                    <a:pt x="4044" y="80"/>
                  </a:lnTo>
                  <a:lnTo>
                    <a:pt x="4028" y="100"/>
                  </a:lnTo>
                  <a:lnTo>
                    <a:pt x="4002" y="125"/>
                  </a:lnTo>
                  <a:lnTo>
                    <a:pt x="3977" y="146"/>
                  </a:lnTo>
                  <a:lnTo>
                    <a:pt x="3916" y="191"/>
                  </a:lnTo>
                  <a:lnTo>
                    <a:pt x="3903" y="200"/>
                  </a:lnTo>
                  <a:lnTo>
                    <a:pt x="3897" y="206"/>
                  </a:lnTo>
                  <a:close/>
                </a:path>
              </a:pathLst>
            </a:custGeom>
            <a:solidFill>
              <a:srgbClr val="ffe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15"/>
            <p:cNvSpPr/>
            <p:nvPr/>
          </p:nvSpPr>
          <p:spPr>
            <a:xfrm>
              <a:off x="7682760" y="4393800"/>
              <a:ext cx="1010160" cy="700560"/>
            </a:xfrm>
            <a:custGeom>
              <a:avLst/>
              <a:gdLst>
                <a:gd name="textAreaLeft" fmla="*/ 0 w 1010160"/>
                <a:gd name="textAreaRight" fmla="*/ 1010520 w 1010160"/>
                <a:gd name="textAreaTop" fmla="*/ 0 h 700560"/>
                <a:gd name="textAreaBottom" fmla="*/ 700560 h 700560"/>
              </a:gdLst>
              <a:ahLst/>
              <a:rect l="textAreaLeft" t="textAreaTop" r="textAreaRight" b="textAreaBottom"/>
              <a:pathLst>
                <a:path w="1735" h="1104">
                  <a:moveTo>
                    <a:pt x="1735" y="0"/>
                  </a:moveTo>
                  <a:lnTo>
                    <a:pt x="1702" y="35"/>
                  </a:lnTo>
                  <a:lnTo>
                    <a:pt x="1667" y="68"/>
                  </a:lnTo>
                  <a:lnTo>
                    <a:pt x="1631" y="99"/>
                  </a:lnTo>
                  <a:lnTo>
                    <a:pt x="1594" y="126"/>
                  </a:lnTo>
                  <a:lnTo>
                    <a:pt x="1540" y="164"/>
                  </a:lnTo>
                  <a:lnTo>
                    <a:pt x="1482" y="199"/>
                  </a:lnTo>
                  <a:lnTo>
                    <a:pt x="1445" y="220"/>
                  </a:lnTo>
                  <a:lnTo>
                    <a:pt x="1251" y="324"/>
                  </a:lnTo>
                  <a:lnTo>
                    <a:pt x="1196" y="357"/>
                  </a:lnTo>
                  <a:lnTo>
                    <a:pt x="1139" y="392"/>
                  </a:lnTo>
                  <a:lnTo>
                    <a:pt x="1055" y="452"/>
                  </a:lnTo>
                  <a:lnTo>
                    <a:pt x="998" y="492"/>
                  </a:lnTo>
                  <a:lnTo>
                    <a:pt x="915" y="556"/>
                  </a:lnTo>
                  <a:lnTo>
                    <a:pt x="861" y="600"/>
                  </a:lnTo>
                  <a:lnTo>
                    <a:pt x="531" y="866"/>
                  </a:lnTo>
                  <a:lnTo>
                    <a:pt x="394" y="973"/>
                  </a:lnTo>
                  <a:lnTo>
                    <a:pt x="310" y="1035"/>
                  </a:lnTo>
                  <a:lnTo>
                    <a:pt x="239" y="1085"/>
                  </a:lnTo>
                  <a:lnTo>
                    <a:pt x="223" y="1092"/>
                  </a:lnTo>
                  <a:lnTo>
                    <a:pt x="208" y="1097"/>
                  </a:lnTo>
                  <a:lnTo>
                    <a:pt x="192" y="1103"/>
                  </a:lnTo>
                  <a:lnTo>
                    <a:pt x="176" y="1104"/>
                  </a:lnTo>
                  <a:lnTo>
                    <a:pt x="158" y="1104"/>
                  </a:lnTo>
                  <a:lnTo>
                    <a:pt x="142" y="1103"/>
                  </a:lnTo>
                  <a:lnTo>
                    <a:pt x="115" y="1096"/>
                  </a:lnTo>
                  <a:lnTo>
                    <a:pt x="91" y="1086"/>
                  </a:lnTo>
                  <a:lnTo>
                    <a:pt x="75" y="1080"/>
                  </a:lnTo>
                  <a:lnTo>
                    <a:pt x="53" y="1065"/>
                  </a:lnTo>
                  <a:lnTo>
                    <a:pt x="30" y="1049"/>
                  </a:lnTo>
                  <a:lnTo>
                    <a:pt x="0" y="1023"/>
                  </a:lnTo>
                  <a:lnTo>
                    <a:pt x="28" y="1018"/>
                  </a:lnTo>
                  <a:lnTo>
                    <a:pt x="55" y="1011"/>
                  </a:lnTo>
                  <a:lnTo>
                    <a:pt x="91" y="999"/>
                  </a:lnTo>
                  <a:lnTo>
                    <a:pt x="125" y="984"/>
                  </a:lnTo>
                  <a:lnTo>
                    <a:pt x="209" y="939"/>
                  </a:lnTo>
                  <a:lnTo>
                    <a:pt x="226" y="932"/>
                  </a:lnTo>
                  <a:lnTo>
                    <a:pt x="252" y="921"/>
                  </a:lnTo>
                  <a:lnTo>
                    <a:pt x="277" y="913"/>
                  </a:lnTo>
                  <a:lnTo>
                    <a:pt x="333" y="858"/>
                  </a:lnTo>
                  <a:lnTo>
                    <a:pt x="387" y="806"/>
                  </a:lnTo>
                  <a:lnTo>
                    <a:pt x="416" y="781"/>
                  </a:lnTo>
                  <a:lnTo>
                    <a:pt x="471" y="734"/>
                  </a:lnTo>
                  <a:lnTo>
                    <a:pt x="558" y="666"/>
                  </a:lnTo>
                  <a:lnTo>
                    <a:pt x="616" y="623"/>
                  </a:lnTo>
                  <a:lnTo>
                    <a:pt x="706" y="561"/>
                  </a:lnTo>
                  <a:lnTo>
                    <a:pt x="796" y="501"/>
                  </a:lnTo>
                  <a:lnTo>
                    <a:pt x="855" y="462"/>
                  </a:lnTo>
                  <a:lnTo>
                    <a:pt x="1124" y="292"/>
                  </a:lnTo>
                  <a:lnTo>
                    <a:pt x="1213" y="234"/>
                  </a:lnTo>
                  <a:lnTo>
                    <a:pt x="1223" y="237"/>
                  </a:lnTo>
                  <a:lnTo>
                    <a:pt x="1228" y="234"/>
                  </a:lnTo>
                  <a:lnTo>
                    <a:pt x="1237" y="231"/>
                  </a:lnTo>
                  <a:lnTo>
                    <a:pt x="1248" y="225"/>
                  </a:lnTo>
                  <a:lnTo>
                    <a:pt x="1257" y="216"/>
                  </a:lnTo>
                  <a:lnTo>
                    <a:pt x="1275" y="197"/>
                  </a:lnTo>
                  <a:lnTo>
                    <a:pt x="1289" y="186"/>
                  </a:lnTo>
                  <a:lnTo>
                    <a:pt x="1299" y="181"/>
                  </a:lnTo>
                  <a:lnTo>
                    <a:pt x="1334" y="161"/>
                  </a:lnTo>
                  <a:lnTo>
                    <a:pt x="1371" y="143"/>
                  </a:lnTo>
                  <a:lnTo>
                    <a:pt x="1503" y="78"/>
                  </a:lnTo>
                  <a:lnTo>
                    <a:pt x="1520" y="68"/>
                  </a:lnTo>
                  <a:lnTo>
                    <a:pt x="1576" y="38"/>
                  </a:lnTo>
                  <a:lnTo>
                    <a:pt x="1594" y="26"/>
                  </a:lnTo>
                  <a:lnTo>
                    <a:pt x="1607" y="28"/>
                  </a:lnTo>
                  <a:lnTo>
                    <a:pt x="1620" y="31"/>
                  </a:lnTo>
                  <a:lnTo>
                    <a:pt x="1630" y="31"/>
                  </a:lnTo>
                  <a:lnTo>
                    <a:pt x="1647" y="28"/>
                  </a:lnTo>
                  <a:lnTo>
                    <a:pt x="1665" y="25"/>
                  </a:lnTo>
                  <a:lnTo>
                    <a:pt x="1694" y="17"/>
                  </a:lnTo>
                  <a:lnTo>
                    <a:pt x="1735" y="0"/>
                  </a:lnTo>
                  <a:close/>
                </a:path>
              </a:pathLst>
            </a:custGeom>
            <a:solidFill>
              <a:srgbClr val="ffe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16"/>
            <p:cNvSpPr/>
            <p:nvPr/>
          </p:nvSpPr>
          <p:spPr>
            <a:xfrm>
              <a:off x="6293880" y="4404960"/>
              <a:ext cx="1372320" cy="717120"/>
            </a:xfrm>
            <a:custGeom>
              <a:avLst/>
              <a:gdLst>
                <a:gd name="textAreaLeft" fmla="*/ 0 w 1372320"/>
                <a:gd name="textAreaRight" fmla="*/ 1372680 w 1372320"/>
                <a:gd name="textAreaTop" fmla="*/ 0 h 717120"/>
                <a:gd name="textAreaBottom" fmla="*/ 717480 h 717120"/>
              </a:gdLst>
              <a:ahLst/>
              <a:rect l="textAreaLeft" t="textAreaTop" r="textAreaRight" b="textAreaBottom"/>
              <a:pathLst>
                <a:path w="2359" h="1130">
                  <a:moveTo>
                    <a:pt x="1149" y="427"/>
                  </a:moveTo>
                  <a:lnTo>
                    <a:pt x="1216" y="460"/>
                  </a:lnTo>
                  <a:lnTo>
                    <a:pt x="1283" y="494"/>
                  </a:lnTo>
                  <a:lnTo>
                    <a:pt x="1324" y="520"/>
                  </a:lnTo>
                  <a:lnTo>
                    <a:pt x="1411" y="571"/>
                  </a:lnTo>
                  <a:lnTo>
                    <a:pt x="1627" y="704"/>
                  </a:lnTo>
                  <a:lnTo>
                    <a:pt x="1690" y="744"/>
                  </a:lnTo>
                  <a:lnTo>
                    <a:pt x="1734" y="769"/>
                  </a:lnTo>
                  <a:lnTo>
                    <a:pt x="1822" y="815"/>
                  </a:lnTo>
                  <a:lnTo>
                    <a:pt x="1845" y="825"/>
                  </a:lnTo>
                  <a:lnTo>
                    <a:pt x="1873" y="842"/>
                  </a:lnTo>
                  <a:lnTo>
                    <a:pt x="1928" y="877"/>
                  </a:lnTo>
                  <a:lnTo>
                    <a:pt x="2012" y="930"/>
                  </a:lnTo>
                  <a:lnTo>
                    <a:pt x="2067" y="963"/>
                  </a:lnTo>
                  <a:lnTo>
                    <a:pt x="2096" y="977"/>
                  </a:lnTo>
                  <a:lnTo>
                    <a:pt x="2110" y="984"/>
                  </a:lnTo>
                  <a:lnTo>
                    <a:pt x="2138" y="996"/>
                  </a:lnTo>
                  <a:lnTo>
                    <a:pt x="2165" y="1006"/>
                  </a:lnTo>
                  <a:lnTo>
                    <a:pt x="2195" y="1013"/>
                  </a:lnTo>
                  <a:lnTo>
                    <a:pt x="2211" y="1015"/>
                  </a:lnTo>
                  <a:lnTo>
                    <a:pt x="2242" y="1018"/>
                  </a:lnTo>
                  <a:lnTo>
                    <a:pt x="2273" y="1018"/>
                  </a:lnTo>
                  <a:lnTo>
                    <a:pt x="2291" y="1016"/>
                  </a:lnTo>
                  <a:lnTo>
                    <a:pt x="2306" y="1013"/>
                  </a:lnTo>
                  <a:lnTo>
                    <a:pt x="2319" y="1013"/>
                  </a:lnTo>
                  <a:lnTo>
                    <a:pt x="2349" y="1007"/>
                  </a:lnTo>
                  <a:lnTo>
                    <a:pt x="2356" y="1007"/>
                  </a:lnTo>
                  <a:lnTo>
                    <a:pt x="2359" y="1008"/>
                  </a:lnTo>
                  <a:lnTo>
                    <a:pt x="2342" y="1029"/>
                  </a:lnTo>
                  <a:lnTo>
                    <a:pt x="2322" y="1048"/>
                  </a:lnTo>
                  <a:lnTo>
                    <a:pt x="2291" y="1072"/>
                  </a:lnTo>
                  <a:lnTo>
                    <a:pt x="2269" y="1086"/>
                  </a:lnTo>
                  <a:lnTo>
                    <a:pt x="2248" y="1096"/>
                  </a:lnTo>
                  <a:lnTo>
                    <a:pt x="2225" y="1106"/>
                  </a:lnTo>
                  <a:lnTo>
                    <a:pt x="2205" y="1113"/>
                  </a:lnTo>
                  <a:lnTo>
                    <a:pt x="2180" y="1120"/>
                  </a:lnTo>
                  <a:lnTo>
                    <a:pt x="2157" y="1125"/>
                  </a:lnTo>
                  <a:lnTo>
                    <a:pt x="2134" y="1129"/>
                  </a:lnTo>
                  <a:lnTo>
                    <a:pt x="2110" y="1130"/>
                  </a:lnTo>
                  <a:lnTo>
                    <a:pt x="2060" y="1130"/>
                  </a:lnTo>
                  <a:lnTo>
                    <a:pt x="2036" y="1129"/>
                  </a:lnTo>
                  <a:lnTo>
                    <a:pt x="2000" y="1126"/>
                  </a:lnTo>
                  <a:lnTo>
                    <a:pt x="1923" y="1075"/>
                  </a:lnTo>
                  <a:lnTo>
                    <a:pt x="1848" y="1023"/>
                  </a:lnTo>
                  <a:lnTo>
                    <a:pt x="1797" y="989"/>
                  </a:lnTo>
                  <a:lnTo>
                    <a:pt x="1546" y="810"/>
                  </a:lnTo>
                  <a:lnTo>
                    <a:pt x="1471" y="756"/>
                  </a:lnTo>
                  <a:lnTo>
                    <a:pt x="1392" y="706"/>
                  </a:lnTo>
                  <a:lnTo>
                    <a:pt x="1316" y="658"/>
                  </a:lnTo>
                  <a:lnTo>
                    <a:pt x="1264" y="628"/>
                  </a:lnTo>
                  <a:lnTo>
                    <a:pt x="1212" y="598"/>
                  </a:lnTo>
                  <a:lnTo>
                    <a:pt x="1136" y="559"/>
                  </a:lnTo>
                  <a:lnTo>
                    <a:pt x="1038" y="512"/>
                  </a:lnTo>
                  <a:lnTo>
                    <a:pt x="938" y="465"/>
                  </a:lnTo>
                  <a:lnTo>
                    <a:pt x="789" y="399"/>
                  </a:lnTo>
                  <a:lnTo>
                    <a:pt x="490" y="271"/>
                  </a:lnTo>
                  <a:lnTo>
                    <a:pt x="440" y="249"/>
                  </a:lnTo>
                  <a:lnTo>
                    <a:pt x="390" y="226"/>
                  </a:lnTo>
                  <a:lnTo>
                    <a:pt x="349" y="214"/>
                  </a:lnTo>
                  <a:lnTo>
                    <a:pt x="268" y="188"/>
                  </a:lnTo>
                  <a:lnTo>
                    <a:pt x="127" y="142"/>
                  </a:lnTo>
                  <a:lnTo>
                    <a:pt x="67" y="123"/>
                  </a:lnTo>
                  <a:lnTo>
                    <a:pt x="52" y="113"/>
                  </a:lnTo>
                  <a:lnTo>
                    <a:pt x="36" y="100"/>
                  </a:lnTo>
                  <a:lnTo>
                    <a:pt x="22" y="84"/>
                  </a:lnTo>
                  <a:lnTo>
                    <a:pt x="12" y="64"/>
                  </a:lnTo>
                  <a:lnTo>
                    <a:pt x="6" y="50"/>
                  </a:lnTo>
                  <a:lnTo>
                    <a:pt x="0" y="33"/>
                  </a:lnTo>
                  <a:lnTo>
                    <a:pt x="23" y="31"/>
                  </a:lnTo>
                  <a:lnTo>
                    <a:pt x="46" y="27"/>
                  </a:lnTo>
                  <a:lnTo>
                    <a:pt x="120" y="8"/>
                  </a:lnTo>
                  <a:lnTo>
                    <a:pt x="141" y="3"/>
                  </a:lnTo>
                  <a:lnTo>
                    <a:pt x="163" y="2"/>
                  </a:lnTo>
                  <a:lnTo>
                    <a:pt x="175" y="0"/>
                  </a:lnTo>
                  <a:lnTo>
                    <a:pt x="234" y="33"/>
                  </a:lnTo>
                  <a:lnTo>
                    <a:pt x="291" y="63"/>
                  </a:lnTo>
                  <a:lnTo>
                    <a:pt x="353" y="90"/>
                  </a:lnTo>
                  <a:lnTo>
                    <a:pt x="383" y="106"/>
                  </a:lnTo>
                  <a:lnTo>
                    <a:pt x="444" y="130"/>
                  </a:lnTo>
                  <a:lnTo>
                    <a:pt x="535" y="166"/>
                  </a:lnTo>
                  <a:lnTo>
                    <a:pt x="786" y="259"/>
                  </a:lnTo>
                  <a:lnTo>
                    <a:pt x="877" y="295"/>
                  </a:lnTo>
                  <a:lnTo>
                    <a:pt x="971" y="335"/>
                  </a:lnTo>
                  <a:lnTo>
                    <a:pt x="1001" y="349"/>
                  </a:lnTo>
                  <a:lnTo>
                    <a:pt x="1061" y="379"/>
                  </a:lnTo>
                  <a:lnTo>
                    <a:pt x="1091" y="394"/>
                  </a:lnTo>
                  <a:lnTo>
                    <a:pt x="1149" y="427"/>
                  </a:lnTo>
                  <a:close/>
                </a:path>
              </a:pathLst>
            </a:custGeom>
            <a:solidFill>
              <a:srgbClr val="ffe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17"/>
            <p:cNvSpPr/>
            <p:nvPr/>
          </p:nvSpPr>
          <p:spPr>
            <a:xfrm>
              <a:off x="7712640" y="4462200"/>
              <a:ext cx="996480" cy="742320"/>
            </a:xfrm>
            <a:custGeom>
              <a:avLst/>
              <a:gdLst>
                <a:gd name="textAreaLeft" fmla="*/ 0 w 996480"/>
                <a:gd name="textAreaRight" fmla="*/ 996840 w 996480"/>
                <a:gd name="textAreaTop" fmla="*/ 0 h 742320"/>
                <a:gd name="textAreaBottom" fmla="*/ 742680 h 742320"/>
              </a:gdLst>
              <a:ahLst/>
              <a:rect l="textAreaLeft" t="textAreaTop" r="textAreaRight" b="textAreaBottom"/>
              <a:pathLst>
                <a:path w="1714" h="1171">
                  <a:moveTo>
                    <a:pt x="1714" y="0"/>
                  </a:moveTo>
                  <a:lnTo>
                    <a:pt x="1688" y="42"/>
                  </a:lnTo>
                  <a:lnTo>
                    <a:pt x="1675" y="61"/>
                  </a:lnTo>
                  <a:lnTo>
                    <a:pt x="1647" y="98"/>
                  </a:lnTo>
                  <a:lnTo>
                    <a:pt x="1617" y="131"/>
                  </a:lnTo>
                  <a:lnTo>
                    <a:pt x="1587" y="158"/>
                  </a:lnTo>
                  <a:lnTo>
                    <a:pt x="1557" y="185"/>
                  </a:lnTo>
                  <a:lnTo>
                    <a:pt x="1508" y="223"/>
                  </a:lnTo>
                  <a:lnTo>
                    <a:pt x="1443" y="269"/>
                  </a:lnTo>
                  <a:lnTo>
                    <a:pt x="1327" y="342"/>
                  </a:lnTo>
                  <a:lnTo>
                    <a:pt x="1277" y="375"/>
                  </a:lnTo>
                  <a:lnTo>
                    <a:pt x="1246" y="400"/>
                  </a:lnTo>
                  <a:lnTo>
                    <a:pt x="1214" y="426"/>
                  </a:lnTo>
                  <a:lnTo>
                    <a:pt x="1130" y="479"/>
                  </a:lnTo>
                  <a:lnTo>
                    <a:pt x="1045" y="536"/>
                  </a:lnTo>
                  <a:lnTo>
                    <a:pt x="991" y="576"/>
                  </a:lnTo>
                  <a:lnTo>
                    <a:pt x="880" y="660"/>
                  </a:lnTo>
                  <a:lnTo>
                    <a:pt x="770" y="747"/>
                  </a:lnTo>
                  <a:lnTo>
                    <a:pt x="500" y="970"/>
                  </a:lnTo>
                  <a:lnTo>
                    <a:pt x="390" y="1057"/>
                  </a:lnTo>
                  <a:lnTo>
                    <a:pt x="336" y="1100"/>
                  </a:lnTo>
                  <a:lnTo>
                    <a:pt x="276" y="1128"/>
                  </a:lnTo>
                  <a:lnTo>
                    <a:pt x="225" y="1150"/>
                  </a:lnTo>
                  <a:lnTo>
                    <a:pt x="202" y="1156"/>
                  </a:lnTo>
                  <a:lnTo>
                    <a:pt x="181" y="1162"/>
                  </a:lnTo>
                  <a:lnTo>
                    <a:pt x="148" y="1169"/>
                  </a:lnTo>
                  <a:lnTo>
                    <a:pt x="127" y="1171"/>
                  </a:lnTo>
                  <a:lnTo>
                    <a:pt x="105" y="1171"/>
                  </a:lnTo>
                  <a:lnTo>
                    <a:pt x="83" y="1169"/>
                  </a:lnTo>
                  <a:lnTo>
                    <a:pt x="61" y="1164"/>
                  </a:lnTo>
                  <a:lnTo>
                    <a:pt x="41" y="1157"/>
                  </a:lnTo>
                  <a:lnTo>
                    <a:pt x="10" y="1140"/>
                  </a:lnTo>
                  <a:lnTo>
                    <a:pt x="0" y="1133"/>
                  </a:lnTo>
                  <a:lnTo>
                    <a:pt x="4" y="1129"/>
                  </a:lnTo>
                  <a:lnTo>
                    <a:pt x="16" y="1122"/>
                  </a:lnTo>
                  <a:lnTo>
                    <a:pt x="26" y="1116"/>
                  </a:lnTo>
                  <a:lnTo>
                    <a:pt x="39" y="1109"/>
                  </a:lnTo>
                  <a:lnTo>
                    <a:pt x="73" y="1095"/>
                  </a:lnTo>
                  <a:lnTo>
                    <a:pt x="91" y="1085"/>
                  </a:lnTo>
                  <a:lnTo>
                    <a:pt x="199" y="1003"/>
                  </a:lnTo>
                  <a:lnTo>
                    <a:pt x="611" y="680"/>
                  </a:lnTo>
                  <a:lnTo>
                    <a:pt x="817" y="522"/>
                  </a:lnTo>
                  <a:lnTo>
                    <a:pt x="918" y="445"/>
                  </a:lnTo>
                  <a:lnTo>
                    <a:pt x="958" y="412"/>
                  </a:lnTo>
                  <a:lnTo>
                    <a:pt x="1015" y="365"/>
                  </a:lnTo>
                  <a:lnTo>
                    <a:pt x="1075" y="323"/>
                  </a:lnTo>
                  <a:lnTo>
                    <a:pt x="1156" y="270"/>
                  </a:lnTo>
                  <a:lnTo>
                    <a:pt x="1238" y="223"/>
                  </a:lnTo>
                  <a:lnTo>
                    <a:pt x="1405" y="128"/>
                  </a:lnTo>
                  <a:lnTo>
                    <a:pt x="1506" y="67"/>
                  </a:lnTo>
                  <a:lnTo>
                    <a:pt x="1547" y="41"/>
                  </a:lnTo>
                  <a:lnTo>
                    <a:pt x="1569" y="27"/>
                  </a:lnTo>
                  <a:lnTo>
                    <a:pt x="1577" y="28"/>
                  </a:lnTo>
                  <a:lnTo>
                    <a:pt x="1586" y="30"/>
                  </a:lnTo>
                  <a:lnTo>
                    <a:pt x="1604" y="30"/>
                  </a:lnTo>
                  <a:lnTo>
                    <a:pt x="1623" y="27"/>
                  </a:lnTo>
                  <a:lnTo>
                    <a:pt x="1643" y="22"/>
                  </a:lnTo>
                  <a:lnTo>
                    <a:pt x="1660" y="18"/>
                  </a:lnTo>
                  <a:lnTo>
                    <a:pt x="1714" y="0"/>
                  </a:lnTo>
                  <a:close/>
                </a:path>
              </a:pathLst>
            </a:custGeom>
            <a:solidFill>
              <a:srgbClr val="ffe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18"/>
            <p:cNvSpPr/>
            <p:nvPr/>
          </p:nvSpPr>
          <p:spPr>
            <a:xfrm>
              <a:off x="6304320" y="4521960"/>
              <a:ext cx="1371240" cy="739800"/>
            </a:xfrm>
            <a:custGeom>
              <a:avLst/>
              <a:gdLst>
                <a:gd name="textAreaLeft" fmla="*/ 0 w 1371240"/>
                <a:gd name="textAreaRight" fmla="*/ 1371600 w 1371240"/>
                <a:gd name="textAreaTop" fmla="*/ 0 h 739800"/>
                <a:gd name="textAreaBottom" fmla="*/ 740160 h 739800"/>
              </a:gdLst>
              <a:ahLst/>
              <a:rect l="textAreaLeft" t="textAreaTop" r="textAreaRight" b="textAreaBottom"/>
              <a:pathLst>
                <a:path w="2356" h="1166">
                  <a:moveTo>
                    <a:pt x="755" y="233"/>
                  </a:moveTo>
                  <a:lnTo>
                    <a:pt x="859" y="276"/>
                  </a:lnTo>
                  <a:lnTo>
                    <a:pt x="963" y="325"/>
                  </a:lnTo>
                  <a:lnTo>
                    <a:pt x="1031" y="358"/>
                  </a:lnTo>
                  <a:lnTo>
                    <a:pt x="1166" y="429"/>
                  </a:lnTo>
                  <a:lnTo>
                    <a:pt x="1267" y="486"/>
                  </a:lnTo>
                  <a:lnTo>
                    <a:pt x="1334" y="525"/>
                  </a:lnTo>
                  <a:lnTo>
                    <a:pt x="1432" y="586"/>
                  </a:lnTo>
                  <a:lnTo>
                    <a:pt x="1531" y="651"/>
                  </a:lnTo>
                  <a:lnTo>
                    <a:pt x="1627" y="718"/>
                  </a:lnTo>
                  <a:lnTo>
                    <a:pt x="1693" y="765"/>
                  </a:lnTo>
                  <a:lnTo>
                    <a:pt x="1788" y="837"/>
                  </a:lnTo>
                  <a:lnTo>
                    <a:pt x="1819" y="862"/>
                  </a:lnTo>
                  <a:lnTo>
                    <a:pt x="1899" y="915"/>
                  </a:lnTo>
                  <a:lnTo>
                    <a:pt x="1946" y="946"/>
                  </a:lnTo>
                  <a:lnTo>
                    <a:pt x="2012" y="983"/>
                  </a:lnTo>
                  <a:lnTo>
                    <a:pt x="2043" y="1000"/>
                  </a:lnTo>
                  <a:lnTo>
                    <a:pt x="2077" y="1014"/>
                  </a:lnTo>
                  <a:lnTo>
                    <a:pt x="2110" y="1028"/>
                  </a:lnTo>
                  <a:lnTo>
                    <a:pt x="2161" y="1045"/>
                  </a:lnTo>
                  <a:lnTo>
                    <a:pt x="2197" y="1053"/>
                  </a:lnTo>
                  <a:lnTo>
                    <a:pt x="2214" y="1056"/>
                  </a:lnTo>
                  <a:lnTo>
                    <a:pt x="2266" y="1064"/>
                  </a:lnTo>
                  <a:lnTo>
                    <a:pt x="2302" y="1066"/>
                  </a:lnTo>
                  <a:lnTo>
                    <a:pt x="2319" y="1064"/>
                  </a:lnTo>
                  <a:lnTo>
                    <a:pt x="2356" y="1062"/>
                  </a:lnTo>
                  <a:lnTo>
                    <a:pt x="2340" y="1076"/>
                  </a:lnTo>
                  <a:lnTo>
                    <a:pt x="2333" y="1083"/>
                  </a:lnTo>
                  <a:lnTo>
                    <a:pt x="2309" y="1100"/>
                  </a:lnTo>
                  <a:lnTo>
                    <a:pt x="2282" y="1114"/>
                  </a:lnTo>
                  <a:lnTo>
                    <a:pt x="2256" y="1126"/>
                  </a:lnTo>
                  <a:lnTo>
                    <a:pt x="2228" y="1134"/>
                  </a:lnTo>
                  <a:lnTo>
                    <a:pt x="2200" y="1141"/>
                  </a:lnTo>
                  <a:lnTo>
                    <a:pt x="2144" y="1151"/>
                  </a:lnTo>
                  <a:lnTo>
                    <a:pt x="2086" y="1162"/>
                  </a:lnTo>
                  <a:lnTo>
                    <a:pt x="2066" y="1166"/>
                  </a:lnTo>
                  <a:lnTo>
                    <a:pt x="2013" y="1131"/>
                  </a:lnTo>
                  <a:lnTo>
                    <a:pt x="1751" y="951"/>
                  </a:lnTo>
                  <a:lnTo>
                    <a:pt x="1489" y="771"/>
                  </a:lnTo>
                  <a:lnTo>
                    <a:pt x="1330" y="667"/>
                  </a:lnTo>
                  <a:lnTo>
                    <a:pt x="1224" y="601"/>
                  </a:lnTo>
                  <a:lnTo>
                    <a:pt x="1118" y="538"/>
                  </a:lnTo>
                  <a:lnTo>
                    <a:pt x="1008" y="479"/>
                  </a:lnTo>
                  <a:lnTo>
                    <a:pt x="899" y="423"/>
                  </a:lnTo>
                  <a:lnTo>
                    <a:pt x="843" y="396"/>
                  </a:lnTo>
                  <a:lnTo>
                    <a:pt x="788" y="372"/>
                  </a:lnTo>
                  <a:lnTo>
                    <a:pt x="732" y="348"/>
                  </a:lnTo>
                  <a:lnTo>
                    <a:pt x="675" y="327"/>
                  </a:lnTo>
                  <a:lnTo>
                    <a:pt x="618" y="306"/>
                  </a:lnTo>
                  <a:lnTo>
                    <a:pt x="561" y="287"/>
                  </a:lnTo>
                  <a:lnTo>
                    <a:pt x="503" y="270"/>
                  </a:lnTo>
                  <a:lnTo>
                    <a:pt x="444" y="255"/>
                  </a:lnTo>
                  <a:lnTo>
                    <a:pt x="385" y="241"/>
                  </a:lnTo>
                  <a:lnTo>
                    <a:pt x="325" y="229"/>
                  </a:lnTo>
                  <a:lnTo>
                    <a:pt x="267" y="227"/>
                  </a:lnTo>
                  <a:lnTo>
                    <a:pt x="232" y="223"/>
                  </a:lnTo>
                  <a:lnTo>
                    <a:pt x="197" y="217"/>
                  </a:lnTo>
                  <a:lnTo>
                    <a:pt x="174" y="210"/>
                  </a:lnTo>
                  <a:lnTo>
                    <a:pt x="151" y="203"/>
                  </a:lnTo>
                  <a:lnTo>
                    <a:pt x="128" y="194"/>
                  </a:lnTo>
                  <a:lnTo>
                    <a:pt x="107" y="182"/>
                  </a:lnTo>
                  <a:lnTo>
                    <a:pt x="86" y="168"/>
                  </a:lnTo>
                  <a:lnTo>
                    <a:pt x="77" y="161"/>
                  </a:lnTo>
                  <a:lnTo>
                    <a:pt x="57" y="142"/>
                  </a:lnTo>
                  <a:lnTo>
                    <a:pt x="49" y="130"/>
                  </a:lnTo>
                  <a:lnTo>
                    <a:pt x="33" y="109"/>
                  </a:lnTo>
                  <a:lnTo>
                    <a:pt x="19" y="81"/>
                  </a:lnTo>
                  <a:lnTo>
                    <a:pt x="5" y="51"/>
                  </a:lnTo>
                  <a:lnTo>
                    <a:pt x="0" y="33"/>
                  </a:lnTo>
                  <a:lnTo>
                    <a:pt x="23" y="29"/>
                  </a:lnTo>
                  <a:lnTo>
                    <a:pt x="76" y="22"/>
                  </a:lnTo>
                  <a:lnTo>
                    <a:pt x="89" y="19"/>
                  </a:lnTo>
                  <a:lnTo>
                    <a:pt x="101" y="15"/>
                  </a:lnTo>
                  <a:lnTo>
                    <a:pt x="121" y="6"/>
                  </a:lnTo>
                  <a:lnTo>
                    <a:pt x="137" y="3"/>
                  </a:lnTo>
                  <a:lnTo>
                    <a:pt x="147" y="0"/>
                  </a:lnTo>
                  <a:lnTo>
                    <a:pt x="164" y="0"/>
                  </a:lnTo>
                  <a:lnTo>
                    <a:pt x="174" y="3"/>
                  </a:lnTo>
                  <a:lnTo>
                    <a:pt x="184" y="6"/>
                  </a:lnTo>
                  <a:lnTo>
                    <a:pt x="220" y="17"/>
                  </a:lnTo>
                  <a:lnTo>
                    <a:pt x="308" y="49"/>
                  </a:lnTo>
                  <a:lnTo>
                    <a:pt x="331" y="57"/>
                  </a:lnTo>
                  <a:lnTo>
                    <a:pt x="353" y="62"/>
                  </a:lnTo>
                  <a:lnTo>
                    <a:pt x="366" y="63"/>
                  </a:lnTo>
                  <a:lnTo>
                    <a:pt x="389" y="77"/>
                  </a:lnTo>
                  <a:lnTo>
                    <a:pt x="426" y="96"/>
                  </a:lnTo>
                  <a:lnTo>
                    <a:pt x="460" y="114"/>
                  </a:lnTo>
                  <a:lnTo>
                    <a:pt x="510" y="134"/>
                  </a:lnTo>
                  <a:lnTo>
                    <a:pt x="560" y="153"/>
                  </a:lnTo>
                  <a:lnTo>
                    <a:pt x="658" y="190"/>
                  </a:lnTo>
                  <a:lnTo>
                    <a:pt x="719" y="215"/>
                  </a:lnTo>
                  <a:lnTo>
                    <a:pt x="755" y="233"/>
                  </a:lnTo>
                  <a:close/>
                </a:path>
              </a:pathLst>
            </a:custGeom>
            <a:solidFill>
              <a:srgbClr val="ffe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9"/>
            <p:cNvSpPr/>
            <p:nvPr/>
          </p:nvSpPr>
          <p:spPr>
            <a:xfrm>
              <a:off x="6297120" y="4566240"/>
              <a:ext cx="2415600" cy="905040"/>
            </a:xfrm>
            <a:custGeom>
              <a:avLst/>
              <a:gdLst>
                <a:gd name="textAreaLeft" fmla="*/ 0 w 2415600"/>
                <a:gd name="textAreaRight" fmla="*/ 2415960 w 2415600"/>
                <a:gd name="textAreaTop" fmla="*/ 0 h 905040"/>
                <a:gd name="textAreaBottom" fmla="*/ 905400 h 905040"/>
              </a:gdLst>
              <a:ahLst/>
              <a:rect l="textAreaLeft" t="textAreaTop" r="textAreaRight" b="textAreaBottom"/>
              <a:pathLst>
                <a:path w="4151" h="1426">
                  <a:moveTo>
                    <a:pt x="4151" y="0"/>
                  </a:moveTo>
                  <a:lnTo>
                    <a:pt x="4129" y="27"/>
                  </a:lnTo>
                  <a:lnTo>
                    <a:pt x="4106" y="52"/>
                  </a:lnTo>
                  <a:lnTo>
                    <a:pt x="4071" y="85"/>
                  </a:lnTo>
                  <a:lnTo>
                    <a:pt x="4048" y="105"/>
                  </a:lnTo>
                  <a:lnTo>
                    <a:pt x="4010" y="133"/>
                  </a:lnTo>
                  <a:lnTo>
                    <a:pt x="3973" y="159"/>
                  </a:lnTo>
                  <a:lnTo>
                    <a:pt x="3830" y="249"/>
                  </a:lnTo>
                  <a:lnTo>
                    <a:pt x="3779" y="284"/>
                  </a:lnTo>
                  <a:lnTo>
                    <a:pt x="3755" y="304"/>
                  </a:lnTo>
                  <a:lnTo>
                    <a:pt x="3483" y="503"/>
                  </a:lnTo>
                  <a:lnTo>
                    <a:pt x="3437" y="537"/>
                  </a:lnTo>
                  <a:lnTo>
                    <a:pt x="3348" y="606"/>
                  </a:lnTo>
                  <a:lnTo>
                    <a:pt x="3258" y="679"/>
                  </a:lnTo>
                  <a:lnTo>
                    <a:pt x="3193" y="734"/>
                  </a:lnTo>
                  <a:lnTo>
                    <a:pt x="3104" y="813"/>
                  </a:lnTo>
                  <a:lnTo>
                    <a:pt x="3040" y="874"/>
                  </a:lnTo>
                  <a:lnTo>
                    <a:pt x="2959" y="944"/>
                  </a:lnTo>
                  <a:lnTo>
                    <a:pt x="2878" y="1012"/>
                  </a:lnTo>
                  <a:lnTo>
                    <a:pt x="2672" y="1172"/>
                  </a:lnTo>
                  <a:lnTo>
                    <a:pt x="2589" y="1241"/>
                  </a:lnTo>
                  <a:lnTo>
                    <a:pt x="2528" y="1293"/>
                  </a:lnTo>
                  <a:lnTo>
                    <a:pt x="2468" y="1346"/>
                  </a:lnTo>
                  <a:lnTo>
                    <a:pt x="2428" y="1383"/>
                  </a:lnTo>
                  <a:lnTo>
                    <a:pt x="2388" y="1422"/>
                  </a:lnTo>
                  <a:lnTo>
                    <a:pt x="2371" y="1426"/>
                  </a:lnTo>
                  <a:lnTo>
                    <a:pt x="2359" y="1426"/>
                  </a:lnTo>
                  <a:lnTo>
                    <a:pt x="2341" y="1422"/>
                  </a:lnTo>
                  <a:lnTo>
                    <a:pt x="2323" y="1415"/>
                  </a:lnTo>
                  <a:lnTo>
                    <a:pt x="2306" y="1407"/>
                  </a:lnTo>
                  <a:lnTo>
                    <a:pt x="2293" y="1400"/>
                  </a:lnTo>
                  <a:lnTo>
                    <a:pt x="2270" y="1384"/>
                  </a:lnTo>
                  <a:lnTo>
                    <a:pt x="2225" y="1350"/>
                  </a:lnTo>
                  <a:lnTo>
                    <a:pt x="2202" y="1334"/>
                  </a:lnTo>
                  <a:lnTo>
                    <a:pt x="2013" y="1191"/>
                  </a:lnTo>
                  <a:lnTo>
                    <a:pt x="1936" y="1137"/>
                  </a:lnTo>
                  <a:lnTo>
                    <a:pt x="1783" y="1027"/>
                  </a:lnTo>
                  <a:lnTo>
                    <a:pt x="1667" y="950"/>
                  </a:lnTo>
                  <a:lnTo>
                    <a:pt x="1510" y="847"/>
                  </a:lnTo>
                  <a:lnTo>
                    <a:pt x="1433" y="798"/>
                  </a:lnTo>
                  <a:lnTo>
                    <a:pt x="1274" y="703"/>
                  </a:lnTo>
                  <a:lnTo>
                    <a:pt x="1154" y="636"/>
                  </a:lnTo>
                  <a:lnTo>
                    <a:pt x="1073" y="594"/>
                  </a:lnTo>
                  <a:lnTo>
                    <a:pt x="992" y="553"/>
                  </a:lnTo>
                  <a:lnTo>
                    <a:pt x="952" y="533"/>
                  </a:lnTo>
                  <a:lnTo>
                    <a:pt x="857" y="470"/>
                  </a:lnTo>
                  <a:lnTo>
                    <a:pt x="793" y="430"/>
                  </a:lnTo>
                  <a:lnTo>
                    <a:pt x="727" y="391"/>
                  </a:lnTo>
                  <a:lnTo>
                    <a:pt x="662" y="358"/>
                  </a:lnTo>
                  <a:lnTo>
                    <a:pt x="611" y="335"/>
                  </a:lnTo>
                  <a:lnTo>
                    <a:pt x="559" y="316"/>
                  </a:lnTo>
                  <a:lnTo>
                    <a:pt x="507" y="299"/>
                  </a:lnTo>
                  <a:lnTo>
                    <a:pt x="471" y="291"/>
                  </a:lnTo>
                  <a:lnTo>
                    <a:pt x="453" y="287"/>
                  </a:lnTo>
                  <a:lnTo>
                    <a:pt x="417" y="282"/>
                  </a:lnTo>
                  <a:lnTo>
                    <a:pt x="315" y="276"/>
                  </a:lnTo>
                  <a:lnTo>
                    <a:pt x="262" y="272"/>
                  </a:lnTo>
                  <a:lnTo>
                    <a:pt x="236" y="268"/>
                  </a:lnTo>
                  <a:lnTo>
                    <a:pt x="209" y="263"/>
                  </a:lnTo>
                  <a:lnTo>
                    <a:pt x="171" y="254"/>
                  </a:lnTo>
                  <a:lnTo>
                    <a:pt x="134" y="239"/>
                  </a:lnTo>
                  <a:lnTo>
                    <a:pt x="121" y="235"/>
                  </a:lnTo>
                  <a:lnTo>
                    <a:pt x="98" y="223"/>
                  </a:lnTo>
                  <a:lnTo>
                    <a:pt x="75" y="206"/>
                  </a:lnTo>
                  <a:lnTo>
                    <a:pt x="53" y="190"/>
                  </a:lnTo>
                  <a:lnTo>
                    <a:pt x="31" y="170"/>
                  </a:lnTo>
                  <a:lnTo>
                    <a:pt x="23" y="158"/>
                  </a:lnTo>
                  <a:lnTo>
                    <a:pt x="6" y="127"/>
                  </a:lnTo>
                  <a:lnTo>
                    <a:pt x="1" y="118"/>
                  </a:lnTo>
                  <a:lnTo>
                    <a:pt x="0" y="113"/>
                  </a:lnTo>
                  <a:lnTo>
                    <a:pt x="1" y="110"/>
                  </a:lnTo>
                  <a:lnTo>
                    <a:pt x="6" y="110"/>
                  </a:lnTo>
                  <a:lnTo>
                    <a:pt x="17" y="116"/>
                  </a:lnTo>
                  <a:lnTo>
                    <a:pt x="50" y="135"/>
                  </a:lnTo>
                  <a:lnTo>
                    <a:pt x="61" y="142"/>
                  </a:lnTo>
                  <a:lnTo>
                    <a:pt x="75" y="142"/>
                  </a:lnTo>
                  <a:lnTo>
                    <a:pt x="77" y="139"/>
                  </a:lnTo>
                  <a:lnTo>
                    <a:pt x="94" y="139"/>
                  </a:lnTo>
                  <a:lnTo>
                    <a:pt x="110" y="142"/>
                  </a:lnTo>
                  <a:lnTo>
                    <a:pt x="128" y="146"/>
                  </a:lnTo>
                  <a:lnTo>
                    <a:pt x="149" y="152"/>
                  </a:lnTo>
                  <a:lnTo>
                    <a:pt x="202" y="170"/>
                  </a:lnTo>
                  <a:lnTo>
                    <a:pt x="223" y="176"/>
                  </a:lnTo>
                  <a:lnTo>
                    <a:pt x="245" y="180"/>
                  </a:lnTo>
                  <a:lnTo>
                    <a:pt x="270" y="180"/>
                  </a:lnTo>
                  <a:lnTo>
                    <a:pt x="325" y="185"/>
                  </a:lnTo>
                  <a:lnTo>
                    <a:pt x="377" y="192"/>
                  </a:lnTo>
                  <a:lnTo>
                    <a:pt x="428" y="203"/>
                  </a:lnTo>
                  <a:lnTo>
                    <a:pt x="477" y="215"/>
                  </a:lnTo>
                  <a:lnTo>
                    <a:pt x="552" y="235"/>
                  </a:lnTo>
                  <a:lnTo>
                    <a:pt x="602" y="252"/>
                  </a:lnTo>
                  <a:lnTo>
                    <a:pt x="652" y="270"/>
                  </a:lnTo>
                  <a:lnTo>
                    <a:pt x="749" y="309"/>
                  </a:lnTo>
                  <a:lnTo>
                    <a:pt x="843" y="352"/>
                  </a:lnTo>
                  <a:lnTo>
                    <a:pt x="1033" y="442"/>
                  </a:lnTo>
                  <a:lnTo>
                    <a:pt x="1140" y="501"/>
                  </a:lnTo>
                  <a:lnTo>
                    <a:pt x="1211" y="542"/>
                  </a:lnTo>
                  <a:lnTo>
                    <a:pt x="1315" y="608"/>
                  </a:lnTo>
                  <a:lnTo>
                    <a:pt x="1385" y="653"/>
                  </a:lnTo>
                  <a:lnTo>
                    <a:pt x="1523" y="746"/>
                  </a:lnTo>
                  <a:lnTo>
                    <a:pt x="1866" y="985"/>
                  </a:lnTo>
                  <a:lnTo>
                    <a:pt x="2006" y="1077"/>
                  </a:lnTo>
                  <a:lnTo>
                    <a:pt x="2108" y="1145"/>
                  </a:lnTo>
                  <a:lnTo>
                    <a:pt x="2144" y="1165"/>
                  </a:lnTo>
                  <a:lnTo>
                    <a:pt x="2171" y="1176"/>
                  </a:lnTo>
                  <a:lnTo>
                    <a:pt x="2196" y="1185"/>
                  </a:lnTo>
                  <a:lnTo>
                    <a:pt x="2225" y="1191"/>
                  </a:lnTo>
                  <a:lnTo>
                    <a:pt x="2255" y="1198"/>
                  </a:lnTo>
                  <a:lnTo>
                    <a:pt x="2285" y="1203"/>
                  </a:lnTo>
                  <a:lnTo>
                    <a:pt x="2313" y="1205"/>
                  </a:lnTo>
                  <a:lnTo>
                    <a:pt x="2359" y="1205"/>
                  </a:lnTo>
                  <a:lnTo>
                    <a:pt x="2388" y="1204"/>
                  </a:lnTo>
                  <a:lnTo>
                    <a:pt x="2418" y="1200"/>
                  </a:lnTo>
                  <a:lnTo>
                    <a:pt x="2447" y="1194"/>
                  </a:lnTo>
                  <a:lnTo>
                    <a:pt x="2461" y="1190"/>
                  </a:lnTo>
                  <a:lnTo>
                    <a:pt x="2489" y="1181"/>
                  </a:lnTo>
                  <a:lnTo>
                    <a:pt x="2517" y="1170"/>
                  </a:lnTo>
                  <a:lnTo>
                    <a:pt x="2544" y="1156"/>
                  </a:lnTo>
                  <a:lnTo>
                    <a:pt x="2568" y="1141"/>
                  </a:lnTo>
                  <a:lnTo>
                    <a:pt x="2591" y="1122"/>
                  </a:lnTo>
                  <a:lnTo>
                    <a:pt x="2739" y="995"/>
                  </a:lnTo>
                  <a:lnTo>
                    <a:pt x="2885" y="871"/>
                  </a:lnTo>
                  <a:lnTo>
                    <a:pt x="3070" y="718"/>
                  </a:lnTo>
                  <a:lnTo>
                    <a:pt x="3146" y="656"/>
                  </a:lnTo>
                  <a:lnTo>
                    <a:pt x="3295" y="539"/>
                  </a:lnTo>
                  <a:lnTo>
                    <a:pt x="3408" y="453"/>
                  </a:lnTo>
                  <a:lnTo>
                    <a:pt x="3521" y="370"/>
                  </a:lnTo>
                  <a:lnTo>
                    <a:pt x="3598" y="316"/>
                  </a:lnTo>
                  <a:lnTo>
                    <a:pt x="3712" y="238"/>
                  </a:lnTo>
                  <a:lnTo>
                    <a:pt x="3792" y="189"/>
                  </a:lnTo>
                  <a:lnTo>
                    <a:pt x="3876" y="127"/>
                  </a:lnTo>
                  <a:lnTo>
                    <a:pt x="3988" y="51"/>
                  </a:lnTo>
                  <a:lnTo>
                    <a:pt x="4017" y="30"/>
                  </a:lnTo>
                  <a:lnTo>
                    <a:pt x="4068" y="25"/>
                  </a:lnTo>
                  <a:lnTo>
                    <a:pt x="4094" y="21"/>
                  </a:lnTo>
                  <a:lnTo>
                    <a:pt x="4111" y="19"/>
                  </a:lnTo>
                  <a:lnTo>
                    <a:pt x="4128" y="13"/>
                  </a:lnTo>
                  <a:lnTo>
                    <a:pt x="4135" y="10"/>
                  </a:lnTo>
                  <a:lnTo>
                    <a:pt x="4151" y="0"/>
                  </a:lnTo>
                  <a:close/>
                </a:path>
              </a:pathLst>
            </a:custGeom>
            <a:solidFill>
              <a:srgbClr val="ffe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20"/>
            <p:cNvSpPr/>
            <p:nvPr/>
          </p:nvSpPr>
          <p:spPr>
            <a:xfrm>
              <a:off x="7449840" y="4590360"/>
              <a:ext cx="290880" cy="88920"/>
            </a:xfrm>
            <a:custGeom>
              <a:avLst/>
              <a:gdLst>
                <a:gd name="textAreaLeft" fmla="*/ 0 w 290880"/>
                <a:gd name="textAreaRight" fmla="*/ 291240 w 290880"/>
                <a:gd name="textAreaTop" fmla="*/ 0 h 88920"/>
                <a:gd name="textAreaBottom" fmla="*/ 89280 h 88920"/>
              </a:gdLst>
              <a:ahLst/>
              <a:rect l="textAreaLeft" t="textAreaTop" r="textAreaRight" b="textAreaBottom"/>
              <a:pathLst>
                <a:path w="500" h="139">
                  <a:moveTo>
                    <a:pt x="500" y="132"/>
                  </a:moveTo>
                  <a:lnTo>
                    <a:pt x="484" y="133"/>
                  </a:lnTo>
                  <a:lnTo>
                    <a:pt x="468" y="134"/>
                  </a:lnTo>
                  <a:lnTo>
                    <a:pt x="454" y="135"/>
                  </a:lnTo>
                  <a:lnTo>
                    <a:pt x="438" y="135"/>
                  </a:lnTo>
                  <a:lnTo>
                    <a:pt x="423" y="138"/>
                  </a:lnTo>
                  <a:lnTo>
                    <a:pt x="407" y="138"/>
                  </a:lnTo>
                  <a:lnTo>
                    <a:pt x="393" y="139"/>
                  </a:lnTo>
                  <a:lnTo>
                    <a:pt x="344" y="139"/>
                  </a:lnTo>
                  <a:lnTo>
                    <a:pt x="313" y="138"/>
                  </a:lnTo>
                  <a:lnTo>
                    <a:pt x="282" y="135"/>
                  </a:lnTo>
                  <a:lnTo>
                    <a:pt x="250" y="134"/>
                  </a:lnTo>
                  <a:lnTo>
                    <a:pt x="219" y="133"/>
                  </a:lnTo>
                  <a:lnTo>
                    <a:pt x="189" y="129"/>
                  </a:lnTo>
                  <a:lnTo>
                    <a:pt x="155" y="127"/>
                  </a:lnTo>
                  <a:lnTo>
                    <a:pt x="125" y="124"/>
                  </a:lnTo>
                  <a:lnTo>
                    <a:pt x="61" y="115"/>
                  </a:lnTo>
                  <a:lnTo>
                    <a:pt x="0" y="109"/>
                  </a:lnTo>
                  <a:lnTo>
                    <a:pt x="18" y="101"/>
                  </a:lnTo>
                  <a:lnTo>
                    <a:pt x="36" y="94"/>
                  </a:lnTo>
                  <a:lnTo>
                    <a:pt x="53" y="87"/>
                  </a:lnTo>
                  <a:lnTo>
                    <a:pt x="71" y="81"/>
                  </a:lnTo>
                  <a:lnTo>
                    <a:pt x="105" y="67"/>
                  </a:lnTo>
                  <a:lnTo>
                    <a:pt x="141" y="54"/>
                  </a:lnTo>
                  <a:lnTo>
                    <a:pt x="178" y="40"/>
                  </a:lnTo>
                  <a:lnTo>
                    <a:pt x="213" y="28"/>
                  </a:lnTo>
                  <a:lnTo>
                    <a:pt x="231" y="21"/>
                  </a:lnTo>
                  <a:lnTo>
                    <a:pt x="249" y="14"/>
                  </a:lnTo>
                  <a:lnTo>
                    <a:pt x="266" y="8"/>
                  </a:lnTo>
                  <a:lnTo>
                    <a:pt x="283" y="0"/>
                  </a:lnTo>
                  <a:lnTo>
                    <a:pt x="310" y="20"/>
                  </a:lnTo>
                  <a:lnTo>
                    <a:pt x="334" y="39"/>
                  </a:lnTo>
                  <a:lnTo>
                    <a:pt x="349" y="48"/>
                  </a:lnTo>
                  <a:lnTo>
                    <a:pt x="361" y="59"/>
                  </a:lnTo>
                  <a:lnTo>
                    <a:pt x="376" y="68"/>
                  </a:lnTo>
                  <a:lnTo>
                    <a:pt x="387" y="76"/>
                  </a:lnTo>
                  <a:lnTo>
                    <a:pt x="401" y="86"/>
                  </a:lnTo>
                  <a:lnTo>
                    <a:pt x="414" y="94"/>
                  </a:lnTo>
                  <a:lnTo>
                    <a:pt x="428" y="101"/>
                  </a:lnTo>
                  <a:lnTo>
                    <a:pt x="443" y="109"/>
                  </a:lnTo>
                  <a:lnTo>
                    <a:pt x="448" y="113"/>
                  </a:lnTo>
                  <a:lnTo>
                    <a:pt x="455" y="115"/>
                  </a:lnTo>
                  <a:lnTo>
                    <a:pt x="463" y="119"/>
                  </a:lnTo>
                  <a:lnTo>
                    <a:pt x="470" y="121"/>
                  </a:lnTo>
                  <a:lnTo>
                    <a:pt x="477" y="124"/>
                  </a:lnTo>
                  <a:lnTo>
                    <a:pt x="484" y="127"/>
                  </a:lnTo>
                  <a:lnTo>
                    <a:pt x="492" y="128"/>
                  </a:lnTo>
                  <a:lnTo>
                    <a:pt x="500" y="132"/>
                  </a:lnTo>
                  <a:close/>
                </a:path>
              </a:pathLst>
            </a:custGeom>
            <a:solidFill>
              <a:srgbClr val="ffefcc"/>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99" name="Freeform 21"/>
            <p:cNvSpPr/>
            <p:nvPr/>
          </p:nvSpPr>
          <p:spPr>
            <a:xfrm>
              <a:off x="6306480" y="4632480"/>
              <a:ext cx="2415600" cy="1004760"/>
            </a:xfrm>
            <a:custGeom>
              <a:avLst/>
              <a:gdLst>
                <a:gd name="textAreaLeft" fmla="*/ 0 w 2415600"/>
                <a:gd name="textAreaRight" fmla="*/ 2415960 w 2415600"/>
                <a:gd name="textAreaTop" fmla="*/ 0 h 1004760"/>
                <a:gd name="textAreaBottom" fmla="*/ 1005120 h 1004760"/>
              </a:gdLst>
              <a:ahLst/>
              <a:rect l="textAreaLeft" t="textAreaTop" r="textAreaRight" b="textAreaBottom"/>
              <a:pathLst>
                <a:path w="4150" h="1583">
                  <a:moveTo>
                    <a:pt x="3831" y="264"/>
                  </a:moveTo>
                  <a:lnTo>
                    <a:pt x="3770" y="305"/>
                  </a:lnTo>
                  <a:lnTo>
                    <a:pt x="3710" y="348"/>
                  </a:lnTo>
                  <a:lnTo>
                    <a:pt x="3629" y="407"/>
                  </a:lnTo>
                  <a:lnTo>
                    <a:pt x="3550" y="471"/>
                  </a:lnTo>
                  <a:lnTo>
                    <a:pt x="3433" y="568"/>
                  </a:lnTo>
                  <a:lnTo>
                    <a:pt x="3278" y="697"/>
                  </a:lnTo>
                  <a:lnTo>
                    <a:pt x="3198" y="763"/>
                  </a:lnTo>
                  <a:lnTo>
                    <a:pt x="3131" y="822"/>
                  </a:lnTo>
                  <a:lnTo>
                    <a:pt x="3110" y="841"/>
                  </a:lnTo>
                  <a:lnTo>
                    <a:pt x="3020" y="917"/>
                  </a:lnTo>
                  <a:lnTo>
                    <a:pt x="2842" y="1067"/>
                  </a:lnTo>
                  <a:lnTo>
                    <a:pt x="2754" y="1144"/>
                  </a:lnTo>
                  <a:lnTo>
                    <a:pt x="2667" y="1224"/>
                  </a:lnTo>
                  <a:lnTo>
                    <a:pt x="2602" y="1286"/>
                  </a:lnTo>
                  <a:lnTo>
                    <a:pt x="2538" y="1353"/>
                  </a:lnTo>
                  <a:lnTo>
                    <a:pt x="2496" y="1400"/>
                  </a:lnTo>
                  <a:lnTo>
                    <a:pt x="2372" y="1583"/>
                  </a:lnTo>
                  <a:lnTo>
                    <a:pt x="2358" y="1571"/>
                  </a:lnTo>
                  <a:lnTo>
                    <a:pt x="2353" y="1564"/>
                  </a:lnTo>
                  <a:lnTo>
                    <a:pt x="2335" y="1542"/>
                  </a:lnTo>
                  <a:lnTo>
                    <a:pt x="2304" y="1492"/>
                  </a:lnTo>
                  <a:lnTo>
                    <a:pt x="2286" y="1471"/>
                  </a:lnTo>
                  <a:lnTo>
                    <a:pt x="2280" y="1463"/>
                  </a:lnTo>
                  <a:lnTo>
                    <a:pt x="2244" y="1433"/>
                  </a:lnTo>
                  <a:lnTo>
                    <a:pt x="2172" y="1373"/>
                  </a:lnTo>
                  <a:lnTo>
                    <a:pt x="2136" y="1344"/>
                  </a:lnTo>
                  <a:lnTo>
                    <a:pt x="2062" y="1287"/>
                  </a:lnTo>
                  <a:lnTo>
                    <a:pt x="1990" y="1234"/>
                  </a:lnTo>
                  <a:lnTo>
                    <a:pt x="1876" y="1158"/>
                  </a:lnTo>
                  <a:lnTo>
                    <a:pt x="1763" y="1086"/>
                  </a:lnTo>
                  <a:lnTo>
                    <a:pt x="1649" y="1016"/>
                  </a:lnTo>
                  <a:lnTo>
                    <a:pt x="1534" y="949"/>
                  </a:lnTo>
                  <a:lnTo>
                    <a:pt x="1228" y="774"/>
                  </a:lnTo>
                  <a:lnTo>
                    <a:pt x="1076" y="684"/>
                  </a:lnTo>
                  <a:lnTo>
                    <a:pt x="1020" y="658"/>
                  </a:lnTo>
                  <a:lnTo>
                    <a:pt x="968" y="629"/>
                  </a:lnTo>
                  <a:lnTo>
                    <a:pt x="827" y="545"/>
                  </a:lnTo>
                  <a:lnTo>
                    <a:pt x="774" y="516"/>
                  </a:lnTo>
                  <a:lnTo>
                    <a:pt x="720" y="490"/>
                  </a:lnTo>
                  <a:lnTo>
                    <a:pt x="684" y="473"/>
                  </a:lnTo>
                  <a:lnTo>
                    <a:pt x="647" y="459"/>
                  </a:lnTo>
                  <a:lnTo>
                    <a:pt x="609" y="446"/>
                  </a:lnTo>
                  <a:lnTo>
                    <a:pt x="589" y="440"/>
                  </a:lnTo>
                  <a:lnTo>
                    <a:pt x="550" y="433"/>
                  </a:lnTo>
                  <a:lnTo>
                    <a:pt x="512" y="426"/>
                  </a:lnTo>
                  <a:lnTo>
                    <a:pt x="492" y="425"/>
                  </a:lnTo>
                  <a:lnTo>
                    <a:pt x="475" y="420"/>
                  </a:lnTo>
                  <a:lnTo>
                    <a:pt x="459" y="416"/>
                  </a:lnTo>
                  <a:lnTo>
                    <a:pt x="424" y="410"/>
                  </a:lnTo>
                  <a:lnTo>
                    <a:pt x="390" y="406"/>
                  </a:lnTo>
                  <a:lnTo>
                    <a:pt x="317" y="400"/>
                  </a:lnTo>
                  <a:lnTo>
                    <a:pt x="280" y="398"/>
                  </a:lnTo>
                  <a:lnTo>
                    <a:pt x="244" y="393"/>
                  </a:lnTo>
                  <a:lnTo>
                    <a:pt x="209" y="388"/>
                  </a:lnTo>
                  <a:lnTo>
                    <a:pt x="176" y="379"/>
                  </a:lnTo>
                  <a:lnTo>
                    <a:pt x="159" y="374"/>
                  </a:lnTo>
                  <a:lnTo>
                    <a:pt x="126" y="360"/>
                  </a:lnTo>
                  <a:lnTo>
                    <a:pt x="112" y="353"/>
                  </a:lnTo>
                  <a:lnTo>
                    <a:pt x="98" y="341"/>
                  </a:lnTo>
                  <a:lnTo>
                    <a:pt x="84" y="331"/>
                  </a:lnTo>
                  <a:lnTo>
                    <a:pt x="71" y="319"/>
                  </a:lnTo>
                  <a:lnTo>
                    <a:pt x="58" y="305"/>
                  </a:lnTo>
                  <a:lnTo>
                    <a:pt x="48" y="288"/>
                  </a:lnTo>
                  <a:lnTo>
                    <a:pt x="35" y="272"/>
                  </a:lnTo>
                  <a:lnTo>
                    <a:pt x="27" y="253"/>
                  </a:lnTo>
                  <a:lnTo>
                    <a:pt x="15" y="231"/>
                  </a:lnTo>
                  <a:lnTo>
                    <a:pt x="8" y="207"/>
                  </a:lnTo>
                  <a:lnTo>
                    <a:pt x="0" y="179"/>
                  </a:lnTo>
                  <a:lnTo>
                    <a:pt x="1" y="169"/>
                  </a:lnTo>
                  <a:lnTo>
                    <a:pt x="1" y="162"/>
                  </a:lnTo>
                  <a:lnTo>
                    <a:pt x="30" y="162"/>
                  </a:lnTo>
                  <a:lnTo>
                    <a:pt x="71" y="165"/>
                  </a:lnTo>
                  <a:lnTo>
                    <a:pt x="111" y="169"/>
                  </a:lnTo>
                  <a:lnTo>
                    <a:pt x="165" y="178"/>
                  </a:lnTo>
                  <a:lnTo>
                    <a:pt x="306" y="202"/>
                  </a:lnTo>
                  <a:lnTo>
                    <a:pt x="348" y="208"/>
                  </a:lnTo>
                  <a:lnTo>
                    <a:pt x="405" y="213"/>
                  </a:lnTo>
                  <a:lnTo>
                    <a:pt x="449" y="216"/>
                  </a:lnTo>
                  <a:lnTo>
                    <a:pt x="468" y="220"/>
                  </a:lnTo>
                  <a:lnTo>
                    <a:pt x="489" y="225"/>
                  </a:lnTo>
                  <a:lnTo>
                    <a:pt x="509" y="229"/>
                  </a:lnTo>
                  <a:lnTo>
                    <a:pt x="548" y="241"/>
                  </a:lnTo>
                  <a:lnTo>
                    <a:pt x="586" y="255"/>
                  </a:lnTo>
                  <a:lnTo>
                    <a:pt x="623" y="273"/>
                  </a:lnTo>
                  <a:lnTo>
                    <a:pt x="660" y="291"/>
                  </a:lnTo>
                  <a:lnTo>
                    <a:pt x="697" y="311"/>
                  </a:lnTo>
                  <a:lnTo>
                    <a:pt x="751" y="341"/>
                  </a:lnTo>
                  <a:lnTo>
                    <a:pt x="929" y="454"/>
                  </a:lnTo>
                  <a:lnTo>
                    <a:pt x="983" y="487"/>
                  </a:lnTo>
                  <a:lnTo>
                    <a:pt x="1020" y="506"/>
                  </a:lnTo>
                  <a:lnTo>
                    <a:pt x="1079" y="534"/>
                  </a:lnTo>
                  <a:lnTo>
                    <a:pt x="1160" y="576"/>
                  </a:lnTo>
                  <a:lnTo>
                    <a:pt x="1198" y="597"/>
                  </a:lnTo>
                  <a:lnTo>
                    <a:pt x="1278" y="641"/>
                  </a:lnTo>
                  <a:lnTo>
                    <a:pt x="1358" y="688"/>
                  </a:lnTo>
                  <a:lnTo>
                    <a:pt x="1473" y="760"/>
                  </a:lnTo>
                  <a:lnTo>
                    <a:pt x="1587" y="836"/>
                  </a:lnTo>
                  <a:lnTo>
                    <a:pt x="1703" y="915"/>
                  </a:lnTo>
                  <a:lnTo>
                    <a:pt x="1894" y="1052"/>
                  </a:lnTo>
                  <a:lnTo>
                    <a:pt x="2195" y="1271"/>
                  </a:lnTo>
                  <a:lnTo>
                    <a:pt x="2270" y="1325"/>
                  </a:lnTo>
                  <a:lnTo>
                    <a:pt x="2280" y="1333"/>
                  </a:lnTo>
                  <a:lnTo>
                    <a:pt x="2288" y="1339"/>
                  </a:lnTo>
                  <a:lnTo>
                    <a:pt x="2303" y="1344"/>
                  </a:lnTo>
                  <a:lnTo>
                    <a:pt x="2314" y="1349"/>
                  </a:lnTo>
                  <a:lnTo>
                    <a:pt x="2321" y="1350"/>
                  </a:lnTo>
                  <a:lnTo>
                    <a:pt x="2335" y="1352"/>
                  </a:lnTo>
                  <a:lnTo>
                    <a:pt x="2364" y="1356"/>
                  </a:lnTo>
                  <a:lnTo>
                    <a:pt x="2378" y="1357"/>
                  </a:lnTo>
                  <a:lnTo>
                    <a:pt x="2412" y="1318"/>
                  </a:lnTo>
                  <a:lnTo>
                    <a:pt x="2466" y="1263"/>
                  </a:lnTo>
                  <a:lnTo>
                    <a:pt x="2520" y="1211"/>
                  </a:lnTo>
                  <a:lnTo>
                    <a:pt x="2594" y="1147"/>
                  </a:lnTo>
                  <a:lnTo>
                    <a:pt x="2633" y="1117"/>
                  </a:lnTo>
                  <a:lnTo>
                    <a:pt x="2864" y="936"/>
                  </a:lnTo>
                  <a:lnTo>
                    <a:pt x="2920" y="892"/>
                  </a:lnTo>
                  <a:lnTo>
                    <a:pt x="2976" y="843"/>
                  </a:lnTo>
                  <a:lnTo>
                    <a:pt x="3073" y="755"/>
                  </a:lnTo>
                  <a:lnTo>
                    <a:pt x="3170" y="669"/>
                  </a:lnTo>
                  <a:lnTo>
                    <a:pt x="3269" y="586"/>
                  </a:lnTo>
                  <a:lnTo>
                    <a:pt x="3400" y="479"/>
                  </a:lnTo>
                  <a:lnTo>
                    <a:pt x="3500" y="403"/>
                  </a:lnTo>
                  <a:lnTo>
                    <a:pt x="3635" y="302"/>
                  </a:lnTo>
                  <a:lnTo>
                    <a:pt x="3735" y="231"/>
                  </a:lnTo>
                  <a:lnTo>
                    <a:pt x="3873" y="136"/>
                  </a:lnTo>
                  <a:lnTo>
                    <a:pt x="3974" y="69"/>
                  </a:lnTo>
                  <a:lnTo>
                    <a:pt x="4043" y="26"/>
                  </a:lnTo>
                  <a:lnTo>
                    <a:pt x="4085" y="21"/>
                  </a:lnTo>
                  <a:lnTo>
                    <a:pt x="4112" y="15"/>
                  </a:lnTo>
                  <a:lnTo>
                    <a:pt x="4133" y="8"/>
                  </a:lnTo>
                  <a:lnTo>
                    <a:pt x="4150" y="0"/>
                  </a:lnTo>
                  <a:lnTo>
                    <a:pt x="4126" y="30"/>
                  </a:lnTo>
                  <a:lnTo>
                    <a:pt x="4098" y="59"/>
                  </a:lnTo>
                  <a:lnTo>
                    <a:pt x="4061" y="96"/>
                  </a:lnTo>
                  <a:lnTo>
                    <a:pt x="4019" y="129"/>
                  </a:lnTo>
                  <a:lnTo>
                    <a:pt x="3979" y="162"/>
                  </a:lnTo>
                  <a:lnTo>
                    <a:pt x="3915" y="207"/>
                  </a:lnTo>
                  <a:lnTo>
                    <a:pt x="3831" y="264"/>
                  </a:lnTo>
                  <a:close/>
                </a:path>
              </a:pathLst>
            </a:custGeom>
            <a:solidFill>
              <a:srgbClr val="ffe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22"/>
            <p:cNvSpPr/>
            <p:nvPr/>
          </p:nvSpPr>
          <p:spPr>
            <a:xfrm>
              <a:off x="6296040" y="4719960"/>
              <a:ext cx="2407320" cy="1034280"/>
            </a:xfrm>
            <a:custGeom>
              <a:avLst/>
              <a:gdLst>
                <a:gd name="textAreaLeft" fmla="*/ 0 w 2407320"/>
                <a:gd name="textAreaRight" fmla="*/ 2407680 w 2407320"/>
                <a:gd name="textAreaTop" fmla="*/ 0 h 1034280"/>
                <a:gd name="textAreaBottom" fmla="*/ 1034640 h 1034280"/>
              </a:gdLst>
              <a:ahLst/>
              <a:rect l="textAreaLeft" t="textAreaTop" r="textAreaRight" b="textAreaBottom"/>
              <a:pathLst>
                <a:path w="4136" h="1629">
                  <a:moveTo>
                    <a:pt x="3912" y="211"/>
                  </a:moveTo>
                  <a:lnTo>
                    <a:pt x="3735" y="340"/>
                  </a:lnTo>
                  <a:lnTo>
                    <a:pt x="3512" y="505"/>
                  </a:lnTo>
                  <a:lnTo>
                    <a:pt x="3424" y="572"/>
                  </a:lnTo>
                  <a:lnTo>
                    <a:pt x="3295" y="675"/>
                  </a:lnTo>
                  <a:lnTo>
                    <a:pt x="3206" y="743"/>
                  </a:lnTo>
                  <a:lnTo>
                    <a:pt x="3056" y="901"/>
                  </a:lnTo>
                  <a:lnTo>
                    <a:pt x="2953" y="1008"/>
                  </a:lnTo>
                  <a:lnTo>
                    <a:pt x="2804" y="1172"/>
                  </a:lnTo>
                  <a:lnTo>
                    <a:pt x="2704" y="1284"/>
                  </a:lnTo>
                  <a:lnTo>
                    <a:pt x="2606" y="1398"/>
                  </a:lnTo>
                  <a:lnTo>
                    <a:pt x="2462" y="1571"/>
                  </a:lnTo>
                  <a:lnTo>
                    <a:pt x="2414" y="1629"/>
                  </a:lnTo>
                  <a:lnTo>
                    <a:pt x="2358" y="1601"/>
                  </a:lnTo>
                  <a:lnTo>
                    <a:pt x="2276" y="1555"/>
                  </a:lnTo>
                  <a:lnTo>
                    <a:pt x="2220" y="1519"/>
                  </a:lnTo>
                  <a:lnTo>
                    <a:pt x="2142" y="1468"/>
                  </a:lnTo>
                  <a:lnTo>
                    <a:pt x="2034" y="1395"/>
                  </a:lnTo>
                  <a:lnTo>
                    <a:pt x="1981" y="1357"/>
                  </a:lnTo>
                  <a:lnTo>
                    <a:pt x="1718" y="1162"/>
                  </a:lnTo>
                  <a:lnTo>
                    <a:pt x="1612" y="1087"/>
                  </a:lnTo>
                  <a:lnTo>
                    <a:pt x="1557" y="1052"/>
                  </a:lnTo>
                  <a:lnTo>
                    <a:pt x="1476" y="1000"/>
                  </a:lnTo>
                  <a:lnTo>
                    <a:pt x="1396" y="947"/>
                  </a:lnTo>
                  <a:lnTo>
                    <a:pt x="1275" y="862"/>
                  </a:lnTo>
                  <a:lnTo>
                    <a:pt x="1114" y="751"/>
                  </a:lnTo>
                  <a:lnTo>
                    <a:pt x="993" y="668"/>
                  </a:lnTo>
                  <a:lnTo>
                    <a:pt x="911" y="618"/>
                  </a:lnTo>
                  <a:lnTo>
                    <a:pt x="717" y="529"/>
                  </a:lnTo>
                  <a:lnTo>
                    <a:pt x="620" y="486"/>
                  </a:lnTo>
                  <a:lnTo>
                    <a:pt x="523" y="445"/>
                  </a:lnTo>
                  <a:lnTo>
                    <a:pt x="425" y="407"/>
                  </a:lnTo>
                  <a:lnTo>
                    <a:pt x="327" y="372"/>
                  </a:lnTo>
                  <a:lnTo>
                    <a:pt x="276" y="354"/>
                  </a:lnTo>
                  <a:lnTo>
                    <a:pt x="200" y="333"/>
                  </a:lnTo>
                  <a:lnTo>
                    <a:pt x="150" y="319"/>
                  </a:lnTo>
                  <a:lnTo>
                    <a:pt x="125" y="313"/>
                  </a:lnTo>
                  <a:lnTo>
                    <a:pt x="96" y="304"/>
                  </a:lnTo>
                  <a:lnTo>
                    <a:pt x="78" y="295"/>
                  </a:lnTo>
                  <a:lnTo>
                    <a:pt x="69" y="291"/>
                  </a:lnTo>
                  <a:lnTo>
                    <a:pt x="48" y="277"/>
                  </a:lnTo>
                  <a:lnTo>
                    <a:pt x="37" y="266"/>
                  </a:lnTo>
                  <a:lnTo>
                    <a:pt x="22" y="249"/>
                  </a:lnTo>
                  <a:lnTo>
                    <a:pt x="12" y="235"/>
                  </a:lnTo>
                  <a:lnTo>
                    <a:pt x="2" y="220"/>
                  </a:lnTo>
                  <a:lnTo>
                    <a:pt x="0" y="207"/>
                  </a:lnTo>
                  <a:lnTo>
                    <a:pt x="14" y="219"/>
                  </a:lnTo>
                  <a:lnTo>
                    <a:pt x="38" y="229"/>
                  </a:lnTo>
                  <a:lnTo>
                    <a:pt x="54" y="238"/>
                  </a:lnTo>
                  <a:lnTo>
                    <a:pt x="88" y="247"/>
                  </a:lnTo>
                  <a:lnTo>
                    <a:pt x="113" y="252"/>
                  </a:lnTo>
                  <a:lnTo>
                    <a:pt x="129" y="254"/>
                  </a:lnTo>
                  <a:lnTo>
                    <a:pt x="216" y="266"/>
                  </a:lnTo>
                  <a:lnTo>
                    <a:pt x="233" y="268"/>
                  </a:lnTo>
                  <a:lnTo>
                    <a:pt x="269" y="275"/>
                  </a:lnTo>
                  <a:lnTo>
                    <a:pt x="303" y="277"/>
                  </a:lnTo>
                  <a:lnTo>
                    <a:pt x="337" y="278"/>
                  </a:lnTo>
                  <a:lnTo>
                    <a:pt x="388" y="283"/>
                  </a:lnTo>
                  <a:lnTo>
                    <a:pt x="438" y="291"/>
                  </a:lnTo>
                  <a:lnTo>
                    <a:pt x="502" y="304"/>
                  </a:lnTo>
                  <a:lnTo>
                    <a:pt x="552" y="314"/>
                  </a:lnTo>
                  <a:lnTo>
                    <a:pt x="599" y="328"/>
                  </a:lnTo>
                  <a:lnTo>
                    <a:pt x="632" y="339"/>
                  </a:lnTo>
                  <a:lnTo>
                    <a:pt x="679" y="357"/>
                  </a:lnTo>
                  <a:lnTo>
                    <a:pt x="708" y="369"/>
                  </a:lnTo>
                  <a:lnTo>
                    <a:pt x="768" y="395"/>
                  </a:lnTo>
                  <a:lnTo>
                    <a:pt x="784" y="404"/>
                  </a:lnTo>
                  <a:lnTo>
                    <a:pt x="865" y="451"/>
                  </a:lnTo>
                  <a:lnTo>
                    <a:pt x="1440" y="773"/>
                  </a:lnTo>
                  <a:lnTo>
                    <a:pt x="1604" y="868"/>
                  </a:lnTo>
                  <a:lnTo>
                    <a:pt x="1769" y="968"/>
                  </a:lnTo>
                  <a:lnTo>
                    <a:pt x="1850" y="1019"/>
                  </a:lnTo>
                  <a:lnTo>
                    <a:pt x="1970" y="1099"/>
                  </a:lnTo>
                  <a:lnTo>
                    <a:pt x="2089" y="1184"/>
                  </a:lnTo>
                  <a:lnTo>
                    <a:pt x="2227" y="1300"/>
                  </a:lnTo>
                  <a:lnTo>
                    <a:pt x="2277" y="1346"/>
                  </a:lnTo>
                  <a:lnTo>
                    <a:pt x="2305" y="1377"/>
                  </a:lnTo>
                  <a:lnTo>
                    <a:pt x="2323" y="1398"/>
                  </a:lnTo>
                  <a:lnTo>
                    <a:pt x="2351" y="1431"/>
                  </a:lnTo>
                  <a:lnTo>
                    <a:pt x="2375" y="1468"/>
                  </a:lnTo>
                  <a:lnTo>
                    <a:pt x="2394" y="1493"/>
                  </a:lnTo>
                  <a:lnTo>
                    <a:pt x="2411" y="1457"/>
                  </a:lnTo>
                  <a:lnTo>
                    <a:pt x="2451" y="1390"/>
                  </a:lnTo>
                  <a:lnTo>
                    <a:pt x="2472" y="1358"/>
                  </a:lnTo>
                  <a:lnTo>
                    <a:pt x="2493" y="1327"/>
                  </a:lnTo>
                  <a:lnTo>
                    <a:pt x="2515" y="1298"/>
                  </a:lnTo>
                  <a:lnTo>
                    <a:pt x="2560" y="1241"/>
                  </a:lnTo>
                  <a:lnTo>
                    <a:pt x="2583" y="1214"/>
                  </a:lnTo>
                  <a:lnTo>
                    <a:pt x="2629" y="1162"/>
                  </a:lnTo>
                  <a:lnTo>
                    <a:pt x="2678" y="1114"/>
                  </a:lnTo>
                  <a:lnTo>
                    <a:pt x="2728" y="1067"/>
                  </a:lnTo>
                  <a:lnTo>
                    <a:pt x="2804" y="1001"/>
                  </a:lnTo>
                  <a:lnTo>
                    <a:pt x="3036" y="810"/>
                  </a:lnTo>
                  <a:lnTo>
                    <a:pt x="3087" y="767"/>
                  </a:lnTo>
                  <a:lnTo>
                    <a:pt x="3135" y="721"/>
                  </a:lnTo>
                  <a:lnTo>
                    <a:pt x="3161" y="697"/>
                  </a:lnTo>
                  <a:lnTo>
                    <a:pt x="3466" y="445"/>
                  </a:lnTo>
                  <a:lnTo>
                    <a:pt x="3618" y="321"/>
                  </a:lnTo>
                  <a:lnTo>
                    <a:pt x="3720" y="242"/>
                  </a:lnTo>
                  <a:lnTo>
                    <a:pt x="3773" y="205"/>
                  </a:lnTo>
                  <a:lnTo>
                    <a:pt x="3850" y="148"/>
                  </a:lnTo>
                  <a:lnTo>
                    <a:pt x="3930" y="95"/>
                  </a:lnTo>
                  <a:lnTo>
                    <a:pt x="3982" y="62"/>
                  </a:lnTo>
                  <a:lnTo>
                    <a:pt x="3995" y="48"/>
                  </a:lnTo>
                  <a:lnTo>
                    <a:pt x="4008" y="39"/>
                  </a:lnTo>
                  <a:lnTo>
                    <a:pt x="4016" y="33"/>
                  </a:lnTo>
                  <a:lnTo>
                    <a:pt x="4032" y="23"/>
                  </a:lnTo>
                  <a:lnTo>
                    <a:pt x="4049" y="18"/>
                  </a:lnTo>
                  <a:lnTo>
                    <a:pt x="4068" y="14"/>
                  </a:lnTo>
                  <a:lnTo>
                    <a:pt x="4085" y="10"/>
                  </a:lnTo>
                  <a:lnTo>
                    <a:pt x="4125" y="6"/>
                  </a:lnTo>
                  <a:lnTo>
                    <a:pt x="4127" y="2"/>
                  </a:lnTo>
                  <a:lnTo>
                    <a:pt x="4132" y="2"/>
                  </a:lnTo>
                  <a:lnTo>
                    <a:pt x="4135" y="1"/>
                  </a:lnTo>
                  <a:lnTo>
                    <a:pt x="4136" y="0"/>
                  </a:lnTo>
                  <a:lnTo>
                    <a:pt x="4112" y="30"/>
                  </a:lnTo>
                  <a:lnTo>
                    <a:pt x="4086" y="61"/>
                  </a:lnTo>
                  <a:lnTo>
                    <a:pt x="4072" y="74"/>
                  </a:lnTo>
                  <a:lnTo>
                    <a:pt x="4031" y="114"/>
                  </a:lnTo>
                  <a:lnTo>
                    <a:pt x="3971" y="163"/>
                  </a:lnTo>
                  <a:lnTo>
                    <a:pt x="3912" y="211"/>
                  </a:lnTo>
                  <a:close/>
                </a:path>
              </a:pathLst>
            </a:custGeom>
            <a:solidFill>
              <a:srgbClr val="ffe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23"/>
            <p:cNvSpPr/>
            <p:nvPr/>
          </p:nvSpPr>
          <p:spPr>
            <a:xfrm>
              <a:off x="7485840" y="4747680"/>
              <a:ext cx="312840" cy="90000"/>
            </a:xfrm>
            <a:custGeom>
              <a:avLst/>
              <a:gdLst>
                <a:gd name="textAreaLeft" fmla="*/ 0 w 312840"/>
                <a:gd name="textAreaRight" fmla="*/ 313200 w 312840"/>
                <a:gd name="textAreaTop" fmla="*/ 0 h 90000"/>
                <a:gd name="textAreaBottom" fmla="*/ 90360 h 90000"/>
              </a:gdLst>
              <a:ahLst/>
              <a:rect l="textAreaLeft" t="textAreaTop" r="textAreaRight" b="textAreaBottom"/>
              <a:pathLst>
                <a:path w="538" h="143">
                  <a:moveTo>
                    <a:pt x="538" y="116"/>
                  </a:moveTo>
                  <a:lnTo>
                    <a:pt x="339" y="138"/>
                  </a:lnTo>
                  <a:lnTo>
                    <a:pt x="305" y="142"/>
                  </a:lnTo>
                  <a:lnTo>
                    <a:pt x="252" y="143"/>
                  </a:lnTo>
                  <a:lnTo>
                    <a:pt x="168" y="143"/>
                  </a:lnTo>
                  <a:lnTo>
                    <a:pt x="133" y="139"/>
                  </a:lnTo>
                  <a:lnTo>
                    <a:pt x="100" y="135"/>
                  </a:lnTo>
                  <a:lnTo>
                    <a:pt x="50" y="124"/>
                  </a:lnTo>
                  <a:lnTo>
                    <a:pt x="34" y="119"/>
                  </a:lnTo>
                  <a:lnTo>
                    <a:pt x="0" y="109"/>
                  </a:lnTo>
                  <a:lnTo>
                    <a:pt x="47" y="100"/>
                  </a:lnTo>
                  <a:lnTo>
                    <a:pt x="114" y="85"/>
                  </a:lnTo>
                  <a:lnTo>
                    <a:pt x="182" y="66"/>
                  </a:lnTo>
                  <a:lnTo>
                    <a:pt x="249" y="45"/>
                  </a:lnTo>
                  <a:lnTo>
                    <a:pt x="293" y="28"/>
                  </a:lnTo>
                  <a:lnTo>
                    <a:pt x="337" y="10"/>
                  </a:lnTo>
                  <a:lnTo>
                    <a:pt x="359" y="0"/>
                  </a:lnTo>
                  <a:lnTo>
                    <a:pt x="423" y="53"/>
                  </a:lnTo>
                  <a:lnTo>
                    <a:pt x="458" y="78"/>
                  </a:lnTo>
                  <a:lnTo>
                    <a:pt x="491" y="100"/>
                  </a:lnTo>
                  <a:lnTo>
                    <a:pt x="510" y="109"/>
                  </a:lnTo>
                  <a:lnTo>
                    <a:pt x="520" y="113"/>
                  </a:lnTo>
                  <a:lnTo>
                    <a:pt x="538" y="116"/>
                  </a:lnTo>
                  <a:close/>
                </a:path>
              </a:pathLst>
            </a:custGeom>
            <a:solidFill>
              <a:srgbClr val="ffefcc"/>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2" name="Freeform 24"/>
            <p:cNvSpPr/>
            <p:nvPr/>
          </p:nvSpPr>
          <p:spPr>
            <a:xfrm>
              <a:off x="6279840" y="4773240"/>
              <a:ext cx="2451600" cy="1035720"/>
            </a:xfrm>
            <a:custGeom>
              <a:avLst/>
              <a:gdLst>
                <a:gd name="textAreaLeft" fmla="*/ 0 w 2451600"/>
                <a:gd name="textAreaRight" fmla="*/ 2451960 w 2451600"/>
                <a:gd name="textAreaTop" fmla="*/ 0 h 1035720"/>
                <a:gd name="textAreaBottom" fmla="*/ 1036080 h 1035720"/>
              </a:gdLst>
              <a:ahLst/>
              <a:rect l="textAreaLeft" t="textAreaTop" r="textAreaRight" b="textAreaBottom"/>
              <a:pathLst>
                <a:path w="4212" h="1632">
                  <a:moveTo>
                    <a:pt x="4212" y="29"/>
                  </a:moveTo>
                  <a:lnTo>
                    <a:pt x="4189" y="50"/>
                  </a:lnTo>
                  <a:lnTo>
                    <a:pt x="4164" y="69"/>
                  </a:lnTo>
                  <a:lnTo>
                    <a:pt x="4124" y="95"/>
                  </a:lnTo>
                  <a:lnTo>
                    <a:pt x="4082" y="119"/>
                  </a:lnTo>
                  <a:lnTo>
                    <a:pt x="4054" y="138"/>
                  </a:lnTo>
                  <a:lnTo>
                    <a:pt x="4027" y="157"/>
                  </a:lnTo>
                  <a:lnTo>
                    <a:pt x="4001" y="178"/>
                  </a:lnTo>
                  <a:lnTo>
                    <a:pt x="3699" y="409"/>
                  </a:lnTo>
                  <a:lnTo>
                    <a:pt x="3579" y="500"/>
                  </a:lnTo>
                  <a:lnTo>
                    <a:pt x="3519" y="546"/>
                  </a:lnTo>
                  <a:lnTo>
                    <a:pt x="3466" y="600"/>
                  </a:lnTo>
                  <a:lnTo>
                    <a:pt x="3413" y="655"/>
                  </a:lnTo>
                  <a:lnTo>
                    <a:pt x="3227" y="837"/>
                  </a:lnTo>
                  <a:lnTo>
                    <a:pt x="3174" y="892"/>
                  </a:lnTo>
                  <a:lnTo>
                    <a:pt x="3123" y="946"/>
                  </a:lnTo>
                  <a:lnTo>
                    <a:pt x="3079" y="998"/>
                  </a:lnTo>
                  <a:lnTo>
                    <a:pt x="3022" y="1068"/>
                  </a:lnTo>
                  <a:lnTo>
                    <a:pt x="2877" y="1260"/>
                  </a:lnTo>
                  <a:lnTo>
                    <a:pt x="2840" y="1307"/>
                  </a:lnTo>
                  <a:lnTo>
                    <a:pt x="2803" y="1353"/>
                  </a:lnTo>
                  <a:lnTo>
                    <a:pt x="2764" y="1396"/>
                  </a:lnTo>
                  <a:lnTo>
                    <a:pt x="2724" y="1436"/>
                  </a:lnTo>
                  <a:lnTo>
                    <a:pt x="2686" y="1475"/>
                  </a:lnTo>
                  <a:lnTo>
                    <a:pt x="2643" y="1511"/>
                  </a:lnTo>
                  <a:lnTo>
                    <a:pt x="2622" y="1526"/>
                  </a:lnTo>
                  <a:lnTo>
                    <a:pt x="2602" y="1540"/>
                  </a:lnTo>
                  <a:lnTo>
                    <a:pt x="2579" y="1554"/>
                  </a:lnTo>
                  <a:lnTo>
                    <a:pt x="2558" y="1567"/>
                  </a:lnTo>
                  <a:lnTo>
                    <a:pt x="2535" y="1578"/>
                  </a:lnTo>
                  <a:lnTo>
                    <a:pt x="2512" y="1587"/>
                  </a:lnTo>
                  <a:lnTo>
                    <a:pt x="2487" y="1597"/>
                  </a:lnTo>
                  <a:lnTo>
                    <a:pt x="2464" y="1603"/>
                  </a:lnTo>
                  <a:lnTo>
                    <a:pt x="2455" y="1598"/>
                  </a:lnTo>
                  <a:lnTo>
                    <a:pt x="2443" y="1597"/>
                  </a:lnTo>
                  <a:lnTo>
                    <a:pt x="2434" y="1597"/>
                  </a:lnTo>
                  <a:lnTo>
                    <a:pt x="2426" y="1599"/>
                  </a:lnTo>
                  <a:lnTo>
                    <a:pt x="2410" y="1607"/>
                  </a:lnTo>
                  <a:lnTo>
                    <a:pt x="2390" y="1620"/>
                  </a:lnTo>
                  <a:lnTo>
                    <a:pt x="2380" y="1625"/>
                  </a:lnTo>
                  <a:lnTo>
                    <a:pt x="2354" y="1630"/>
                  </a:lnTo>
                  <a:lnTo>
                    <a:pt x="2332" y="1632"/>
                  </a:lnTo>
                  <a:lnTo>
                    <a:pt x="2299" y="1632"/>
                  </a:lnTo>
                  <a:lnTo>
                    <a:pt x="2275" y="1631"/>
                  </a:lnTo>
                  <a:lnTo>
                    <a:pt x="2235" y="1625"/>
                  </a:lnTo>
                  <a:lnTo>
                    <a:pt x="2204" y="1617"/>
                  </a:lnTo>
                  <a:lnTo>
                    <a:pt x="2172" y="1605"/>
                  </a:lnTo>
                  <a:lnTo>
                    <a:pt x="2142" y="1592"/>
                  </a:lnTo>
                  <a:lnTo>
                    <a:pt x="2128" y="1584"/>
                  </a:lnTo>
                  <a:lnTo>
                    <a:pt x="1885" y="1394"/>
                  </a:lnTo>
                  <a:lnTo>
                    <a:pt x="1601" y="1172"/>
                  </a:lnTo>
                  <a:lnTo>
                    <a:pt x="1438" y="1049"/>
                  </a:lnTo>
                  <a:lnTo>
                    <a:pt x="1315" y="958"/>
                  </a:lnTo>
                  <a:lnTo>
                    <a:pt x="1191" y="871"/>
                  </a:lnTo>
                  <a:lnTo>
                    <a:pt x="1109" y="816"/>
                  </a:lnTo>
                  <a:lnTo>
                    <a:pt x="1025" y="760"/>
                  </a:lnTo>
                  <a:lnTo>
                    <a:pt x="940" y="708"/>
                  </a:lnTo>
                  <a:lnTo>
                    <a:pt x="856" y="659"/>
                  </a:lnTo>
                  <a:lnTo>
                    <a:pt x="813" y="635"/>
                  </a:lnTo>
                  <a:lnTo>
                    <a:pt x="745" y="604"/>
                  </a:lnTo>
                  <a:lnTo>
                    <a:pt x="676" y="578"/>
                  </a:lnTo>
                  <a:lnTo>
                    <a:pt x="582" y="542"/>
                  </a:lnTo>
                  <a:lnTo>
                    <a:pt x="350" y="462"/>
                  </a:lnTo>
                  <a:lnTo>
                    <a:pt x="282" y="438"/>
                  </a:lnTo>
                  <a:lnTo>
                    <a:pt x="214" y="409"/>
                  </a:lnTo>
                  <a:lnTo>
                    <a:pt x="147" y="380"/>
                  </a:lnTo>
                  <a:lnTo>
                    <a:pt x="101" y="357"/>
                  </a:lnTo>
                  <a:lnTo>
                    <a:pt x="80" y="347"/>
                  </a:lnTo>
                  <a:lnTo>
                    <a:pt x="51" y="318"/>
                  </a:lnTo>
                  <a:lnTo>
                    <a:pt x="30" y="303"/>
                  </a:lnTo>
                  <a:lnTo>
                    <a:pt x="0" y="283"/>
                  </a:lnTo>
                  <a:lnTo>
                    <a:pt x="31" y="284"/>
                  </a:lnTo>
                  <a:lnTo>
                    <a:pt x="73" y="286"/>
                  </a:lnTo>
                  <a:lnTo>
                    <a:pt x="94" y="284"/>
                  </a:lnTo>
                  <a:lnTo>
                    <a:pt x="114" y="283"/>
                  </a:lnTo>
                  <a:lnTo>
                    <a:pt x="134" y="276"/>
                  </a:lnTo>
                  <a:lnTo>
                    <a:pt x="150" y="269"/>
                  </a:lnTo>
                  <a:lnTo>
                    <a:pt x="161" y="262"/>
                  </a:lnTo>
                  <a:lnTo>
                    <a:pt x="164" y="259"/>
                  </a:lnTo>
                  <a:lnTo>
                    <a:pt x="293" y="300"/>
                  </a:lnTo>
                  <a:lnTo>
                    <a:pt x="424" y="342"/>
                  </a:lnTo>
                  <a:lnTo>
                    <a:pt x="520" y="376"/>
                  </a:lnTo>
                  <a:lnTo>
                    <a:pt x="582" y="400"/>
                  </a:lnTo>
                  <a:lnTo>
                    <a:pt x="678" y="438"/>
                  </a:lnTo>
                  <a:lnTo>
                    <a:pt x="773" y="480"/>
                  </a:lnTo>
                  <a:lnTo>
                    <a:pt x="866" y="526"/>
                  </a:lnTo>
                  <a:lnTo>
                    <a:pt x="927" y="559"/>
                  </a:lnTo>
                  <a:lnTo>
                    <a:pt x="1018" y="609"/>
                  </a:lnTo>
                  <a:lnTo>
                    <a:pt x="1078" y="647"/>
                  </a:lnTo>
                  <a:lnTo>
                    <a:pt x="1136" y="688"/>
                  </a:lnTo>
                  <a:lnTo>
                    <a:pt x="1271" y="787"/>
                  </a:lnTo>
                  <a:lnTo>
                    <a:pt x="1377" y="860"/>
                  </a:lnTo>
                  <a:lnTo>
                    <a:pt x="1697" y="1075"/>
                  </a:lnTo>
                  <a:lnTo>
                    <a:pt x="1831" y="1168"/>
                  </a:lnTo>
                  <a:lnTo>
                    <a:pt x="1910" y="1225"/>
                  </a:lnTo>
                  <a:lnTo>
                    <a:pt x="1987" y="1284"/>
                  </a:lnTo>
                  <a:lnTo>
                    <a:pt x="2033" y="1321"/>
                  </a:lnTo>
                  <a:lnTo>
                    <a:pt x="2112" y="1379"/>
                  </a:lnTo>
                  <a:lnTo>
                    <a:pt x="2172" y="1418"/>
                  </a:lnTo>
                  <a:lnTo>
                    <a:pt x="2233" y="1455"/>
                  </a:lnTo>
                  <a:lnTo>
                    <a:pt x="2276" y="1479"/>
                  </a:lnTo>
                  <a:lnTo>
                    <a:pt x="2297" y="1491"/>
                  </a:lnTo>
                  <a:lnTo>
                    <a:pt x="2339" y="1508"/>
                  </a:lnTo>
                  <a:lnTo>
                    <a:pt x="2352" y="1520"/>
                  </a:lnTo>
                  <a:lnTo>
                    <a:pt x="2364" y="1527"/>
                  </a:lnTo>
                  <a:lnTo>
                    <a:pt x="2396" y="1548"/>
                  </a:lnTo>
                  <a:lnTo>
                    <a:pt x="2408" y="1555"/>
                  </a:lnTo>
                  <a:lnTo>
                    <a:pt x="2420" y="1567"/>
                  </a:lnTo>
                  <a:lnTo>
                    <a:pt x="2434" y="1583"/>
                  </a:lnTo>
                  <a:lnTo>
                    <a:pt x="2438" y="1587"/>
                  </a:lnTo>
                  <a:lnTo>
                    <a:pt x="2450" y="1575"/>
                  </a:lnTo>
                  <a:lnTo>
                    <a:pt x="2463" y="1564"/>
                  </a:lnTo>
                  <a:lnTo>
                    <a:pt x="2478" y="1540"/>
                  </a:lnTo>
                  <a:lnTo>
                    <a:pt x="2502" y="1498"/>
                  </a:lnTo>
                  <a:lnTo>
                    <a:pt x="2521" y="1474"/>
                  </a:lnTo>
                  <a:lnTo>
                    <a:pt x="2528" y="1467"/>
                  </a:lnTo>
                  <a:lnTo>
                    <a:pt x="2619" y="1356"/>
                  </a:lnTo>
                  <a:lnTo>
                    <a:pt x="2713" y="1250"/>
                  </a:lnTo>
                  <a:lnTo>
                    <a:pt x="2806" y="1145"/>
                  </a:lnTo>
                  <a:lnTo>
                    <a:pt x="2948" y="992"/>
                  </a:lnTo>
                  <a:lnTo>
                    <a:pt x="3092" y="841"/>
                  </a:lnTo>
                  <a:lnTo>
                    <a:pt x="3281" y="646"/>
                  </a:lnTo>
                  <a:lnTo>
                    <a:pt x="3411" y="546"/>
                  </a:lnTo>
                  <a:lnTo>
                    <a:pt x="3543" y="449"/>
                  </a:lnTo>
                  <a:lnTo>
                    <a:pt x="3980" y="124"/>
                  </a:lnTo>
                  <a:lnTo>
                    <a:pt x="4017" y="98"/>
                  </a:lnTo>
                  <a:lnTo>
                    <a:pt x="4070" y="52"/>
                  </a:lnTo>
                  <a:lnTo>
                    <a:pt x="4105" y="19"/>
                  </a:lnTo>
                  <a:lnTo>
                    <a:pt x="4122" y="0"/>
                  </a:lnTo>
                  <a:lnTo>
                    <a:pt x="4128" y="10"/>
                  </a:lnTo>
                  <a:lnTo>
                    <a:pt x="4135" y="17"/>
                  </a:lnTo>
                  <a:lnTo>
                    <a:pt x="4145" y="19"/>
                  </a:lnTo>
                  <a:lnTo>
                    <a:pt x="4152" y="21"/>
                  </a:lnTo>
                  <a:lnTo>
                    <a:pt x="4195" y="21"/>
                  </a:lnTo>
                  <a:lnTo>
                    <a:pt x="4202" y="23"/>
                  </a:lnTo>
                  <a:lnTo>
                    <a:pt x="4212" y="29"/>
                  </a:lnTo>
                  <a:close/>
                </a:path>
              </a:pathLst>
            </a:custGeom>
            <a:solidFill>
              <a:srgbClr val="ffe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25"/>
            <p:cNvSpPr/>
            <p:nvPr/>
          </p:nvSpPr>
          <p:spPr>
            <a:xfrm>
              <a:off x="6288120" y="4882320"/>
              <a:ext cx="2395800" cy="1250280"/>
            </a:xfrm>
            <a:custGeom>
              <a:avLst/>
              <a:gdLst>
                <a:gd name="textAreaLeft" fmla="*/ 0 w 2395800"/>
                <a:gd name="textAreaRight" fmla="*/ 2396160 w 2395800"/>
                <a:gd name="textAreaTop" fmla="*/ 0 h 1250280"/>
                <a:gd name="textAreaBottom" fmla="*/ 1250640 h 1250280"/>
              </a:gdLst>
              <a:ahLst/>
              <a:rect l="textAreaLeft" t="textAreaTop" r="textAreaRight" b="textAreaBottom"/>
              <a:pathLst>
                <a:path w="4115" h="1970">
                  <a:moveTo>
                    <a:pt x="4115" y="21"/>
                  </a:moveTo>
                  <a:lnTo>
                    <a:pt x="4056" y="59"/>
                  </a:lnTo>
                  <a:lnTo>
                    <a:pt x="3966" y="118"/>
                  </a:lnTo>
                  <a:lnTo>
                    <a:pt x="3878" y="179"/>
                  </a:lnTo>
                  <a:lnTo>
                    <a:pt x="3789" y="246"/>
                  </a:lnTo>
                  <a:lnTo>
                    <a:pt x="3701" y="316"/>
                  </a:lnTo>
                  <a:lnTo>
                    <a:pt x="3616" y="389"/>
                  </a:lnTo>
                  <a:lnTo>
                    <a:pt x="3532" y="466"/>
                  </a:lnTo>
                  <a:lnTo>
                    <a:pt x="3475" y="519"/>
                  </a:lnTo>
                  <a:lnTo>
                    <a:pt x="3394" y="603"/>
                  </a:lnTo>
                  <a:lnTo>
                    <a:pt x="3311" y="693"/>
                  </a:lnTo>
                  <a:lnTo>
                    <a:pt x="3258" y="754"/>
                  </a:lnTo>
                  <a:lnTo>
                    <a:pt x="3206" y="816"/>
                  </a:lnTo>
                  <a:lnTo>
                    <a:pt x="3105" y="946"/>
                  </a:lnTo>
                  <a:lnTo>
                    <a:pt x="2897" y="1202"/>
                  </a:lnTo>
                  <a:lnTo>
                    <a:pt x="2846" y="1265"/>
                  </a:lnTo>
                  <a:lnTo>
                    <a:pt x="2745" y="1396"/>
                  </a:lnTo>
                  <a:lnTo>
                    <a:pt x="2669" y="1494"/>
                  </a:lnTo>
                  <a:lnTo>
                    <a:pt x="2592" y="1593"/>
                  </a:lnTo>
                  <a:lnTo>
                    <a:pt x="2523" y="1697"/>
                  </a:lnTo>
                  <a:lnTo>
                    <a:pt x="2476" y="1765"/>
                  </a:lnTo>
                  <a:lnTo>
                    <a:pt x="2429" y="1837"/>
                  </a:lnTo>
                  <a:lnTo>
                    <a:pt x="2409" y="1873"/>
                  </a:lnTo>
                  <a:lnTo>
                    <a:pt x="2404" y="1887"/>
                  </a:lnTo>
                  <a:lnTo>
                    <a:pt x="2397" y="1905"/>
                  </a:lnTo>
                  <a:lnTo>
                    <a:pt x="2375" y="1951"/>
                  </a:lnTo>
                  <a:lnTo>
                    <a:pt x="2367" y="1970"/>
                  </a:lnTo>
                  <a:lnTo>
                    <a:pt x="2340" y="1910"/>
                  </a:lnTo>
                  <a:lnTo>
                    <a:pt x="2328" y="1879"/>
                  </a:lnTo>
                  <a:lnTo>
                    <a:pt x="2298" y="1825"/>
                  </a:lnTo>
                  <a:lnTo>
                    <a:pt x="2265" y="1774"/>
                  </a:lnTo>
                  <a:lnTo>
                    <a:pt x="2231" y="1727"/>
                  </a:lnTo>
                  <a:lnTo>
                    <a:pt x="2194" y="1682"/>
                  </a:lnTo>
                  <a:lnTo>
                    <a:pt x="2157" y="1641"/>
                  </a:lnTo>
                  <a:lnTo>
                    <a:pt x="2094" y="1583"/>
                  </a:lnTo>
                  <a:lnTo>
                    <a:pt x="2033" y="1528"/>
                  </a:lnTo>
                  <a:lnTo>
                    <a:pt x="1844" y="1375"/>
                  </a:lnTo>
                  <a:lnTo>
                    <a:pt x="1802" y="1340"/>
                  </a:lnTo>
                  <a:lnTo>
                    <a:pt x="1720" y="1265"/>
                  </a:lnTo>
                  <a:lnTo>
                    <a:pt x="1637" y="1195"/>
                  </a:lnTo>
                  <a:lnTo>
                    <a:pt x="1553" y="1126"/>
                  </a:lnTo>
                  <a:lnTo>
                    <a:pt x="1509" y="1095"/>
                  </a:lnTo>
                  <a:lnTo>
                    <a:pt x="1422" y="1031"/>
                  </a:lnTo>
                  <a:lnTo>
                    <a:pt x="1293" y="940"/>
                  </a:lnTo>
                  <a:lnTo>
                    <a:pt x="1162" y="852"/>
                  </a:lnTo>
                  <a:lnTo>
                    <a:pt x="1074" y="794"/>
                  </a:lnTo>
                  <a:lnTo>
                    <a:pt x="1018" y="760"/>
                  </a:lnTo>
                  <a:lnTo>
                    <a:pt x="960" y="727"/>
                  </a:lnTo>
                  <a:lnTo>
                    <a:pt x="901" y="698"/>
                  </a:lnTo>
                  <a:lnTo>
                    <a:pt x="813" y="655"/>
                  </a:lnTo>
                  <a:lnTo>
                    <a:pt x="725" y="616"/>
                  </a:lnTo>
                  <a:lnTo>
                    <a:pt x="605" y="566"/>
                  </a:lnTo>
                  <a:lnTo>
                    <a:pt x="427" y="494"/>
                  </a:lnTo>
                  <a:lnTo>
                    <a:pt x="338" y="455"/>
                  </a:lnTo>
                  <a:lnTo>
                    <a:pt x="251" y="416"/>
                  </a:lnTo>
                  <a:lnTo>
                    <a:pt x="220" y="402"/>
                  </a:lnTo>
                  <a:lnTo>
                    <a:pt x="134" y="356"/>
                  </a:lnTo>
                  <a:lnTo>
                    <a:pt x="107" y="336"/>
                  </a:lnTo>
                  <a:lnTo>
                    <a:pt x="63" y="305"/>
                  </a:lnTo>
                  <a:lnTo>
                    <a:pt x="46" y="293"/>
                  </a:lnTo>
                  <a:lnTo>
                    <a:pt x="22" y="270"/>
                  </a:lnTo>
                  <a:lnTo>
                    <a:pt x="3" y="248"/>
                  </a:lnTo>
                  <a:lnTo>
                    <a:pt x="0" y="243"/>
                  </a:lnTo>
                  <a:lnTo>
                    <a:pt x="16" y="242"/>
                  </a:lnTo>
                  <a:lnTo>
                    <a:pt x="47" y="240"/>
                  </a:lnTo>
                  <a:lnTo>
                    <a:pt x="63" y="242"/>
                  </a:lnTo>
                  <a:lnTo>
                    <a:pt x="113" y="246"/>
                  </a:lnTo>
                  <a:lnTo>
                    <a:pt x="160" y="257"/>
                  </a:lnTo>
                  <a:lnTo>
                    <a:pt x="208" y="271"/>
                  </a:lnTo>
                  <a:lnTo>
                    <a:pt x="254" y="289"/>
                  </a:lnTo>
                  <a:lnTo>
                    <a:pt x="396" y="343"/>
                  </a:lnTo>
                  <a:lnTo>
                    <a:pt x="460" y="365"/>
                  </a:lnTo>
                  <a:lnTo>
                    <a:pt x="491" y="374"/>
                  </a:lnTo>
                  <a:lnTo>
                    <a:pt x="507" y="378"/>
                  </a:lnTo>
                  <a:lnTo>
                    <a:pt x="545" y="390"/>
                  </a:lnTo>
                  <a:lnTo>
                    <a:pt x="585" y="403"/>
                  </a:lnTo>
                  <a:lnTo>
                    <a:pt x="624" y="418"/>
                  </a:lnTo>
                  <a:lnTo>
                    <a:pt x="699" y="450"/>
                  </a:lnTo>
                  <a:lnTo>
                    <a:pt x="773" y="486"/>
                  </a:lnTo>
                  <a:lnTo>
                    <a:pt x="847" y="523"/>
                  </a:lnTo>
                  <a:lnTo>
                    <a:pt x="921" y="564"/>
                  </a:lnTo>
                  <a:lnTo>
                    <a:pt x="992" y="608"/>
                  </a:lnTo>
                  <a:lnTo>
                    <a:pt x="1065" y="654"/>
                  </a:lnTo>
                  <a:lnTo>
                    <a:pt x="1136" y="700"/>
                  </a:lnTo>
                  <a:lnTo>
                    <a:pt x="1242" y="774"/>
                  </a:lnTo>
                  <a:lnTo>
                    <a:pt x="1382" y="878"/>
                  </a:lnTo>
                  <a:lnTo>
                    <a:pt x="1660" y="1088"/>
                  </a:lnTo>
                  <a:lnTo>
                    <a:pt x="1771" y="1175"/>
                  </a:lnTo>
                  <a:lnTo>
                    <a:pt x="2033" y="1374"/>
                  </a:lnTo>
                  <a:lnTo>
                    <a:pt x="2107" y="1432"/>
                  </a:lnTo>
                  <a:lnTo>
                    <a:pt x="2198" y="1508"/>
                  </a:lnTo>
                  <a:lnTo>
                    <a:pt x="2268" y="1568"/>
                  </a:lnTo>
                  <a:lnTo>
                    <a:pt x="2281" y="1578"/>
                  </a:lnTo>
                  <a:lnTo>
                    <a:pt x="2298" y="1585"/>
                  </a:lnTo>
                  <a:lnTo>
                    <a:pt x="2305" y="1588"/>
                  </a:lnTo>
                  <a:lnTo>
                    <a:pt x="2320" y="1593"/>
                  </a:lnTo>
                  <a:lnTo>
                    <a:pt x="2336" y="1596"/>
                  </a:lnTo>
                  <a:lnTo>
                    <a:pt x="2369" y="1596"/>
                  </a:lnTo>
                  <a:lnTo>
                    <a:pt x="2394" y="1592"/>
                  </a:lnTo>
                  <a:lnTo>
                    <a:pt x="2410" y="1588"/>
                  </a:lnTo>
                  <a:lnTo>
                    <a:pt x="2427" y="1583"/>
                  </a:lnTo>
                  <a:lnTo>
                    <a:pt x="2459" y="1569"/>
                  </a:lnTo>
                  <a:lnTo>
                    <a:pt x="2476" y="1563"/>
                  </a:lnTo>
                  <a:lnTo>
                    <a:pt x="2503" y="1547"/>
                  </a:lnTo>
                  <a:lnTo>
                    <a:pt x="2584" y="1459"/>
                  </a:lnTo>
                  <a:lnTo>
                    <a:pt x="2663" y="1364"/>
                  </a:lnTo>
                  <a:lnTo>
                    <a:pt x="2782" y="1222"/>
                  </a:lnTo>
                  <a:lnTo>
                    <a:pt x="2900" y="1075"/>
                  </a:lnTo>
                  <a:lnTo>
                    <a:pt x="3133" y="779"/>
                  </a:lnTo>
                  <a:lnTo>
                    <a:pt x="3186" y="728"/>
                  </a:lnTo>
                  <a:lnTo>
                    <a:pt x="3237" y="676"/>
                  </a:lnTo>
                  <a:lnTo>
                    <a:pt x="3415" y="490"/>
                  </a:lnTo>
                  <a:lnTo>
                    <a:pt x="3493" y="414"/>
                  </a:lnTo>
                  <a:lnTo>
                    <a:pt x="3535" y="378"/>
                  </a:lnTo>
                  <a:lnTo>
                    <a:pt x="3547" y="367"/>
                  </a:lnTo>
                  <a:lnTo>
                    <a:pt x="3668" y="278"/>
                  </a:lnTo>
                  <a:lnTo>
                    <a:pt x="3909" y="93"/>
                  </a:lnTo>
                  <a:lnTo>
                    <a:pt x="4029" y="2"/>
                  </a:lnTo>
                  <a:lnTo>
                    <a:pt x="4038" y="0"/>
                  </a:lnTo>
                  <a:lnTo>
                    <a:pt x="4047" y="2"/>
                  </a:lnTo>
                  <a:lnTo>
                    <a:pt x="4057" y="4"/>
                  </a:lnTo>
                  <a:lnTo>
                    <a:pt x="4087" y="18"/>
                  </a:lnTo>
                  <a:lnTo>
                    <a:pt x="4098" y="21"/>
                  </a:lnTo>
                  <a:lnTo>
                    <a:pt x="4110" y="23"/>
                  </a:lnTo>
                  <a:lnTo>
                    <a:pt x="4115" y="21"/>
                  </a:lnTo>
                  <a:close/>
                </a:path>
              </a:pathLst>
            </a:custGeom>
            <a:solidFill>
              <a:srgbClr val="ffe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26"/>
            <p:cNvSpPr/>
            <p:nvPr/>
          </p:nvSpPr>
          <p:spPr>
            <a:xfrm>
              <a:off x="7510320" y="4911480"/>
              <a:ext cx="365400" cy="117720"/>
            </a:xfrm>
            <a:custGeom>
              <a:avLst/>
              <a:gdLst>
                <a:gd name="textAreaLeft" fmla="*/ 0 w 365400"/>
                <a:gd name="textAreaRight" fmla="*/ 365760 w 365400"/>
                <a:gd name="textAreaTop" fmla="*/ 0 h 117720"/>
                <a:gd name="textAreaBottom" fmla="*/ 118080 h 117720"/>
              </a:gdLst>
              <a:ahLst/>
              <a:rect l="textAreaLeft" t="textAreaTop" r="textAreaRight" b="textAreaBottom"/>
              <a:pathLst>
                <a:path w="629" h="186">
                  <a:moveTo>
                    <a:pt x="556" y="60"/>
                  </a:moveTo>
                  <a:lnTo>
                    <a:pt x="569" y="51"/>
                  </a:lnTo>
                  <a:lnTo>
                    <a:pt x="581" y="44"/>
                  </a:lnTo>
                  <a:lnTo>
                    <a:pt x="618" y="27"/>
                  </a:lnTo>
                  <a:lnTo>
                    <a:pt x="629" y="23"/>
                  </a:lnTo>
                  <a:lnTo>
                    <a:pt x="612" y="38"/>
                  </a:lnTo>
                  <a:lnTo>
                    <a:pt x="588" y="58"/>
                  </a:lnTo>
                  <a:lnTo>
                    <a:pt x="552" y="82"/>
                  </a:lnTo>
                  <a:lnTo>
                    <a:pt x="515" y="100"/>
                  </a:lnTo>
                  <a:lnTo>
                    <a:pt x="497" y="110"/>
                  </a:lnTo>
                  <a:lnTo>
                    <a:pt x="465" y="123"/>
                  </a:lnTo>
                  <a:lnTo>
                    <a:pt x="424" y="138"/>
                  </a:lnTo>
                  <a:lnTo>
                    <a:pt x="324" y="172"/>
                  </a:lnTo>
                  <a:lnTo>
                    <a:pt x="220" y="184"/>
                  </a:lnTo>
                  <a:lnTo>
                    <a:pt x="199" y="185"/>
                  </a:lnTo>
                  <a:lnTo>
                    <a:pt x="158" y="186"/>
                  </a:lnTo>
                  <a:lnTo>
                    <a:pt x="117" y="186"/>
                  </a:lnTo>
                  <a:lnTo>
                    <a:pt x="97" y="184"/>
                  </a:lnTo>
                  <a:lnTo>
                    <a:pt x="75" y="181"/>
                  </a:lnTo>
                  <a:lnTo>
                    <a:pt x="48" y="171"/>
                  </a:lnTo>
                  <a:lnTo>
                    <a:pt x="28" y="163"/>
                  </a:lnTo>
                  <a:lnTo>
                    <a:pt x="0" y="148"/>
                  </a:lnTo>
                  <a:lnTo>
                    <a:pt x="15" y="144"/>
                  </a:lnTo>
                  <a:lnTo>
                    <a:pt x="41" y="137"/>
                  </a:lnTo>
                  <a:lnTo>
                    <a:pt x="65" y="128"/>
                  </a:lnTo>
                  <a:lnTo>
                    <a:pt x="97" y="112"/>
                  </a:lnTo>
                  <a:lnTo>
                    <a:pt x="148" y="84"/>
                  </a:lnTo>
                  <a:lnTo>
                    <a:pt x="198" y="50"/>
                  </a:lnTo>
                  <a:lnTo>
                    <a:pt x="229" y="25"/>
                  </a:lnTo>
                  <a:lnTo>
                    <a:pt x="260" y="0"/>
                  </a:lnTo>
                  <a:lnTo>
                    <a:pt x="287" y="12"/>
                  </a:lnTo>
                  <a:lnTo>
                    <a:pt x="333" y="33"/>
                  </a:lnTo>
                  <a:lnTo>
                    <a:pt x="377" y="57"/>
                  </a:lnTo>
                  <a:lnTo>
                    <a:pt x="405" y="70"/>
                  </a:lnTo>
                  <a:lnTo>
                    <a:pt x="423" y="76"/>
                  </a:lnTo>
                  <a:lnTo>
                    <a:pt x="451" y="82"/>
                  </a:lnTo>
                  <a:lnTo>
                    <a:pt x="470" y="85"/>
                  </a:lnTo>
                  <a:lnTo>
                    <a:pt x="480" y="85"/>
                  </a:lnTo>
                  <a:lnTo>
                    <a:pt x="498" y="84"/>
                  </a:lnTo>
                  <a:lnTo>
                    <a:pt x="507" y="82"/>
                  </a:lnTo>
                  <a:lnTo>
                    <a:pt x="526" y="76"/>
                  </a:lnTo>
                  <a:lnTo>
                    <a:pt x="536" y="71"/>
                  </a:lnTo>
                  <a:lnTo>
                    <a:pt x="546" y="66"/>
                  </a:lnTo>
                  <a:lnTo>
                    <a:pt x="556" y="60"/>
                  </a:lnTo>
                  <a:close/>
                </a:path>
              </a:pathLst>
            </a:custGeom>
            <a:solidFill>
              <a:srgbClr val="ffe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Freeform 27"/>
            <p:cNvSpPr/>
            <p:nvPr/>
          </p:nvSpPr>
          <p:spPr>
            <a:xfrm>
              <a:off x="7493760" y="5061240"/>
              <a:ext cx="302760" cy="119160"/>
            </a:xfrm>
            <a:custGeom>
              <a:avLst/>
              <a:gdLst>
                <a:gd name="textAreaLeft" fmla="*/ 0 w 302760"/>
                <a:gd name="textAreaRight" fmla="*/ 303120 w 302760"/>
                <a:gd name="textAreaTop" fmla="*/ 0 h 119160"/>
                <a:gd name="textAreaBottom" fmla="*/ 119520 h 119160"/>
              </a:gdLst>
              <a:ahLst/>
              <a:rect l="textAreaLeft" t="textAreaTop" r="textAreaRight" b="textAreaBottom"/>
              <a:pathLst>
                <a:path w="521" h="186">
                  <a:moveTo>
                    <a:pt x="521" y="72"/>
                  </a:moveTo>
                  <a:lnTo>
                    <a:pt x="494" y="94"/>
                  </a:lnTo>
                  <a:lnTo>
                    <a:pt x="464" y="114"/>
                  </a:lnTo>
                  <a:lnTo>
                    <a:pt x="450" y="124"/>
                  </a:lnTo>
                  <a:lnTo>
                    <a:pt x="417" y="139"/>
                  </a:lnTo>
                  <a:lnTo>
                    <a:pt x="386" y="154"/>
                  </a:lnTo>
                  <a:lnTo>
                    <a:pt x="353" y="166"/>
                  </a:lnTo>
                  <a:lnTo>
                    <a:pt x="319" y="176"/>
                  </a:lnTo>
                  <a:lnTo>
                    <a:pt x="285" y="182"/>
                  </a:lnTo>
                  <a:lnTo>
                    <a:pt x="268" y="183"/>
                  </a:lnTo>
                  <a:lnTo>
                    <a:pt x="234" y="186"/>
                  </a:lnTo>
                  <a:lnTo>
                    <a:pt x="198" y="186"/>
                  </a:lnTo>
                  <a:lnTo>
                    <a:pt x="181" y="185"/>
                  </a:lnTo>
                  <a:lnTo>
                    <a:pt x="147" y="178"/>
                  </a:lnTo>
                  <a:lnTo>
                    <a:pt x="130" y="176"/>
                  </a:lnTo>
                  <a:lnTo>
                    <a:pt x="114" y="171"/>
                  </a:lnTo>
                  <a:lnTo>
                    <a:pt x="80" y="159"/>
                  </a:lnTo>
                  <a:lnTo>
                    <a:pt x="64" y="153"/>
                  </a:lnTo>
                  <a:lnTo>
                    <a:pt x="30" y="137"/>
                  </a:lnTo>
                  <a:lnTo>
                    <a:pt x="17" y="127"/>
                  </a:lnTo>
                  <a:lnTo>
                    <a:pt x="0" y="118"/>
                  </a:lnTo>
                  <a:lnTo>
                    <a:pt x="29" y="119"/>
                  </a:lnTo>
                  <a:lnTo>
                    <a:pt x="50" y="119"/>
                  </a:lnTo>
                  <a:lnTo>
                    <a:pt x="59" y="118"/>
                  </a:lnTo>
                  <a:lnTo>
                    <a:pt x="70" y="118"/>
                  </a:lnTo>
                  <a:lnTo>
                    <a:pt x="90" y="116"/>
                  </a:lnTo>
                  <a:lnTo>
                    <a:pt x="121" y="110"/>
                  </a:lnTo>
                  <a:lnTo>
                    <a:pt x="141" y="105"/>
                  </a:lnTo>
                  <a:lnTo>
                    <a:pt x="171" y="94"/>
                  </a:lnTo>
                  <a:lnTo>
                    <a:pt x="201" y="81"/>
                  </a:lnTo>
                  <a:lnTo>
                    <a:pt x="221" y="72"/>
                  </a:lnTo>
                  <a:lnTo>
                    <a:pt x="241" y="59"/>
                  </a:lnTo>
                  <a:lnTo>
                    <a:pt x="268" y="40"/>
                  </a:lnTo>
                  <a:lnTo>
                    <a:pt x="294" y="18"/>
                  </a:lnTo>
                  <a:lnTo>
                    <a:pt x="309" y="0"/>
                  </a:lnTo>
                  <a:lnTo>
                    <a:pt x="372" y="40"/>
                  </a:lnTo>
                  <a:lnTo>
                    <a:pt x="385" y="48"/>
                  </a:lnTo>
                  <a:lnTo>
                    <a:pt x="409" y="62"/>
                  </a:lnTo>
                  <a:lnTo>
                    <a:pt x="430" y="71"/>
                  </a:lnTo>
                  <a:lnTo>
                    <a:pt x="457" y="77"/>
                  </a:lnTo>
                  <a:lnTo>
                    <a:pt x="477" y="80"/>
                  </a:lnTo>
                  <a:lnTo>
                    <a:pt x="491" y="78"/>
                  </a:lnTo>
                  <a:lnTo>
                    <a:pt x="506" y="75"/>
                  </a:lnTo>
                  <a:lnTo>
                    <a:pt x="521" y="72"/>
                  </a:lnTo>
                  <a:close/>
                </a:path>
              </a:pathLst>
            </a:custGeom>
            <a:solidFill>
              <a:srgbClr val="ffe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28"/>
            <p:cNvSpPr/>
            <p:nvPr/>
          </p:nvSpPr>
          <p:spPr>
            <a:xfrm>
              <a:off x="7525440" y="5191920"/>
              <a:ext cx="350280" cy="124560"/>
            </a:xfrm>
            <a:custGeom>
              <a:avLst/>
              <a:gdLst>
                <a:gd name="textAreaLeft" fmla="*/ 0 w 350280"/>
                <a:gd name="textAreaRight" fmla="*/ 350640 w 350280"/>
                <a:gd name="textAreaTop" fmla="*/ 0 h 124560"/>
                <a:gd name="textAreaBottom" fmla="*/ 124920 h 124560"/>
              </a:gdLst>
              <a:ahLst/>
              <a:rect l="textAreaLeft" t="textAreaTop" r="textAreaRight" b="textAreaBottom"/>
              <a:pathLst>
                <a:path w="602" h="196">
                  <a:moveTo>
                    <a:pt x="107" y="180"/>
                  </a:moveTo>
                  <a:lnTo>
                    <a:pt x="92" y="177"/>
                  </a:lnTo>
                  <a:lnTo>
                    <a:pt x="71" y="171"/>
                  </a:lnTo>
                  <a:lnTo>
                    <a:pt x="53" y="162"/>
                  </a:lnTo>
                  <a:lnTo>
                    <a:pt x="0" y="128"/>
                  </a:lnTo>
                  <a:lnTo>
                    <a:pt x="40" y="124"/>
                  </a:lnTo>
                  <a:lnTo>
                    <a:pt x="60" y="119"/>
                  </a:lnTo>
                  <a:lnTo>
                    <a:pt x="98" y="111"/>
                  </a:lnTo>
                  <a:lnTo>
                    <a:pt x="127" y="104"/>
                  </a:lnTo>
                  <a:lnTo>
                    <a:pt x="156" y="94"/>
                  </a:lnTo>
                  <a:lnTo>
                    <a:pt x="174" y="87"/>
                  </a:lnTo>
                  <a:lnTo>
                    <a:pt x="211" y="70"/>
                  </a:lnTo>
                  <a:lnTo>
                    <a:pt x="238" y="53"/>
                  </a:lnTo>
                  <a:lnTo>
                    <a:pt x="263" y="34"/>
                  </a:lnTo>
                  <a:lnTo>
                    <a:pt x="289" y="13"/>
                  </a:lnTo>
                  <a:lnTo>
                    <a:pt x="297" y="6"/>
                  </a:lnTo>
                  <a:lnTo>
                    <a:pt x="314" y="15"/>
                  </a:lnTo>
                  <a:lnTo>
                    <a:pt x="332" y="25"/>
                  </a:lnTo>
                  <a:lnTo>
                    <a:pt x="360" y="34"/>
                  </a:lnTo>
                  <a:lnTo>
                    <a:pt x="390" y="42"/>
                  </a:lnTo>
                  <a:lnTo>
                    <a:pt x="410" y="44"/>
                  </a:lnTo>
                  <a:lnTo>
                    <a:pt x="428" y="46"/>
                  </a:lnTo>
                  <a:lnTo>
                    <a:pt x="448" y="46"/>
                  </a:lnTo>
                  <a:lnTo>
                    <a:pt x="478" y="42"/>
                  </a:lnTo>
                  <a:lnTo>
                    <a:pt x="498" y="39"/>
                  </a:lnTo>
                  <a:lnTo>
                    <a:pt x="517" y="34"/>
                  </a:lnTo>
                  <a:lnTo>
                    <a:pt x="556" y="22"/>
                  </a:lnTo>
                  <a:lnTo>
                    <a:pt x="583" y="10"/>
                  </a:lnTo>
                  <a:lnTo>
                    <a:pt x="602" y="0"/>
                  </a:lnTo>
                  <a:lnTo>
                    <a:pt x="575" y="27"/>
                  </a:lnTo>
                  <a:lnTo>
                    <a:pt x="535" y="63"/>
                  </a:lnTo>
                  <a:lnTo>
                    <a:pt x="508" y="85"/>
                  </a:lnTo>
                  <a:lnTo>
                    <a:pt x="464" y="114"/>
                  </a:lnTo>
                  <a:lnTo>
                    <a:pt x="434" y="133"/>
                  </a:lnTo>
                  <a:lnTo>
                    <a:pt x="403" y="148"/>
                  </a:lnTo>
                  <a:lnTo>
                    <a:pt x="373" y="163"/>
                  </a:lnTo>
                  <a:lnTo>
                    <a:pt x="357" y="170"/>
                  </a:lnTo>
                  <a:lnTo>
                    <a:pt x="323" y="179"/>
                  </a:lnTo>
                  <a:lnTo>
                    <a:pt x="307" y="184"/>
                  </a:lnTo>
                  <a:lnTo>
                    <a:pt x="276" y="191"/>
                  </a:lnTo>
                  <a:lnTo>
                    <a:pt x="242" y="194"/>
                  </a:lnTo>
                  <a:lnTo>
                    <a:pt x="225" y="196"/>
                  </a:lnTo>
                  <a:lnTo>
                    <a:pt x="191" y="196"/>
                  </a:lnTo>
                  <a:lnTo>
                    <a:pt x="158" y="191"/>
                  </a:lnTo>
                  <a:lnTo>
                    <a:pt x="125" y="185"/>
                  </a:lnTo>
                  <a:lnTo>
                    <a:pt x="107" y="180"/>
                  </a:lnTo>
                  <a:close/>
                </a:path>
              </a:pathLst>
            </a:custGeom>
            <a:solidFill>
              <a:srgbClr val="ffe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29"/>
            <p:cNvSpPr/>
            <p:nvPr/>
          </p:nvSpPr>
          <p:spPr>
            <a:xfrm>
              <a:off x="7560360" y="5754240"/>
              <a:ext cx="253440" cy="123120"/>
            </a:xfrm>
            <a:custGeom>
              <a:avLst/>
              <a:gdLst>
                <a:gd name="textAreaLeft" fmla="*/ 0 w 253440"/>
                <a:gd name="textAreaRight" fmla="*/ 253800 w 253440"/>
                <a:gd name="textAreaTop" fmla="*/ 0 h 123120"/>
                <a:gd name="textAreaBottom" fmla="*/ 123480 h 123120"/>
              </a:gdLst>
              <a:ahLst/>
              <a:rect l="textAreaLeft" t="textAreaTop" r="textAreaRight" b="textAreaBottom"/>
              <a:pathLst>
                <a:path w="435" h="194">
                  <a:moveTo>
                    <a:pt x="173" y="194"/>
                  </a:moveTo>
                  <a:lnTo>
                    <a:pt x="153" y="190"/>
                  </a:lnTo>
                  <a:lnTo>
                    <a:pt x="143" y="186"/>
                  </a:lnTo>
                  <a:lnTo>
                    <a:pt x="133" y="184"/>
                  </a:lnTo>
                  <a:lnTo>
                    <a:pt x="105" y="167"/>
                  </a:lnTo>
                  <a:lnTo>
                    <a:pt x="84" y="155"/>
                  </a:lnTo>
                  <a:lnTo>
                    <a:pt x="21" y="110"/>
                  </a:lnTo>
                  <a:lnTo>
                    <a:pt x="0" y="98"/>
                  </a:lnTo>
                  <a:lnTo>
                    <a:pt x="10" y="102"/>
                  </a:lnTo>
                  <a:lnTo>
                    <a:pt x="30" y="108"/>
                  </a:lnTo>
                  <a:lnTo>
                    <a:pt x="48" y="112"/>
                  </a:lnTo>
                  <a:lnTo>
                    <a:pt x="68" y="114"/>
                  </a:lnTo>
                  <a:lnTo>
                    <a:pt x="88" y="113"/>
                  </a:lnTo>
                  <a:lnTo>
                    <a:pt x="108" y="112"/>
                  </a:lnTo>
                  <a:lnTo>
                    <a:pt x="136" y="107"/>
                  </a:lnTo>
                  <a:lnTo>
                    <a:pt x="246" y="81"/>
                  </a:lnTo>
                  <a:lnTo>
                    <a:pt x="284" y="78"/>
                  </a:lnTo>
                  <a:lnTo>
                    <a:pt x="296" y="78"/>
                  </a:lnTo>
                  <a:lnTo>
                    <a:pt x="314" y="79"/>
                  </a:lnTo>
                  <a:lnTo>
                    <a:pt x="330" y="69"/>
                  </a:lnTo>
                  <a:lnTo>
                    <a:pt x="375" y="45"/>
                  </a:lnTo>
                  <a:lnTo>
                    <a:pt x="408" y="26"/>
                  </a:lnTo>
                  <a:lnTo>
                    <a:pt x="428" y="8"/>
                  </a:lnTo>
                  <a:lnTo>
                    <a:pt x="435" y="0"/>
                  </a:lnTo>
                  <a:lnTo>
                    <a:pt x="361" y="85"/>
                  </a:lnTo>
                  <a:lnTo>
                    <a:pt x="338" y="108"/>
                  </a:lnTo>
                  <a:lnTo>
                    <a:pt x="316" y="131"/>
                  </a:lnTo>
                  <a:lnTo>
                    <a:pt x="291" y="151"/>
                  </a:lnTo>
                  <a:lnTo>
                    <a:pt x="267" y="166"/>
                  </a:lnTo>
                  <a:lnTo>
                    <a:pt x="249" y="178"/>
                  </a:lnTo>
                  <a:lnTo>
                    <a:pt x="232" y="184"/>
                  </a:lnTo>
                  <a:lnTo>
                    <a:pt x="212" y="190"/>
                  </a:lnTo>
                  <a:lnTo>
                    <a:pt x="193" y="193"/>
                  </a:lnTo>
                  <a:lnTo>
                    <a:pt x="182" y="194"/>
                  </a:lnTo>
                  <a:lnTo>
                    <a:pt x="173" y="194"/>
                  </a:lnTo>
                  <a:close/>
                </a:path>
              </a:pathLst>
            </a:custGeom>
            <a:solidFill>
              <a:srgbClr val="ffe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8" name="TextBox 6"/>
          <p:cNvSpPr/>
          <p:nvPr/>
        </p:nvSpPr>
        <p:spPr>
          <a:xfrm>
            <a:off x="1219320" y="647712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withEffect" fill="hold" presetClass="entr" presetID="14" presetSubtype="10">
                                  <p:stCondLst>
                                    <p:cond delay="0"/>
                                  </p:stCondLst>
                                  <p:childTnLst>
                                    <p:set>
                                      <p:cBhvr>
                                        <p:cTn id="23" dur="1" fill="hold">
                                          <p:stCondLst>
                                            <p:cond delay="0"/>
                                          </p:stCondLst>
                                        </p:cTn>
                                        <p:tgtEl>
                                          <p:spTgt spid="85"/>
                                        </p:tgtEl>
                                        <p:attrNameLst>
                                          <p:attrName>style.visibility</p:attrName>
                                        </p:attrNameLst>
                                      </p:cBhvr>
                                      <p:to>
                                        <p:strVal val="visible"/>
                                      </p:to>
                                    </p:set>
                                    <p:animEffect filter="randombar(horizontal)" transition="in">
                                      <p:cBhvr additive="repl">
                                        <p:cTn id="24" dur="600">
                                          <p:stCondLst>
                                            <p:cond delay="0"/>
                                          </p:stCondLst>
                                        </p:cTn>
                                        <p:tgtEl>
                                          <p:spTgt spid="85"/>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4" presetSubtype="10">
                                  <p:stCondLst>
                                    <p:cond delay="0"/>
                                  </p:stCondLst>
                                  <p:childTnLst>
                                    <p:set>
                                      <p:cBhvr>
                                        <p:cTn id="28" dur="1" fill="hold">
                                          <p:stCondLst>
                                            <p:cond delay="0"/>
                                          </p:stCondLst>
                                        </p:cTn>
                                        <p:tgtEl>
                                          <p:spTgt spid="86">
                                            <p:txEl>
                                              <p:pRg st="0" end="0"/>
                                            </p:txEl>
                                          </p:spTgt>
                                        </p:tgtEl>
                                        <p:attrNameLst>
                                          <p:attrName>style.visibility</p:attrName>
                                        </p:attrNameLst>
                                      </p:cBhvr>
                                      <p:to>
                                        <p:strVal val="visible"/>
                                      </p:to>
                                    </p:set>
                                    <p:animEffect filter="randombar(horizontal)" transition="in">
                                      <p:cBhvr additive="repl">
                                        <p:cTn id="29" dur="500"/>
                                        <p:tgtEl>
                                          <p:spTgt spid="86">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4" presetSubtype="10">
                                  <p:stCondLst>
                                    <p:cond delay="0"/>
                                  </p:stCondLst>
                                  <p:childTnLst>
                                    <p:set>
                                      <p:cBhvr>
                                        <p:cTn id="33" dur="1" fill="hold">
                                          <p:stCondLst>
                                            <p:cond delay="0"/>
                                          </p:stCondLst>
                                        </p:cTn>
                                        <p:tgtEl>
                                          <p:spTgt spid="86">
                                            <p:txEl>
                                              <p:pRg st="2" end="2"/>
                                            </p:txEl>
                                          </p:spTgt>
                                        </p:tgtEl>
                                        <p:attrNameLst>
                                          <p:attrName>style.visibility</p:attrName>
                                        </p:attrNameLst>
                                      </p:cBhvr>
                                      <p:to>
                                        <p:strVal val="visible"/>
                                      </p:to>
                                    </p:set>
                                    <p:animEffect filter="randombar(horizontal)" transition="in">
                                      <p:cBhvr additive="repl">
                                        <p:cTn id="34" dur="500"/>
                                        <p:tgtEl>
                                          <p:spTgt spid="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447560" y="274320"/>
            <a:ext cx="7313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Old English Text MT"/>
              </a:rPr>
              <a:t>History of Paper</a:t>
            </a:r>
            <a:endParaRPr b="0" lang="en-US" sz="4800" spc="-1" strike="noStrike">
              <a:solidFill>
                <a:srgbClr val="000000"/>
              </a:solidFill>
              <a:latin typeface="Arial"/>
            </a:endParaRPr>
          </a:p>
        </p:txBody>
      </p:sp>
      <p:sp>
        <p:nvSpPr>
          <p:cNvPr id="110" name="PlaceHolder 2"/>
          <p:cNvSpPr>
            <a:spLocks noGrp="1"/>
          </p:cNvSpPr>
          <p:nvPr>
            <p:ph/>
          </p:nvPr>
        </p:nvSpPr>
        <p:spPr>
          <a:xfrm>
            <a:off x="1371600" y="1828800"/>
            <a:ext cx="4952880" cy="4114800"/>
          </a:xfrm>
          <a:prstGeom prst="rect">
            <a:avLst/>
          </a:prstGeom>
          <a:noFill/>
          <a:ln w="0">
            <a:noFill/>
          </a:ln>
        </p:spPr>
        <p:txBody>
          <a:bodyPr anchor="t">
            <a:normAutofit/>
          </a:bodyPr>
          <a:p>
            <a:pPr marL="343080" indent="-3430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ior inventions: Egyptian papyrus 4000 B.C, ancient Greek parchment by 100 B.C.</a:t>
            </a:r>
            <a:br>
              <a:rPr sz="2800"/>
            </a:br>
            <a:r>
              <a:rPr b="0" lang="en-US" sz="2800" spc="-1" strike="noStrike">
                <a:solidFill>
                  <a:srgbClr val="000000"/>
                </a:solidFill>
                <a:latin typeface="Arial Narrow"/>
              </a:rPr>
              <a: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aper invented in China</a:t>
            </a:r>
            <a:br>
              <a:rPr sz="2800"/>
            </a:br>
            <a:r>
              <a:rPr b="0" lang="en-US" sz="2800" spc="-1" strike="noStrike">
                <a:solidFill>
                  <a:srgbClr val="000000"/>
                </a:solidFill>
                <a:latin typeface="Arial Narrow"/>
              </a:rPr>
              <a:t>Ts’ai Lun, official in Chinese royal court, A.D. 105</a:t>
            </a:r>
            <a:endParaRPr b="0" lang="en-US" sz="2800" spc="-1" strike="noStrike">
              <a:solidFill>
                <a:srgbClr val="000000"/>
              </a:solidFill>
              <a:latin typeface="Arial"/>
            </a:endParaRPr>
          </a:p>
        </p:txBody>
      </p:sp>
      <p:pic>
        <p:nvPicPr>
          <p:cNvPr id="111" name="Picture 4" descr="Paper - Stacked 3"/>
          <p:cNvPicPr/>
          <p:nvPr/>
        </p:nvPicPr>
        <p:blipFill>
          <a:blip r:embed="rId1"/>
          <a:stretch/>
        </p:blipFill>
        <p:spPr>
          <a:xfrm>
            <a:off x="6095880" y="3859200"/>
            <a:ext cx="3048120" cy="2460600"/>
          </a:xfrm>
          <a:prstGeom prst="rect">
            <a:avLst/>
          </a:prstGeom>
          <a:ln w="0">
            <a:noFill/>
          </a:ln>
        </p:spPr>
      </p:pic>
      <p:sp>
        <p:nvSpPr>
          <p:cNvPr id="112" name="TextBox 6"/>
          <p:cNvSpPr/>
          <p:nvPr/>
        </p:nvSpPr>
        <p:spPr>
          <a:xfrm>
            <a:off x="1219320" y="647712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p:transition>
    <p:split dir="in" orient="vert"/>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50">
                                  <p:stCondLst>
                                    <p:cond delay="0"/>
                                  </p:stCondLst>
                                  <p:childTnLst>
                                    <p:set>
                                      <p:cBhvr>
                                        <p:cTn id="40" dur="1" fill="hold">
                                          <p:stCondLst>
                                            <p:cond delay="0"/>
                                          </p:stCondLst>
                                        </p:cTn>
                                        <p:tgtEl>
                                          <p:spTgt spid="109"/>
                                        </p:tgtEl>
                                        <p:attrNameLst>
                                          <p:attrName>style.visibility</p:attrName>
                                        </p:attrNameLst>
                                      </p:cBhvr>
                                      <p:to>
                                        <p:strVal val="visible"/>
                                      </p:to>
                                    </p:set>
                                    <p:anim calcmode="lin" valueType="num">
                                      <p:cBhvr additive="repl">
                                        <p:cTn id="41" dur="1000" fill="hold"/>
                                        <p:tgtEl>
                                          <p:spTgt spid="109"/>
                                        </p:tgtEl>
                                        <p:attrNameLst>
                                          <p:attrName>ppt_w</p:attrName>
                                        </p:attrNameLst>
                                      </p:cBhvr>
                                      <p:tavLst>
                                        <p:tav tm="0">
                                          <p:val>
                                            <p:strVal val="#ppt_w+.3"/>
                                          </p:val>
                                        </p:tav>
                                        <p:tav tm="100000">
                                          <p:val>
                                            <p:strVal val="#ppt_w"/>
                                          </p:val>
                                        </p:tav>
                                      </p:tavLst>
                                    </p:anim>
                                    <p:anim calcmode="lin" valueType="num">
                                      <p:cBhvr additive="repl">
                                        <p:cTn id="42" dur="1000" fill="hold"/>
                                        <p:tgtEl>
                                          <p:spTgt spid="109"/>
                                        </p:tgtEl>
                                        <p:attrNameLst>
                                          <p:attrName>ppt_h</p:attrName>
                                        </p:attrNameLst>
                                      </p:cBhvr>
                                      <p:tavLst>
                                        <p:tav tm="0">
                                          <p:val>
                                            <p:strVal val="#ppt_h"/>
                                          </p:val>
                                        </p:tav>
                                        <p:tav tm="100000">
                                          <p:val>
                                            <p:strVal val="#ppt_h"/>
                                          </p:val>
                                        </p:tav>
                                      </p:tavLst>
                                    </p:anim>
                                    <p:animEffect filter="fade" transition="in">
                                      <p:cBhvr additive="repl">
                                        <p:cTn id="43" dur="1000"/>
                                        <p:tgtEl>
                                          <p:spTgt spid="109"/>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0">
                                  <p:stCondLst>
                                    <p:cond delay="0"/>
                                  </p:stCondLst>
                                  <p:childTnLst>
                                    <p:set>
                                      <p:cBhvr>
                                        <p:cTn id="47" dur="1" fill="hold">
                                          <p:stCondLst>
                                            <p:cond delay="0"/>
                                          </p:stCondLst>
                                        </p:cTn>
                                        <p:tgtEl>
                                          <p:spTgt spid="110">
                                            <p:txEl>
                                              <p:pRg st="0" end="0"/>
                                            </p:txEl>
                                          </p:spTgt>
                                        </p:tgtEl>
                                        <p:attrNameLst>
                                          <p:attrName>style.visibility</p:attrName>
                                        </p:attrNameLst>
                                      </p:cBhvr>
                                      <p:to>
                                        <p:strVal val="visible"/>
                                      </p:to>
                                    </p:set>
                                    <p:anim calcmode="lin" valueType="num">
                                      <p:cBhvr additive="repl">
                                        <p:cTn id="48" dur="1000" fill="hold"/>
                                        <p:tgtEl>
                                          <p:spTgt spid="110">
                                            <p:txEl>
                                              <p:pRg st="0" end="0"/>
                                            </p:txEl>
                                          </p:spTgt>
                                        </p:tgtEl>
                                        <p:attrNameLst>
                                          <p:attrName>ppt_w</p:attrName>
                                        </p:attrNameLst>
                                      </p:cBhvr>
                                      <p:tavLst>
                                        <p:tav tm="0">
                                          <p:val>
                                            <p:strVal val="#ppt_w+.3"/>
                                          </p:val>
                                        </p:tav>
                                        <p:tav tm="100000">
                                          <p:val>
                                            <p:strVal val="#ppt_w"/>
                                          </p:val>
                                        </p:tav>
                                      </p:tavLst>
                                    </p:anim>
                                    <p:anim calcmode="lin" valueType="num">
                                      <p:cBhvr additive="repl">
                                        <p:cTn id="49" dur="1000" fill="hold"/>
                                        <p:tgtEl>
                                          <p:spTgt spid="110">
                                            <p:txEl>
                                              <p:pRg st="0" end="0"/>
                                            </p:txEl>
                                          </p:spTgt>
                                        </p:tgtEl>
                                        <p:attrNameLst>
                                          <p:attrName>ppt_h</p:attrName>
                                        </p:attrNameLst>
                                      </p:cBhvr>
                                      <p:tavLst>
                                        <p:tav tm="0">
                                          <p:val>
                                            <p:strVal val="#ppt_h"/>
                                          </p:val>
                                        </p:tav>
                                        <p:tav tm="100000">
                                          <p:val>
                                            <p:strVal val="#ppt_h"/>
                                          </p:val>
                                        </p:tav>
                                      </p:tavLst>
                                    </p:anim>
                                    <p:animEffect filter="fade" transition="in">
                                      <p:cBhvr additive="repl">
                                        <p:cTn id="50" dur="1000"/>
                                        <p:tgtEl>
                                          <p:spTgt spid="110">
                                            <p:txEl>
                                              <p:pRg st="0" end="0"/>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0">
                                  <p:stCondLst>
                                    <p:cond delay="0"/>
                                  </p:stCondLst>
                                  <p:childTnLst>
                                    <p:set>
                                      <p:cBhvr>
                                        <p:cTn id="54" dur="1" fill="hold">
                                          <p:stCondLst>
                                            <p:cond delay="0"/>
                                          </p:stCondLst>
                                        </p:cTn>
                                        <p:tgtEl>
                                          <p:spTgt spid="110">
                                            <p:txEl>
                                              <p:pRg st="1" end="1"/>
                                            </p:txEl>
                                          </p:spTgt>
                                        </p:tgtEl>
                                        <p:attrNameLst>
                                          <p:attrName>style.visibility</p:attrName>
                                        </p:attrNameLst>
                                      </p:cBhvr>
                                      <p:to>
                                        <p:strVal val="visible"/>
                                      </p:to>
                                    </p:set>
                                    <p:anim calcmode="lin" valueType="num">
                                      <p:cBhvr additive="repl">
                                        <p:cTn id="55" dur="1000" fill="hold"/>
                                        <p:tgtEl>
                                          <p:spTgt spid="110">
                                            <p:txEl>
                                              <p:pRg st="1" end="1"/>
                                            </p:txEl>
                                          </p:spTgt>
                                        </p:tgtEl>
                                        <p:attrNameLst>
                                          <p:attrName>ppt_w</p:attrName>
                                        </p:attrNameLst>
                                      </p:cBhvr>
                                      <p:tavLst>
                                        <p:tav tm="0">
                                          <p:val>
                                            <p:strVal val="#ppt_w+.3"/>
                                          </p:val>
                                        </p:tav>
                                        <p:tav tm="100000">
                                          <p:val>
                                            <p:strVal val="#ppt_w"/>
                                          </p:val>
                                        </p:tav>
                                      </p:tavLst>
                                    </p:anim>
                                    <p:anim calcmode="lin" valueType="num">
                                      <p:cBhvr additive="repl">
                                        <p:cTn id="56" dur="1000" fill="hold"/>
                                        <p:tgtEl>
                                          <p:spTgt spid="110">
                                            <p:txEl>
                                              <p:pRg st="1" end="1"/>
                                            </p:txEl>
                                          </p:spTgt>
                                        </p:tgtEl>
                                        <p:attrNameLst>
                                          <p:attrName>ppt_h</p:attrName>
                                        </p:attrNameLst>
                                      </p:cBhvr>
                                      <p:tavLst>
                                        <p:tav tm="0">
                                          <p:val>
                                            <p:strVal val="#ppt_h"/>
                                          </p:val>
                                        </p:tav>
                                        <p:tav tm="100000">
                                          <p:val>
                                            <p:strVal val="#ppt_h"/>
                                          </p:val>
                                        </p:tav>
                                      </p:tavLst>
                                    </p:anim>
                                    <p:animEffect filter="fade" transition="in">
                                      <p:cBhvr additive="repl">
                                        <p:cTn id="57" dur="1000"/>
                                        <p:tgtEl>
                                          <p:spTgt spid="11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371600" y="30456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Old English Text MT"/>
              </a:rPr>
              <a:t>Chinese Paper</a:t>
            </a:r>
            <a:endParaRPr b="0" lang="en-US" sz="4800" spc="-1" strike="noStrike">
              <a:solidFill>
                <a:srgbClr val="000000"/>
              </a:solidFill>
              <a:latin typeface="Arial"/>
            </a:endParaRPr>
          </a:p>
        </p:txBody>
      </p:sp>
      <p:sp>
        <p:nvSpPr>
          <p:cNvPr id="114" name="PlaceHolder 2"/>
          <p:cNvSpPr>
            <a:spLocks noGrp="1"/>
          </p:cNvSpPr>
          <p:nvPr>
            <p:ph/>
          </p:nvPr>
        </p:nvSpPr>
        <p:spPr>
          <a:xfrm>
            <a:off x="1218960" y="1752480"/>
            <a:ext cx="3429000" cy="4114800"/>
          </a:xfrm>
          <a:prstGeom prst="rect">
            <a:avLst/>
          </a:prstGeom>
          <a:noFill/>
          <a:ln w="0">
            <a:noFill/>
          </a:ln>
        </p:spPr>
        <p:txBody>
          <a:bodyPr anchor="t">
            <a:normAutofit/>
          </a:bodyPr>
          <a:p>
            <a:pPr marL="343080" indent="-34308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arly Chinese paper made from rags, old fishing nets, hemp, china gras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mproved with mulberry bark, hemp, and rags mixed with water, mashed to pulp, liquid pressed out, hung to dry in sun</a:t>
            </a:r>
            <a:r>
              <a:rPr b="0" lang="en-US" sz="2000" spc="-1" strike="noStrike">
                <a:solidFill>
                  <a:srgbClr val="000000"/>
                </a:solidFill>
                <a:latin typeface="Old English Text MT"/>
              </a:rPr>
              <a:t> </a:t>
            </a:r>
            <a:endParaRPr b="0" lang="en-US" sz="2000" spc="-1" strike="noStrike">
              <a:solidFill>
                <a:srgbClr val="000000"/>
              </a:solidFill>
              <a:latin typeface="Arial"/>
            </a:endParaRPr>
          </a:p>
        </p:txBody>
      </p:sp>
      <p:pic>
        <p:nvPicPr>
          <p:cNvPr id="115" name="Picture 15" descr="Papermaking in China"/>
          <p:cNvPicPr/>
          <p:nvPr/>
        </p:nvPicPr>
        <p:blipFill>
          <a:blip r:embed="rId1"/>
          <a:stretch/>
        </p:blipFill>
        <p:spPr>
          <a:xfrm>
            <a:off x="4876920" y="2397240"/>
            <a:ext cx="4038480" cy="2755800"/>
          </a:xfrm>
          <a:prstGeom prst="rect">
            <a:avLst/>
          </a:prstGeom>
          <a:ln w="0">
            <a:noFill/>
          </a:ln>
        </p:spPr>
      </p:pic>
      <p:sp>
        <p:nvSpPr>
          <p:cNvPr id="116" name="Rectangle 16"/>
          <p:cNvSpPr/>
          <p:nvPr/>
        </p:nvSpPr>
        <p:spPr>
          <a:xfrm>
            <a:off x="4876920" y="5257800"/>
            <a:ext cx="4038480" cy="52020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Institute of Paper Science and Technology</a:t>
            </a:r>
            <a:br>
              <a:rPr sz="1400"/>
            </a:br>
            <a:r>
              <a:rPr b="0" lang="en-US" sz="1400" spc="-1" strike="noStrike">
                <a:solidFill>
                  <a:srgbClr val="ffffff"/>
                </a:solidFill>
                <a:latin typeface="Arial Unicode MS"/>
              </a:rPr>
              <a:t>www.ipst.edu/amp/img/chinapm3.gif*</a:t>
            </a:r>
            <a:endParaRPr b="0" lang="en-US" sz="1400" spc="-1" strike="noStrike">
              <a:solidFill>
                <a:srgbClr val="000000"/>
              </a:solidFill>
              <a:latin typeface="Arial"/>
            </a:endParaRPr>
          </a:p>
        </p:txBody>
      </p:sp>
      <p:sp>
        <p:nvSpPr>
          <p:cNvPr id="117" name="TextBox 6"/>
          <p:cNvSpPr/>
          <p:nvPr/>
        </p:nvSpPr>
        <p:spPr>
          <a:xfrm>
            <a:off x="1219320" y="647712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p:transition>
    <p:fade/>
  </p:transition>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withEffect" fill="hold" presetClass="entr" presetID="29">
                                  <p:stCondLst>
                                    <p:cond delay="0"/>
                                  </p:stCondLst>
                                  <p:childTnLst>
                                    <p:set>
                                      <p:cBhvr>
                                        <p:cTn id="63" dur="1" fill="hold">
                                          <p:stCondLst>
                                            <p:cond delay="0"/>
                                          </p:stCondLst>
                                        </p:cTn>
                                        <p:tgtEl>
                                          <p:spTgt spid="113"/>
                                        </p:tgtEl>
                                        <p:attrNameLst>
                                          <p:attrName>style.visibility</p:attrName>
                                        </p:attrNameLst>
                                      </p:cBhvr>
                                      <p:to>
                                        <p:strVal val="visible"/>
                                      </p:to>
                                    </p:set>
                                    <p:anim calcmode="lin" valueType="num">
                                      <p:cBhvr additive="repl">
                                        <p:cTn id="64" dur="1000" fill="hold"/>
                                        <p:tgtEl>
                                          <p:spTgt spid="113"/>
                                        </p:tgtEl>
                                        <p:attrNameLst>
                                          <p:attrName>ppt_x</p:attrName>
                                        </p:attrNameLst>
                                      </p:cBhvr>
                                      <p:tavLst>
                                        <p:tav tm="0">
                                          <p:val>
                                            <p:strVal val="#ppt_x-.2"/>
                                          </p:val>
                                        </p:tav>
                                        <p:tav tm="100000">
                                          <p:val>
                                            <p:strVal val="#ppt_x"/>
                                          </p:val>
                                        </p:tav>
                                      </p:tavLst>
                                    </p:anim>
                                    <p:anim calcmode="lin" valueType="num">
                                      <p:cBhvr additive="repl">
                                        <p:cTn id="65" dur="1000" fill="hold"/>
                                        <p:tgtEl>
                                          <p:spTgt spid="113"/>
                                        </p:tgtEl>
                                        <p:attrNameLst>
                                          <p:attrName>ppt_y</p:attrName>
                                        </p:attrNameLst>
                                      </p:cBhvr>
                                      <p:tavLst>
                                        <p:tav tm="0">
                                          <p:val>
                                            <p:strVal val="#ppt_y"/>
                                          </p:val>
                                        </p:tav>
                                        <p:tav tm="100000">
                                          <p:val>
                                            <p:strVal val="#ppt_y"/>
                                          </p:val>
                                        </p:tav>
                                      </p:tavLst>
                                    </p:anim>
                                    <p:animEffect filter="wipe(right)" transition="in">
                                      <p:cBhvr additive="repl">
                                        <p:cTn id="66" dur="1000"/>
                                        <p:tgtEl>
                                          <p:spTgt spid="113"/>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4">
                                  <p:stCondLst>
                                    <p:cond delay="0"/>
                                  </p:stCondLst>
                                  <p:childTnLst>
                                    <p:set>
                                      <p:cBhvr>
                                        <p:cTn id="70" dur="1" fill="hold">
                                          <p:stCondLst>
                                            <p:cond delay="0"/>
                                          </p:stCondLst>
                                        </p:cTn>
                                        <p:tgtEl>
                                          <p:spTgt spid="114">
                                            <p:txEl>
                                              <p:pRg st="0" end="0"/>
                                            </p:txEl>
                                          </p:spTgt>
                                        </p:tgtEl>
                                        <p:attrNameLst>
                                          <p:attrName>style.visibility</p:attrName>
                                        </p:attrNameLst>
                                      </p:cBhvr>
                                      <p:to>
                                        <p:strVal val="visible"/>
                                      </p:to>
                                    </p:set>
                                    <p:animEffect filter="fade" transition="in">
                                      <p:cBhvr additive="repl">
                                        <p:cTn id="71" dur="500"/>
                                        <p:tgtEl>
                                          <p:spTgt spid="114">
                                            <p:txEl>
                                              <p:pRg st="0" end="0"/>
                                            </p:txEl>
                                          </p:spTgt>
                                        </p:tgtEl>
                                      </p:cBhvr>
                                    </p:animEffect>
                                    <p:anim calcmode="lin" valueType="num">
                                      <p:cBhvr additive="repl">
                                        <p:cTn id="72"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repl">
                                        <p:cTn id="73" dur="500" fill="hold"/>
                                        <p:tgtEl>
                                          <p:spTgt spid="11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44">
                                  <p:stCondLst>
                                    <p:cond delay="0"/>
                                  </p:stCondLst>
                                  <p:childTnLst>
                                    <p:set>
                                      <p:cBhvr>
                                        <p:cTn id="77" dur="1" fill="hold">
                                          <p:stCondLst>
                                            <p:cond delay="0"/>
                                          </p:stCondLst>
                                        </p:cTn>
                                        <p:tgtEl>
                                          <p:spTgt spid="114">
                                            <p:txEl>
                                              <p:pRg st="2" end="2"/>
                                            </p:txEl>
                                          </p:spTgt>
                                        </p:tgtEl>
                                        <p:attrNameLst>
                                          <p:attrName>style.visibility</p:attrName>
                                        </p:attrNameLst>
                                      </p:cBhvr>
                                      <p:to>
                                        <p:strVal val="visible"/>
                                      </p:to>
                                    </p:set>
                                    <p:animEffect filter="fade" transition="in">
                                      <p:cBhvr additive="repl">
                                        <p:cTn id="78" dur="500"/>
                                        <p:tgtEl>
                                          <p:spTgt spid="114">
                                            <p:txEl>
                                              <p:pRg st="2" end="2"/>
                                            </p:txEl>
                                          </p:spTgt>
                                        </p:tgtEl>
                                      </p:cBhvr>
                                    </p:animEffect>
                                    <p:anim calcmode="lin" valueType="num">
                                      <p:cBhvr additive="repl">
                                        <p:cTn id="79" dur="5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repl">
                                        <p:cTn id="80" dur="500" fill="hold"/>
                                        <p:tgtEl>
                                          <p:spTgt spid="114">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447560" y="274320"/>
            <a:ext cx="7313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Old English Text MT"/>
              </a:rPr>
              <a:t>The Influence of Paper on All Things: Our Causal Map</a:t>
            </a:r>
            <a:endParaRPr b="0" lang="en-US" sz="4000" spc="-1" strike="noStrike">
              <a:solidFill>
                <a:srgbClr val="000000"/>
              </a:solidFill>
              <a:latin typeface="Arial"/>
            </a:endParaRPr>
          </a:p>
        </p:txBody>
      </p:sp>
      <p:pic>
        <p:nvPicPr>
          <p:cNvPr id="119" name="Picture 11" descr=""/>
          <p:cNvPicPr/>
          <p:nvPr/>
        </p:nvPicPr>
        <p:blipFill>
          <a:blip r:embed="rId1"/>
          <a:srcRect l="3127" t="25004" r="25003" b="18753"/>
          <a:stretch/>
        </p:blipFill>
        <p:spPr>
          <a:xfrm>
            <a:off x="1600200" y="2133720"/>
            <a:ext cx="7010280" cy="4114800"/>
          </a:xfrm>
          <a:prstGeom prst="rect">
            <a:avLst/>
          </a:prstGeom>
          <a:ln w="0">
            <a:noFill/>
          </a:ln>
        </p:spPr>
      </p:pic>
      <p:sp>
        <p:nvSpPr>
          <p:cNvPr id="120" name="TextBox 6"/>
          <p:cNvSpPr/>
          <p:nvPr/>
        </p:nvSpPr>
        <p:spPr>
          <a:xfrm>
            <a:off x="1219320" y="647712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371600" y="22824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Old English Text MT"/>
              </a:rPr>
              <a:t>Making the Case for Paper: Social Impact</a:t>
            </a:r>
            <a:endParaRPr b="0" lang="en-US" sz="4400" spc="-1" strike="noStrike">
              <a:solidFill>
                <a:srgbClr val="000000"/>
              </a:solidFill>
              <a:latin typeface="Arial"/>
            </a:endParaRPr>
          </a:p>
        </p:txBody>
      </p:sp>
      <p:sp>
        <p:nvSpPr>
          <p:cNvPr id="122" name="PlaceHolder 2"/>
          <p:cNvSpPr>
            <a:spLocks noGrp="1"/>
          </p:cNvSpPr>
          <p:nvPr>
            <p:ph/>
          </p:nvPr>
        </p:nvSpPr>
        <p:spPr>
          <a:xfrm>
            <a:off x="1371240" y="1600200"/>
            <a:ext cx="6553080" cy="5029200"/>
          </a:xfrm>
          <a:prstGeom prst="rect">
            <a:avLst/>
          </a:prstGeom>
          <a:noFill/>
          <a:ln w="0">
            <a:noFill/>
          </a:ln>
        </p:spPr>
        <p:txBody>
          <a:bodyPr anchor="t">
            <a:normAutofit/>
          </a:bodyPr>
          <a:p>
            <a:pPr marL="343080" indent="-343080">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ow cost, leads to increased availability</a:t>
            </a:r>
            <a:br>
              <a:rPr sz="2400"/>
            </a:br>
            <a:r>
              <a:rPr b="0" lang="en-US" sz="2400" spc="-1" strike="noStrike">
                <a:solidFill>
                  <a:srgbClr val="000000"/>
                </a:solidFill>
                <a:latin typeface="Arial Narrow"/>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creased availability leads to greater literacy, stimulates growth of schools, universities</a:t>
            </a:r>
            <a:br>
              <a:rPr sz="2400"/>
            </a:br>
            <a:r>
              <a:rPr b="0" lang="en-US" sz="2400" spc="-1" strike="noStrike">
                <a:solidFill>
                  <a:srgbClr val="000000"/>
                </a:solidFill>
                <a:latin typeface="Arial Narrow"/>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riting available to new classes in society</a:t>
            </a:r>
            <a:br>
              <a:rPr sz="2400"/>
            </a:br>
            <a:r>
              <a:rPr b="0" lang="en-US" sz="2400" spc="-1" strike="noStrike">
                <a:solidFill>
                  <a:srgbClr val="000000"/>
                </a:solidFill>
                <a:latin typeface="Arial Narrow"/>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undamental process of thinking changes, change from an oral to a literate culture</a:t>
            </a:r>
            <a:br>
              <a:rPr sz="2400"/>
            </a:br>
            <a:r>
              <a:rPr b="0" lang="en-US" sz="2400" spc="-1" strike="noStrike">
                <a:solidFill>
                  <a:srgbClr val="000000"/>
                </a:solidFill>
                <a:latin typeface="Arial Narrow"/>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nking ‘captured,’ made portable</a:t>
            </a:r>
            <a:endParaRPr b="0" lang="en-US" sz="2400" spc="-1" strike="noStrike">
              <a:solidFill>
                <a:srgbClr val="000000"/>
              </a:solidFill>
              <a:latin typeface="Arial"/>
            </a:endParaRPr>
          </a:p>
        </p:txBody>
      </p:sp>
      <p:pic>
        <p:nvPicPr>
          <p:cNvPr id="123" name="Picture 4" descr="Paper - Computer"/>
          <p:cNvPicPr/>
          <p:nvPr/>
        </p:nvPicPr>
        <p:blipFill>
          <a:blip r:embed="rId1"/>
          <a:stretch/>
        </p:blipFill>
        <p:spPr>
          <a:xfrm>
            <a:off x="6477120" y="4191120"/>
            <a:ext cx="2361960" cy="2109600"/>
          </a:xfrm>
          <a:prstGeom prst="rect">
            <a:avLst/>
          </a:prstGeom>
          <a:ln w="0">
            <a:noFill/>
          </a:ln>
        </p:spPr>
      </p:pic>
      <p:sp>
        <p:nvSpPr>
          <p:cNvPr id="124" name="TextBox 6"/>
          <p:cNvSpPr/>
          <p:nvPr/>
        </p:nvSpPr>
        <p:spPr>
          <a:xfrm>
            <a:off x="1219320" y="647712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withEffect" fill="hold" presetClass="entr" presetID="49">
                                  <p:stCondLst>
                                    <p:cond delay="0"/>
                                  </p:stCondLst>
                                  <p:childTnLst>
                                    <p:set>
                                      <p:cBhvr>
                                        <p:cTn id="86" dur="1" fill="hold">
                                          <p:stCondLst>
                                            <p:cond delay="0"/>
                                          </p:stCondLst>
                                        </p:cTn>
                                        <p:tgtEl>
                                          <p:spTgt spid="121"/>
                                        </p:tgtEl>
                                        <p:attrNameLst>
                                          <p:attrName>style.visibility</p:attrName>
                                        </p:attrNameLst>
                                      </p:cBhvr>
                                      <p:to>
                                        <p:strVal val="visible"/>
                                      </p:to>
                                    </p:set>
                                    <p:anim calcmode="lin" valueType="num">
                                      <p:cBhvr additive="repl">
                                        <p:cTn id="87" dur="500" fill="hold"/>
                                        <p:tgtEl>
                                          <p:spTgt spid="121"/>
                                        </p:tgtEl>
                                        <p:attrNameLst>
                                          <p:attrName>ppt_w</p:attrName>
                                        </p:attrNameLst>
                                      </p:cBhvr>
                                      <p:tavLst>
                                        <p:tav tm="0">
                                          <p:val>
                                            <p:fltVal val="0"/>
                                          </p:val>
                                        </p:tav>
                                        <p:tav tm="100000">
                                          <p:val>
                                            <p:strVal val="#ppt_w"/>
                                          </p:val>
                                        </p:tav>
                                      </p:tavLst>
                                    </p:anim>
                                    <p:anim calcmode="lin" valueType="num">
                                      <p:cBhvr additive="repl">
                                        <p:cTn id="88" dur="500" fill="hold"/>
                                        <p:tgtEl>
                                          <p:spTgt spid="121"/>
                                        </p:tgtEl>
                                        <p:attrNameLst>
                                          <p:attrName>ppt_h</p:attrName>
                                        </p:attrNameLst>
                                      </p:cBhvr>
                                      <p:tavLst>
                                        <p:tav tm="0">
                                          <p:val>
                                            <p:fltVal val="0"/>
                                          </p:val>
                                        </p:tav>
                                        <p:tav tm="100000">
                                          <p:val>
                                            <p:strVal val="#ppt_h"/>
                                          </p:val>
                                        </p:tav>
                                      </p:tavLst>
                                    </p:anim>
                                    <p:anim calcmode="lin" valueType="num">
                                      <p:cBhvr additive="repl">
                                        <p:cTn id="89" dur="500" fill="hold"/>
                                        <p:tgtEl>
                                          <p:spTgt spid="121"/>
                                        </p:tgtEl>
                                        <p:attrNameLst>
                                          <p:attrName>r</p:attrName>
                                        </p:attrNameLst>
                                      </p:cBhvr>
                                      <p:tavLst>
                                        <p:tav tm="0">
                                          <p:val>
                                            <p:strVal val="360"/>
                                          </p:val>
                                        </p:tav>
                                        <p:tav tm="100000">
                                          <p:val>
                                            <p:strVal val="0"/>
                                          </p:val>
                                        </p:tav>
                                      </p:tavLst>
                                    </p:anim>
                                    <p:animEffect filter="fade" transition="in">
                                      <p:cBhvr additive="repl">
                                        <p:cTn id="90" dur="500"/>
                                        <p:tgtEl>
                                          <p:spTgt spid="121"/>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9">
                                  <p:stCondLst>
                                    <p:cond delay="0"/>
                                  </p:stCondLst>
                                  <p:iterate type="lt">
                                    <p:tmAbs val="50"/>
                                  </p:iterate>
                                  <p:childTnLst>
                                    <p:set>
                                      <p:cBhvr>
                                        <p:cTn id="94" dur="1" fill="hold">
                                          <p:stCondLst>
                                            <p:cond delay="0"/>
                                          </p:stCondLst>
                                        </p:cTn>
                                        <p:tgtEl>
                                          <p:spTgt spid="122">
                                            <p:txEl>
                                              <p:pRg st="0" end="0"/>
                                            </p:txEl>
                                          </p:spTgt>
                                        </p:tgtEl>
                                        <p:attrNameLst>
                                          <p:attrName>style.visibility</p:attrName>
                                        </p:attrNameLst>
                                      </p:cBhvr>
                                      <p:to>
                                        <p:strVal val="visible"/>
                                      </p:to>
                                    </p:set>
                                    <p:anim calcmode="lin" valueType="num">
                                      <p:cBhvr additive="repl">
                                        <p:cTn id="95" dur="500" fill="hold"/>
                                        <p:tgtEl>
                                          <p:spTgt spid="122">
                                            <p:txEl>
                                              <p:pRg st="0" end="0"/>
                                            </p:txEl>
                                          </p:spTgt>
                                        </p:tgtEl>
                                        <p:attrNameLst>
                                          <p:attrName>ppt_w</p:attrName>
                                        </p:attrNameLst>
                                      </p:cBhvr>
                                      <p:tavLst>
                                        <p:tav tm="0">
                                          <p:val>
                                            <p:fltVal val="0"/>
                                          </p:val>
                                        </p:tav>
                                        <p:tav tm="100000">
                                          <p:val>
                                            <p:strVal val="#ppt_w"/>
                                          </p:val>
                                        </p:tav>
                                      </p:tavLst>
                                    </p:anim>
                                    <p:anim calcmode="lin" valueType="num">
                                      <p:cBhvr additive="repl">
                                        <p:cTn id="96" dur="500" fill="hold"/>
                                        <p:tgtEl>
                                          <p:spTgt spid="122">
                                            <p:txEl>
                                              <p:pRg st="0" end="0"/>
                                            </p:txEl>
                                          </p:spTgt>
                                        </p:tgtEl>
                                        <p:attrNameLst>
                                          <p:attrName>ppt_h</p:attrName>
                                        </p:attrNameLst>
                                      </p:cBhvr>
                                      <p:tavLst>
                                        <p:tav tm="0">
                                          <p:val>
                                            <p:fltVal val="0"/>
                                          </p:val>
                                        </p:tav>
                                        <p:tav tm="100000">
                                          <p:val>
                                            <p:strVal val="#ppt_h"/>
                                          </p:val>
                                        </p:tav>
                                      </p:tavLst>
                                    </p:anim>
                                    <p:anim calcmode="lin" valueType="num">
                                      <p:cBhvr additive="repl">
                                        <p:cTn id="97" dur="500" fill="hold"/>
                                        <p:tgtEl>
                                          <p:spTgt spid="122">
                                            <p:txEl>
                                              <p:pRg st="0" end="0"/>
                                            </p:txEl>
                                          </p:spTgt>
                                        </p:tgtEl>
                                        <p:attrNameLst>
                                          <p:attrName>r</p:attrName>
                                        </p:attrNameLst>
                                      </p:cBhvr>
                                      <p:tavLst>
                                        <p:tav tm="0">
                                          <p:val>
                                            <p:strVal val="360"/>
                                          </p:val>
                                        </p:tav>
                                        <p:tav tm="100000">
                                          <p:val>
                                            <p:strVal val="0"/>
                                          </p:val>
                                        </p:tav>
                                      </p:tavLst>
                                    </p:anim>
                                    <p:animEffect filter="fade" transition="in">
                                      <p:cBhvr additive="repl">
                                        <p:cTn id="98" dur="500"/>
                                        <p:tgtEl>
                                          <p:spTgt spid="122">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49">
                                  <p:stCondLst>
                                    <p:cond delay="0"/>
                                  </p:stCondLst>
                                  <p:iterate type="lt">
                                    <p:tmAbs val="50"/>
                                  </p:iterate>
                                  <p:childTnLst>
                                    <p:set>
                                      <p:cBhvr>
                                        <p:cTn id="102" dur="1" fill="hold">
                                          <p:stCondLst>
                                            <p:cond delay="0"/>
                                          </p:stCondLst>
                                        </p:cTn>
                                        <p:tgtEl>
                                          <p:spTgt spid="122">
                                            <p:txEl>
                                              <p:pRg st="1" end="1"/>
                                            </p:txEl>
                                          </p:spTgt>
                                        </p:tgtEl>
                                        <p:attrNameLst>
                                          <p:attrName>style.visibility</p:attrName>
                                        </p:attrNameLst>
                                      </p:cBhvr>
                                      <p:to>
                                        <p:strVal val="visible"/>
                                      </p:to>
                                    </p:set>
                                    <p:anim calcmode="lin" valueType="num">
                                      <p:cBhvr additive="repl">
                                        <p:cTn id="103" dur="500" fill="hold"/>
                                        <p:tgtEl>
                                          <p:spTgt spid="122">
                                            <p:txEl>
                                              <p:pRg st="1" end="1"/>
                                            </p:txEl>
                                          </p:spTgt>
                                        </p:tgtEl>
                                        <p:attrNameLst>
                                          <p:attrName>ppt_w</p:attrName>
                                        </p:attrNameLst>
                                      </p:cBhvr>
                                      <p:tavLst>
                                        <p:tav tm="0">
                                          <p:val>
                                            <p:fltVal val="0"/>
                                          </p:val>
                                        </p:tav>
                                        <p:tav tm="100000">
                                          <p:val>
                                            <p:strVal val="#ppt_w"/>
                                          </p:val>
                                        </p:tav>
                                      </p:tavLst>
                                    </p:anim>
                                    <p:anim calcmode="lin" valueType="num">
                                      <p:cBhvr additive="repl">
                                        <p:cTn id="104" dur="500" fill="hold"/>
                                        <p:tgtEl>
                                          <p:spTgt spid="122">
                                            <p:txEl>
                                              <p:pRg st="1" end="1"/>
                                            </p:txEl>
                                          </p:spTgt>
                                        </p:tgtEl>
                                        <p:attrNameLst>
                                          <p:attrName>ppt_h</p:attrName>
                                        </p:attrNameLst>
                                      </p:cBhvr>
                                      <p:tavLst>
                                        <p:tav tm="0">
                                          <p:val>
                                            <p:fltVal val="0"/>
                                          </p:val>
                                        </p:tav>
                                        <p:tav tm="100000">
                                          <p:val>
                                            <p:strVal val="#ppt_h"/>
                                          </p:val>
                                        </p:tav>
                                      </p:tavLst>
                                    </p:anim>
                                    <p:anim calcmode="lin" valueType="num">
                                      <p:cBhvr additive="repl">
                                        <p:cTn id="105" dur="500" fill="hold"/>
                                        <p:tgtEl>
                                          <p:spTgt spid="122">
                                            <p:txEl>
                                              <p:pRg st="1" end="1"/>
                                            </p:txEl>
                                          </p:spTgt>
                                        </p:tgtEl>
                                        <p:attrNameLst>
                                          <p:attrName>r</p:attrName>
                                        </p:attrNameLst>
                                      </p:cBhvr>
                                      <p:tavLst>
                                        <p:tav tm="0">
                                          <p:val>
                                            <p:strVal val="360"/>
                                          </p:val>
                                        </p:tav>
                                        <p:tav tm="100000">
                                          <p:val>
                                            <p:strVal val="0"/>
                                          </p:val>
                                        </p:tav>
                                      </p:tavLst>
                                    </p:anim>
                                    <p:animEffect filter="fade" transition="in">
                                      <p:cBhvr additive="repl">
                                        <p:cTn id="106" dur="500"/>
                                        <p:tgtEl>
                                          <p:spTgt spid="122">
                                            <p:txEl>
                                              <p:pRg st="1" end="1"/>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49">
                                  <p:stCondLst>
                                    <p:cond delay="0"/>
                                  </p:stCondLst>
                                  <p:iterate type="lt">
                                    <p:tmAbs val="50"/>
                                  </p:iterate>
                                  <p:childTnLst>
                                    <p:set>
                                      <p:cBhvr>
                                        <p:cTn id="110" dur="1" fill="hold">
                                          <p:stCondLst>
                                            <p:cond delay="0"/>
                                          </p:stCondLst>
                                        </p:cTn>
                                        <p:tgtEl>
                                          <p:spTgt spid="122">
                                            <p:txEl>
                                              <p:pRg st="2" end="2"/>
                                            </p:txEl>
                                          </p:spTgt>
                                        </p:tgtEl>
                                        <p:attrNameLst>
                                          <p:attrName>style.visibility</p:attrName>
                                        </p:attrNameLst>
                                      </p:cBhvr>
                                      <p:to>
                                        <p:strVal val="visible"/>
                                      </p:to>
                                    </p:set>
                                    <p:anim calcmode="lin" valueType="num">
                                      <p:cBhvr additive="repl">
                                        <p:cTn id="111" dur="500" fill="hold"/>
                                        <p:tgtEl>
                                          <p:spTgt spid="122">
                                            <p:txEl>
                                              <p:pRg st="2" end="2"/>
                                            </p:txEl>
                                          </p:spTgt>
                                        </p:tgtEl>
                                        <p:attrNameLst>
                                          <p:attrName>ppt_w</p:attrName>
                                        </p:attrNameLst>
                                      </p:cBhvr>
                                      <p:tavLst>
                                        <p:tav tm="0">
                                          <p:val>
                                            <p:fltVal val="0"/>
                                          </p:val>
                                        </p:tav>
                                        <p:tav tm="100000">
                                          <p:val>
                                            <p:strVal val="#ppt_w"/>
                                          </p:val>
                                        </p:tav>
                                      </p:tavLst>
                                    </p:anim>
                                    <p:anim calcmode="lin" valueType="num">
                                      <p:cBhvr additive="repl">
                                        <p:cTn id="112" dur="500" fill="hold"/>
                                        <p:tgtEl>
                                          <p:spTgt spid="122">
                                            <p:txEl>
                                              <p:pRg st="2" end="2"/>
                                            </p:txEl>
                                          </p:spTgt>
                                        </p:tgtEl>
                                        <p:attrNameLst>
                                          <p:attrName>ppt_h</p:attrName>
                                        </p:attrNameLst>
                                      </p:cBhvr>
                                      <p:tavLst>
                                        <p:tav tm="0">
                                          <p:val>
                                            <p:fltVal val="0"/>
                                          </p:val>
                                        </p:tav>
                                        <p:tav tm="100000">
                                          <p:val>
                                            <p:strVal val="#ppt_h"/>
                                          </p:val>
                                        </p:tav>
                                      </p:tavLst>
                                    </p:anim>
                                    <p:anim calcmode="lin" valueType="num">
                                      <p:cBhvr additive="repl">
                                        <p:cTn id="113" dur="500" fill="hold"/>
                                        <p:tgtEl>
                                          <p:spTgt spid="122">
                                            <p:txEl>
                                              <p:pRg st="2" end="2"/>
                                            </p:txEl>
                                          </p:spTgt>
                                        </p:tgtEl>
                                        <p:attrNameLst>
                                          <p:attrName>r</p:attrName>
                                        </p:attrNameLst>
                                      </p:cBhvr>
                                      <p:tavLst>
                                        <p:tav tm="0">
                                          <p:val>
                                            <p:strVal val="360"/>
                                          </p:val>
                                        </p:tav>
                                        <p:tav tm="100000">
                                          <p:val>
                                            <p:strVal val="0"/>
                                          </p:val>
                                        </p:tav>
                                      </p:tavLst>
                                    </p:anim>
                                    <p:animEffect filter="fade" transition="in">
                                      <p:cBhvr additive="repl">
                                        <p:cTn id="114" dur="500"/>
                                        <p:tgtEl>
                                          <p:spTgt spid="122">
                                            <p:txEl>
                                              <p:pRg st="2" end="2"/>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9">
                                  <p:stCondLst>
                                    <p:cond delay="0"/>
                                  </p:stCondLst>
                                  <p:iterate type="lt">
                                    <p:tmAbs val="50"/>
                                  </p:iterate>
                                  <p:childTnLst>
                                    <p:set>
                                      <p:cBhvr>
                                        <p:cTn id="118" dur="1" fill="hold">
                                          <p:stCondLst>
                                            <p:cond delay="0"/>
                                          </p:stCondLst>
                                        </p:cTn>
                                        <p:tgtEl>
                                          <p:spTgt spid="122">
                                            <p:txEl>
                                              <p:pRg st="3" end="3"/>
                                            </p:txEl>
                                          </p:spTgt>
                                        </p:tgtEl>
                                        <p:attrNameLst>
                                          <p:attrName>style.visibility</p:attrName>
                                        </p:attrNameLst>
                                      </p:cBhvr>
                                      <p:to>
                                        <p:strVal val="visible"/>
                                      </p:to>
                                    </p:set>
                                    <p:anim calcmode="lin" valueType="num">
                                      <p:cBhvr additive="repl">
                                        <p:cTn id="119" dur="500" fill="hold"/>
                                        <p:tgtEl>
                                          <p:spTgt spid="122">
                                            <p:txEl>
                                              <p:pRg st="3" end="3"/>
                                            </p:txEl>
                                          </p:spTgt>
                                        </p:tgtEl>
                                        <p:attrNameLst>
                                          <p:attrName>ppt_w</p:attrName>
                                        </p:attrNameLst>
                                      </p:cBhvr>
                                      <p:tavLst>
                                        <p:tav tm="0">
                                          <p:val>
                                            <p:fltVal val="0"/>
                                          </p:val>
                                        </p:tav>
                                        <p:tav tm="100000">
                                          <p:val>
                                            <p:strVal val="#ppt_w"/>
                                          </p:val>
                                        </p:tav>
                                      </p:tavLst>
                                    </p:anim>
                                    <p:anim calcmode="lin" valueType="num">
                                      <p:cBhvr additive="repl">
                                        <p:cTn id="120" dur="500" fill="hold"/>
                                        <p:tgtEl>
                                          <p:spTgt spid="122">
                                            <p:txEl>
                                              <p:pRg st="3" end="3"/>
                                            </p:txEl>
                                          </p:spTgt>
                                        </p:tgtEl>
                                        <p:attrNameLst>
                                          <p:attrName>ppt_h</p:attrName>
                                        </p:attrNameLst>
                                      </p:cBhvr>
                                      <p:tavLst>
                                        <p:tav tm="0">
                                          <p:val>
                                            <p:fltVal val="0"/>
                                          </p:val>
                                        </p:tav>
                                        <p:tav tm="100000">
                                          <p:val>
                                            <p:strVal val="#ppt_h"/>
                                          </p:val>
                                        </p:tav>
                                      </p:tavLst>
                                    </p:anim>
                                    <p:anim calcmode="lin" valueType="num">
                                      <p:cBhvr additive="repl">
                                        <p:cTn id="121" dur="500" fill="hold"/>
                                        <p:tgtEl>
                                          <p:spTgt spid="122">
                                            <p:txEl>
                                              <p:pRg st="3" end="3"/>
                                            </p:txEl>
                                          </p:spTgt>
                                        </p:tgtEl>
                                        <p:attrNameLst>
                                          <p:attrName>r</p:attrName>
                                        </p:attrNameLst>
                                      </p:cBhvr>
                                      <p:tavLst>
                                        <p:tav tm="0">
                                          <p:val>
                                            <p:strVal val="360"/>
                                          </p:val>
                                        </p:tav>
                                        <p:tav tm="100000">
                                          <p:val>
                                            <p:strVal val="0"/>
                                          </p:val>
                                        </p:tav>
                                      </p:tavLst>
                                    </p:anim>
                                    <p:animEffect filter="fade" transition="in">
                                      <p:cBhvr additive="repl">
                                        <p:cTn id="122" dur="500"/>
                                        <p:tgtEl>
                                          <p:spTgt spid="122">
                                            <p:txEl>
                                              <p:pRg st="3" end="3"/>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9">
                                  <p:stCondLst>
                                    <p:cond delay="0"/>
                                  </p:stCondLst>
                                  <p:iterate type="lt">
                                    <p:tmAbs val="50"/>
                                  </p:iterate>
                                  <p:childTnLst>
                                    <p:set>
                                      <p:cBhvr>
                                        <p:cTn id="126" dur="1" fill="hold">
                                          <p:stCondLst>
                                            <p:cond delay="0"/>
                                          </p:stCondLst>
                                        </p:cTn>
                                        <p:tgtEl>
                                          <p:spTgt spid="122">
                                            <p:txEl>
                                              <p:pRg st="4" end="4"/>
                                            </p:txEl>
                                          </p:spTgt>
                                        </p:tgtEl>
                                        <p:attrNameLst>
                                          <p:attrName>style.visibility</p:attrName>
                                        </p:attrNameLst>
                                      </p:cBhvr>
                                      <p:to>
                                        <p:strVal val="visible"/>
                                      </p:to>
                                    </p:set>
                                    <p:anim calcmode="lin" valueType="num">
                                      <p:cBhvr additive="repl">
                                        <p:cTn id="127" dur="500" fill="hold"/>
                                        <p:tgtEl>
                                          <p:spTgt spid="122">
                                            <p:txEl>
                                              <p:pRg st="4" end="4"/>
                                            </p:txEl>
                                          </p:spTgt>
                                        </p:tgtEl>
                                        <p:attrNameLst>
                                          <p:attrName>ppt_w</p:attrName>
                                        </p:attrNameLst>
                                      </p:cBhvr>
                                      <p:tavLst>
                                        <p:tav tm="0">
                                          <p:val>
                                            <p:fltVal val="0"/>
                                          </p:val>
                                        </p:tav>
                                        <p:tav tm="100000">
                                          <p:val>
                                            <p:strVal val="#ppt_w"/>
                                          </p:val>
                                        </p:tav>
                                      </p:tavLst>
                                    </p:anim>
                                    <p:anim calcmode="lin" valueType="num">
                                      <p:cBhvr additive="repl">
                                        <p:cTn id="128" dur="500" fill="hold"/>
                                        <p:tgtEl>
                                          <p:spTgt spid="122">
                                            <p:txEl>
                                              <p:pRg st="4" end="4"/>
                                            </p:txEl>
                                          </p:spTgt>
                                        </p:tgtEl>
                                        <p:attrNameLst>
                                          <p:attrName>ppt_h</p:attrName>
                                        </p:attrNameLst>
                                      </p:cBhvr>
                                      <p:tavLst>
                                        <p:tav tm="0">
                                          <p:val>
                                            <p:fltVal val="0"/>
                                          </p:val>
                                        </p:tav>
                                        <p:tav tm="100000">
                                          <p:val>
                                            <p:strVal val="#ppt_h"/>
                                          </p:val>
                                        </p:tav>
                                      </p:tavLst>
                                    </p:anim>
                                    <p:anim calcmode="lin" valueType="num">
                                      <p:cBhvr additive="repl">
                                        <p:cTn id="129" dur="500" fill="hold"/>
                                        <p:tgtEl>
                                          <p:spTgt spid="122">
                                            <p:txEl>
                                              <p:pRg st="4" end="4"/>
                                            </p:txEl>
                                          </p:spTgt>
                                        </p:tgtEl>
                                        <p:attrNameLst>
                                          <p:attrName>r</p:attrName>
                                        </p:attrNameLst>
                                      </p:cBhvr>
                                      <p:tavLst>
                                        <p:tav tm="0">
                                          <p:val>
                                            <p:strVal val="360"/>
                                          </p:val>
                                        </p:tav>
                                        <p:tav tm="100000">
                                          <p:val>
                                            <p:strVal val="0"/>
                                          </p:val>
                                        </p:tav>
                                      </p:tavLst>
                                    </p:anim>
                                    <p:animEffect filter="fade" transition="in">
                                      <p:cBhvr additive="repl">
                                        <p:cTn id="130" dur="500"/>
                                        <p:tgtEl>
                                          <p:spTgt spid="12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371600" y="-36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Old English Text MT"/>
              </a:rPr>
              <a:t>Making the Case for Paper: Economic Impact</a:t>
            </a:r>
            <a:endParaRPr b="0" lang="en-US" sz="4400" spc="-1" strike="noStrike">
              <a:solidFill>
                <a:srgbClr val="000000"/>
              </a:solidFill>
              <a:latin typeface="Arial"/>
            </a:endParaRPr>
          </a:p>
        </p:txBody>
      </p:sp>
      <p:sp>
        <p:nvSpPr>
          <p:cNvPr id="126" name="PlaceHolder 2"/>
          <p:cNvSpPr>
            <a:spLocks noGrp="1"/>
          </p:cNvSpPr>
          <p:nvPr>
            <p:ph/>
          </p:nvPr>
        </p:nvSpPr>
        <p:spPr>
          <a:xfrm>
            <a:off x="1371600" y="1523520"/>
            <a:ext cx="6019920" cy="4496040"/>
          </a:xfrm>
          <a:prstGeom prst="rect">
            <a:avLst/>
          </a:prstGeom>
          <a:noFill/>
          <a:ln w="0">
            <a:noFill/>
          </a:ln>
        </p:spPr>
        <p:txBody>
          <a:bodyPr anchor="t">
            <a:normAutofit/>
          </a:bodyPr>
          <a:p>
            <a:pPr marL="343080" indent="-34308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per: more scribes, fewer heralds!</a:t>
            </a:r>
            <a:br>
              <a:rPr sz="2400"/>
            </a:br>
            <a:r>
              <a:rPr b="0" lang="en-US" sz="2400" spc="-1" strike="noStrike">
                <a:solidFill>
                  <a:srgbClr val="000000"/>
                </a:solidFill>
                <a:latin typeface="Arial Narrow"/>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riting/reading still elite until moveable type and mechanized paper manufacturing</a:t>
            </a:r>
            <a:br>
              <a:rPr sz="2400"/>
            </a:br>
            <a:r>
              <a:rPr b="0" lang="en-US" sz="2400" spc="-1" strike="noStrike">
                <a:solidFill>
                  <a:srgbClr val="000000"/>
                </a:solidFill>
                <a:latin typeface="Arial Narrow"/>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ith both, jobs produced</a:t>
            </a:r>
            <a:br>
              <a:rPr sz="2400"/>
            </a:br>
            <a:r>
              <a:rPr b="0" lang="en-US" sz="2400" spc="-1" strike="noStrike">
                <a:solidFill>
                  <a:srgbClr val="000000"/>
                </a:solidFill>
                <a:latin typeface="Arial Narrow"/>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ood pulp process perfected, </a:t>
            </a:r>
            <a:br>
              <a:rPr sz="2400"/>
            </a:br>
            <a:r>
              <a:rPr b="0" lang="en-US" sz="2400" spc="-1" strike="noStrike">
                <a:solidFill>
                  <a:srgbClr val="000000"/>
                </a:solidFill>
                <a:latin typeface="Arial Narrow"/>
              </a:rPr>
              <a:t>papermaking drops in price:</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864 - 28 cents/pound</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897 - 2 cents/pound</a:t>
            </a:r>
            <a:endParaRPr b="0" lang="en-US" sz="2000" spc="-1" strike="noStrike">
              <a:solidFill>
                <a:srgbClr val="000000"/>
              </a:solidFill>
              <a:latin typeface="Arial"/>
            </a:endParaRPr>
          </a:p>
        </p:txBody>
      </p:sp>
      <p:pic>
        <p:nvPicPr>
          <p:cNvPr id="127" name="Picture 5" descr="papermill_160">
            <a:hlinkClick r:id="rId1"/>
          </p:cNvPr>
          <p:cNvPicPr/>
          <p:nvPr/>
        </p:nvPicPr>
        <p:blipFill>
          <a:blip r:embed="rId2"/>
          <a:stretch/>
        </p:blipFill>
        <p:spPr>
          <a:xfrm>
            <a:off x="6019920" y="3352680"/>
            <a:ext cx="2971800" cy="2192400"/>
          </a:xfrm>
          <a:prstGeom prst="rect">
            <a:avLst/>
          </a:prstGeom>
          <a:ln w="0">
            <a:noFill/>
          </a:ln>
        </p:spPr>
      </p:pic>
      <p:sp>
        <p:nvSpPr>
          <p:cNvPr id="128" name="TextBox 6"/>
          <p:cNvSpPr/>
          <p:nvPr/>
        </p:nvSpPr>
        <p:spPr>
          <a:xfrm>
            <a:off x="1219320" y="647712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p:transition>
    <p:push dir="r"/>
  </p:transition>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withEffect" fill="hold" presetClass="entr" presetID="2" presetSubtype="9">
                                  <p:stCondLst>
                                    <p:cond delay="0"/>
                                  </p:stCondLst>
                                  <p:iterate type="lt">
                                    <p:tmAbs val="80"/>
                                  </p:iterate>
                                  <p:childTnLst>
                                    <p:set>
                                      <p:cBhvr>
                                        <p:cTn id="136" dur="1" fill="hold">
                                          <p:stCondLst>
                                            <p:cond delay="0"/>
                                          </p:stCondLst>
                                        </p:cTn>
                                        <p:tgtEl>
                                          <p:spTgt spid="125"/>
                                        </p:tgtEl>
                                        <p:attrNameLst>
                                          <p:attrName>style.visibility</p:attrName>
                                        </p:attrNameLst>
                                      </p:cBhvr>
                                      <p:to>
                                        <p:strVal val="visible"/>
                                      </p:to>
                                    </p:set>
                                    <p:anim calcmode="lin" valueType="num">
                                      <p:cBhvr additive="base">
                                        <p:cTn id="137" dur="800" fill="hold">
                                          <p:stCondLst>
                                            <p:cond delay="0"/>
                                          </p:stCondLst>
                                        </p:cTn>
                                        <p:tgtEl>
                                          <p:spTgt spid="125"/>
                                        </p:tgtEl>
                                        <p:attrNameLst>
                                          <p:attrName>ppt_x</p:attrName>
                                        </p:attrNameLst>
                                      </p:cBhvr>
                                      <p:tavLst>
                                        <p:tav tm="0">
                                          <p:val>
                                            <p:strVal val="0-#ppt_w/2"/>
                                          </p:val>
                                        </p:tav>
                                        <p:tav tm="100000">
                                          <p:val>
                                            <p:strVal val="#ppt_x"/>
                                          </p:val>
                                        </p:tav>
                                      </p:tavLst>
                                    </p:anim>
                                    <p:anim calcmode="lin" valueType="num">
                                      <p:cBhvr additive="base">
                                        <p:cTn id="138" dur="800" fill="hold">
                                          <p:stCondLst>
                                            <p:cond delay="0"/>
                                          </p:stCondLst>
                                        </p:cTn>
                                        <p:tgtEl>
                                          <p:spTgt spid="125"/>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40">
                                  <p:stCondLst>
                                    <p:cond delay="0"/>
                                  </p:stCondLst>
                                  <p:iterate type="lt">
                                    <p:tmAbs val="100"/>
                                  </p:iterate>
                                  <p:childTnLst>
                                    <p:set>
                                      <p:cBhvr>
                                        <p:cTn id="142" dur="1" fill="hold">
                                          <p:stCondLst>
                                            <p:cond delay="0"/>
                                          </p:stCondLst>
                                        </p:cTn>
                                        <p:tgtEl>
                                          <p:spTgt spid="126">
                                            <p:txEl>
                                              <p:pRg st="0" end="0"/>
                                            </p:txEl>
                                          </p:spTgt>
                                        </p:tgtEl>
                                        <p:attrNameLst>
                                          <p:attrName>style.visibility</p:attrName>
                                        </p:attrNameLst>
                                      </p:cBhvr>
                                      <p:to>
                                        <p:strVal val="visible"/>
                                      </p:to>
                                    </p:set>
                                    <p:animEffect filter="fade" transition="in">
                                      <p:cBhvr additive="repl">
                                        <p:cTn id="143" dur="1000"/>
                                        <p:tgtEl>
                                          <p:spTgt spid="126">
                                            <p:txEl>
                                              <p:pRg st="0" end="0"/>
                                            </p:txEl>
                                          </p:spTgt>
                                        </p:tgtEl>
                                      </p:cBhvr>
                                    </p:animEffect>
                                    <p:anim calcmode="lin" valueType="num">
                                      <p:cBhvr additive="repl">
                                        <p:cTn id="144" dur="1000" fill="hold"/>
                                        <p:tgtEl>
                                          <p:spTgt spid="126">
                                            <p:txEl>
                                              <p:pRg st="0" end="0"/>
                                            </p:txEl>
                                          </p:spTgt>
                                        </p:tgtEl>
                                        <p:attrNameLst>
                                          <p:attrName>ppt_x</p:attrName>
                                        </p:attrNameLst>
                                      </p:cBhvr>
                                      <p:tavLst>
                                        <p:tav tm="0">
                                          <p:val>
                                            <p:strVal val="#ppt_x-.1"/>
                                          </p:val>
                                        </p:tav>
                                        <p:tav tm="100000">
                                          <p:val>
                                            <p:strVal val="#ppt_x"/>
                                          </p:val>
                                        </p:tav>
                                      </p:tavLst>
                                    </p:anim>
                                    <p:anim calcmode="lin" valueType="num">
                                      <p:cBhvr additive="repl">
                                        <p:cTn id="145" dur="1000" fill="hold"/>
                                        <p:tgtEl>
                                          <p:spTgt spid="1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40">
                                  <p:stCondLst>
                                    <p:cond delay="0"/>
                                  </p:stCondLst>
                                  <p:iterate type="lt">
                                    <p:tmAbs val="100"/>
                                  </p:iterate>
                                  <p:childTnLst>
                                    <p:set>
                                      <p:cBhvr>
                                        <p:cTn id="149" dur="1" fill="hold">
                                          <p:stCondLst>
                                            <p:cond delay="0"/>
                                          </p:stCondLst>
                                        </p:cTn>
                                        <p:tgtEl>
                                          <p:spTgt spid="126">
                                            <p:txEl>
                                              <p:pRg st="1" end="1"/>
                                            </p:txEl>
                                          </p:spTgt>
                                        </p:tgtEl>
                                        <p:attrNameLst>
                                          <p:attrName>style.visibility</p:attrName>
                                        </p:attrNameLst>
                                      </p:cBhvr>
                                      <p:to>
                                        <p:strVal val="visible"/>
                                      </p:to>
                                    </p:set>
                                    <p:animEffect filter="fade" transition="in">
                                      <p:cBhvr additive="repl">
                                        <p:cTn id="150" dur="1000"/>
                                        <p:tgtEl>
                                          <p:spTgt spid="126">
                                            <p:txEl>
                                              <p:pRg st="1" end="1"/>
                                            </p:txEl>
                                          </p:spTgt>
                                        </p:tgtEl>
                                      </p:cBhvr>
                                    </p:animEffect>
                                    <p:anim calcmode="lin" valueType="num">
                                      <p:cBhvr additive="repl">
                                        <p:cTn id="151" dur="1000" fill="hold"/>
                                        <p:tgtEl>
                                          <p:spTgt spid="126">
                                            <p:txEl>
                                              <p:pRg st="1" end="1"/>
                                            </p:txEl>
                                          </p:spTgt>
                                        </p:tgtEl>
                                        <p:attrNameLst>
                                          <p:attrName>ppt_x</p:attrName>
                                        </p:attrNameLst>
                                      </p:cBhvr>
                                      <p:tavLst>
                                        <p:tav tm="0">
                                          <p:val>
                                            <p:strVal val="#ppt_x-.1"/>
                                          </p:val>
                                        </p:tav>
                                        <p:tav tm="100000">
                                          <p:val>
                                            <p:strVal val="#ppt_x"/>
                                          </p:val>
                                        </p:tav>
                                      </p:tavLst>
                                    </p:anim>
                                    <p:anim calcmode="lin" valueType="num">
                                      <p:cBhvr additive="repl">
                                        <p:cTn id="152" dur="1000" fill="hold"/>
                                        <p:tgtEl>
                                          <p:spTgt spid="12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40">
                                  <p:stCondLst>
                                    <p:cond delay="0"/>
                                  </p:stCondLst>
                                  <p:iterate type="lt">
                                    <p:tmAbs val="100"/>
                                  </p:iterate>
                                  <p:childTnLst>
                                    <p:set>
                                      <p:cBhvr>
                                        <p:cTn id="156" dur="1" fill="hold">
                                          <p:stCondLst>
                                            <p:cond delay="0"/>
                                          </p:stCondLst>
                                        </p:cTn>
                                        <p:tgtEl>
                                          <p:spTgt spid="126">
                                            <p:txEl>
                                              <p:pRg st="2" end="2"/>
                                            </p:txEl>
                                          </p:spTgt>
                                        </p:tgtEl>
                                        <p:attrNameLst>
                                          <p:attrName>style.visibility</p:attrName>
                                        </p:attrNameLst>
                                      </p:cBhvr>
                                      <p:to>
                                        <p:strVal val="visible"/>
                                      </p:to>
                                    </p:set>
                                    <p:animEffect filter="fade" transition="in">
                                      <p:cBhvr additive="repl">
                                        <p:cTn id="157" dur="1000"/>
                                        <p:tgtEl>
                                          <p:spTgt spid="126">
                                            <p:txEl>
                                              <p:pRg st="2" end="2"/>
                                            </p:txEl>
                                          </p:spTgt>
                                        </p:tgtEl>
                                      </p:cBhvr>
                                    </p:animEffect>
                                    <p:anim calcmode="lin" valueType="num">
                                      <p:cBhvr additive="repl">
                                        <p:cTn id="158" dur="1000" fill="hold"/>
                                        <p:tgtEl>
                                          <p:spTgt spid="126">
                                            <p:txEl>
                                              <p:pRg st="2" end="2"/>
                                            </p:txEl>
                                          </p:spTgt>
                                        </p:tgtEl>
                                        <p:attrNameLst>
                                          <p:attrName>ppt_x</p:attrName>
                                        </p:attrNameLst>
                                      </p:cBhvr>
                                      <p:tavLst>
                                        <p:tav tm="0">
                                          <p:val>
                                            <p:strVal val="#ppt_x-.1"/>
                                          </p:val>
                                        </p:tav>
                                        <p:tav tm="100000">
                                          <p:val>
                                            <p:strVal val="#ppt_x"/>
                                          </p:val>
                                        </p:tav>
                                      </p:tavLst>
                                    </p:anim>
                                    <p:anim calcmode="lin" valueType="num">
                                      <p:cBhvr additive="repl">
                                        <p:cTn id="159" dur="1000" fill="hold"/>
                                        <p:tgtEl>
                                          <p:spTgt spid="12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40">
                                  <p:stCondLst>
                                    <p:cond delay="0"/>
                                  </p:stCondLst>
                                  <p:iterate type="lt">
                                    <p:tmAbs val="100"/>
                                  </p:iterate>
                                  <p:childTnLst>
                                    <p:set>
                                      <p:cBhvr>
                                        <p:cTn id="163" dur="1" fill="hold">
                                          <p:stCondLst>
                                            <p:cond delay="0"/>
                                          </p:stCondLst>
                                        </p:cTn>
                                        <p:tgtEl>
                                          <p:spTgt spid="126">
                                            <p:txEl>
                                              <p:pRg st="3" end="3"/>
                                            </p:txEl>
                                          </p:spTgt>
                                        </p:tgtEl>
                                        <p:attrNameLst>
                                          <p:attrName>style.visibility</p:attrName>
                                        </p:attrNameLst>
                                      </p:cBhvr>
                                      <p:to>
                                        <p:strVal val="visible"/>
                                      </p:to>
                                    </p:set>
                                    <p:animEffect filter="fade" transition="in">
                                      <p:cBhvr additive="repl">
                                        <p:cTn id="164" dur="1000"/>
                                        <p:tgtEl>
                                          <p:spTgt spid="126">
                                            <p:txEl>
                                              <p:pRg st="3" end="3"/>
                                            </p:txEl>
                                          </p:spTgt>
                                        </p:tgtEl>
                                      </p:cBhvr>
                                    </p:animEffect>
                                    <p:anim calcmode="lin" valueType="num">
                                      <p:cBhvr additive="repl">
                                        <p:cTn id="165" dur="1000" fill="hold"/>
                                        <p:tgtEl>
                                          <p:spTgt spid="126">
                                            <p:txEl>
                                              <p:pRg st="3" end="3"/>
                                            </p:txEl>
                                          </p:spTgt>
                                        </p:tgtEl>
                                        <p:attrNameLst>
                                          <p:attrName>ppt_x</p:attrName>
                                        </p:attrNameLst>
                                      </p:cBhvr>
                                      <p:tavLst>
                                        <p:tav tm="0">
                                          <p:val>
                                            <p:strVal val="#ppt_x-.1"/>
                                          </p:val>
                                        </p:tav>
                                        <p:tav tm="100000">
                                          <p:val>
                                            <p:strVal val="#ppt_x"/>
                                          </p:val>
                                        </p:tav>
                                      </p:tavLst>
                                    </p:anim>
                                    <p:anim calcmode="lin" valueType="num">
                                      <p:cBhvr additive="repl">
                                        <p:cTn id="166" dur="1000" fill="hold"/>
                                        <p:tgtEl>
                                          <p:spTgt spid="126">
                                            <p:txEl>
                                              <p:pRg st="3" end="3"/>
                                            </p:txEl>
                                          </p:spTgt>
                                        </p:tgtEl>
                                        <p:attrNameLst>
                                          <p:attrName>ppt_y</p:attrName>
                                        </p:attrNameLst>
                                      </p:cBhvr>
                                      <p:tavLst>
                                        <p:tav tm="0">
                                          <p:val>
                                            <p:strVal val="#ppt_y"/>
                                          </p:val>
                                        </p:tav>
                                        <p:tav tm="100000">
                                          <p:val>
                                            <p:strVal val="#ppt_y"/>
                                          </p:val>
                                        </p:tav>
                                      </p:tavLst>
                                    </p:anim>
                                  </p:childTnLst>
                                </p:cTn>
                              </p:par>
                              <p:par>
                                <p:cTn id="167" nodeType="withEffect" fill="hold" presetClass="entr" presetID="40">
                                  <p:stCondLst>
                                    <p:cond delay="0"/>
                                  </p:stCondLst>
                                  <p:iterate type="lt">
                                    <p:tmAbs val="100"/>
                                  </p:iterate>
                                  <p:childTnLst>
                                    <p:set>
                                      <p:cBhvr>
                                        <p:cTn id="168" dur="1" fill="hold">
                                          <p:stCondLst>
                                            <p:cond delay="0"/>
                                          </p:stCondLst>
                                        </p:cTn>
                                        <p:tgtEl>
                                          <p:spTgt spid="126">
                                            <p:txEl>
                                              <p:pRg st="4" end="4"/>
                                            </p:txEl>
                                          </p:spTgt>
                                        </p:tgtEl>
                                        <p:attrNameLst>
                                          <p:attrName>style.visibility</p:attrName>
                                        </p:attrNameLst>
                                      </p:cBhvr>
                                      <p:to>
                                        <p:strVal val="visible"/>
                                      </p:to>
                                    </p:set>
                                    <p:animEffect filter="fade" transition="in">
                                      <p:cBhvr additive="repl">
                                        <p:cTn id="169" dur="1000"/>
                                        <p:tgtEl>
                                          <p:spTgt spid="126">
                                            <p:txEl>
                                              <p:pRg st="4" end="4"/>
                                            </p:txEl>
                                          </p:spTgt>
                                        </p:tgtEl>
                                      </p:cBhvr>
                                    </p:animEffect>
                                    <p:anim calcmode="lin" valueType="num">
                                      <p:cBhvr additive="repl">
                                        <p:cTn id="170" dur="1000" fill="hold"/>
                                        <p:tgtEl>
                                          <p:spTgt spid="126">
                                            <p:txEl>
                                              <p:pRg st="4" end="4"/>
                                            </p:txEl>
                                          </p:spTgt>
                                        </p:tgtEl>
                                        <p:attrNameLst>
                                          <p:attrName>ppt_x</p:attrName>
                                        </p:attrNameLst>
                                      </p:cBhvr>
                                      <p:tavLst>
                                        <p:tav tm="0">
                                          <p:val>
                                            <p:strVal val="#ppt_x-.1"/>
                                          </p:val>
                                        </p:tav>
                                        <p:tav tm="100000">
                                          <p:val>
                                            <p:strVal val="#ppt_x"/>
                                          </p:val>
                                        </p:tav>
                                      </p:tavLst>
                                    </p:anim>
                                    <p:anim calcmode="lin" valueType="num">
                                      <p:cBhvr additive="repl">
                                        <p:cTn id="171" dur="1000" fill="hold"/>
                                        <p:tgtEl>
                                          <p:spTgt spid="126">
                                            <p:txEl>
                                              <p:pRg st="4" end="4"/>
                                            </p:txEl>
                                          </p:spTgt>
                                        </p:tgtEl>
                                        <p:attrNameLst>
                                          <p:attrName>ppt_y</p:attrName>
                                        </p:attrNameLst>
                                      </p:cBhvr>
                                      <p:tavLst>
                                        <p:tav tm="0">
                                          <p:val>
                                            <p:strVal val="#ppt_y"/>
                                          </p:val>
                                        </p:tav>
                                        <p:tav tm="100000">
                                          <p:val>
                                            <p:strVal val="#ppt_y"/>
                                          </p:val>
                                        </p:tav>
                                      </p:tavLst>
                                    </p:anim>
                                  </p:childTnLst>
                                </p:cTn>
                              </p:par>
                              <p:par>
                                <p:cTn id="172" nodeType="withEffect" fill="hold" presetClass="entr" presetID="40">
                                  <p:stCondLst>
                                    <p:cond delay="0"/>
                                  </p:stCondLst>
                                  <p:iterate type="lt">
                                    <p:tmAbs val="100"/>
                                  </p:iterate>
                                  <p:childTnLst>
                                    <p:set>
                                      <p:cBhvr>
                                        <p:cTn id="173" dur="1" fill="hold">
                                          <p:stCondLst>
                                            <p:cond delay="0"/>
                                          </p:stCondLst>
                                        </p:cTn>
                                        <p:tgtEl>
                                          <p:spTgt spid="126">
                                            <p:txEl>
                                              <p:pRg st="5" end="5"/>
                                            </p:txEl>
                                          </p:spTgt>
                                        </p:tgtEl>
                                        <p:attrNameLst>
                                          <p:attrName>style.visibility</p:attrName>
                                        </p:attrNameLst>
                                      </p:cBhvr>
                                      <p:to>
                                        <p:strVal val="visible"/>
                                      </p:to>
                                    </p:set>
                                    <p:animEffect filter="fade" transition="in">
                                      <p:cBhvr additive="repl">
                                        <p:cTn id="174" dur="1000"/>
                                        <p:tgtEl>
                                          <p:spTgt spid="126">
                                            <p:txEl>
                                              <p:pRg st="5" end="5"/>
                                            </p:txEl>
                                          </p:spTgt>
                                        </p:tgtEl>
                                      </p:cBhvr>
                                    </p:animEffect>
                                    <p:anim calcmode="lin" valueType="num">
                                      <p:cBhvr additive="repl">
                                        <p:cTn id="175" dur="1000" fill="hold"/>
                                        <p:tgtEl>
                                          <p:spTgt spid="126">
                                            <p:txEl>
                                              <p:pRg st="5" end="5"/>
                                            </p:txEl>
                                          </p:spTgt>
                                        </p:tgtEl>
                                        <p:attrNameLst>
                                          <p:attrName>ppt_x</p:attrName>
                                        </p:attrNameLst>
                                      </p:cBhvr>
                                      <p:tavLst>
                                        <p:tav tm="0">
                                          <p:val>
                                            <p:strVal val="#ppt_x-.1"/>
                                          </p:val>
                                        </p:tav>
                                        <p:tav tm="100000">
                                          <p:val>
                                            <p:strVal val="#ppt_x"/>
                                          </p:val>
                                        </p:tav>
                                      </p:tavLst>
                                    </p:anim>
                                    <p:anim calcmode="lin" valueType="num">
                                      <p:cBhvr additive="repl">
                                        <p:cTn id="176" dur="1000" fill="hold"/>
                                        <p:tgtEl>
                                          <p:spTgt spid="12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371600" y="22824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Old English Text MT"/>
              </a:rPr>
              <a:t>Making the Case for Paper: Political Impact</a:t>
            </a:r>
            <a:endParaRPr b="0" lang="en-US" sz="4400" spc="-1" strike="noStrike">
              <a:solidFill>
                <a:srgbClr val="000000"/>
              </a:solidFill>
              <a:latin typeface="Arial"/>
            </a:endParaRPr>
          </a:p>
        </p:txBody>
      </p:sp>
      <p:sp>
        <p:nvSpPr>
          <p:cNvPr id="130" name="PlaceHolder 2"/>
          <p:cNvSpPr>
            <a:spLocks noGrp="1"/>
          </p:cNvSpPr>
          <p:nvPr>
            <p:ph/>
          </p:nvPr>
        </p:nvSpPr>
        <p:spPr>
          <a:xfrm>
            <a:off x="1142640" y="1676160"/>
            <a:ext cx="5181480" cy="5181480"/>
          </a:xfrm>
          <a:prstGeom prst="rect">
            <a:avLst/>
          </a:prstGeom>
          <a:noFill/>
          <a:ln w="0">
            <a:noFill/>
          </a:ln>
        </p:spPr>
        <p:txBody>
          <a:bodyPr anchor="t">
            <a:normAutofit/>
          </a:bodyPr>
          <a:p>
            <a:pPr marL="343080" indent="-34308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ntrol of ideas: laws to keep “rags” from leaving country</a:t>
            </a:r>
            <a:br>
              <a:rPr sz="2400"/>
            </a:br>
            <a:r>
              <a:rPr b="0" lang="en-US" sz="2400" spc="-1" strike="noStrike">
                <a:solidFill>
                  <a:srgbClr val="000000"/>
                </a:solidFill>
                <a:latin typeface="Arial Narrow"/>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ewspapers spread political information, serve as “bully pulpit”</a:t>
            </a:r>
            <a:br>
              <a:rPr sz="2400"/>
            </a:br>
            <a:r>
              <a:rPr b="0" lang="en-US" sz="2400" spc="-1" strike="noStrike">
                <a:solidFill>
                  <a:srgbClr val="000000"/>
                </a:solidFill>
                <a:latin typeface="Arial Narrow"/>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aws at turn of 20th century spur paper industry : tax credits granted for resource development, industries granted favorable freight rates</a:t>
            </a:r>
            <a:endParaRPr b="0" lang="en-US" sz="2400" spc="-1" strike="noStrike">
              <a:solidFill>
                <a:srgbClr val="000000"/>
              </a:solidFill>
              <a:latin typeface="Arial"/>
            </a:endParaRPr>
          </a:p>
        </p:txBody>
      </p:sp>
      <p:pic>
        <p:nvPicPr>
          <p:cNvPr id="131" name="Picture 5" descr="pol1">
            <a:hlinkClick r:id="rId1"/>
          </p:cNvPr>
          <p:cNvPicPr/>
          <p:nvPr/>
        </p:nvPicPr>
        <p:blipFill>
          <a:blip r:embed="rId2"/>
          <a:stretch/>
        </p:blipFill>
        <p:spPr>
          <a:xfrm>
            <a:off x="6553080" y="1752480"/>
            <a:ext cx="2394000" cy="2590920"/>
          </a:xfrm>
          <a:prstGeom prst="rect">
            <a:avLst/>
          </a:prstGeom>
          <a:ln w="0">
            <a:noFill/>
          </a:ln>
        </p:spPr>
      </p:pic>
      <p:sp>
        <p:nvSpPr>
          <p:cNvPr id="132" name="TextBox 6"/>
          <p:cNvSpPr/>
          <p:nvPr/>
        </p:nvSpPr>
        <p:spPr>
          <a:xfrm>
            <a:off x="1219320" y="647712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p:transition>
    <p:push dir="r"/>
  </p:transition>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withEffect" fill="hold" presetClass="entr" presetID="26">
                                  <p:stCondLst>
                                    <p:cond delay="0"/>
                                  </p:stCondLst>
                                  <p:childTnLst>
                                    <p:set>
                                      <p:cBhvr>
                                        <p:cTn id="182" dur="1" fill="hold">
                                          <p:stCondLst>
                                            <p:cond delay="0"/>
                                          </p:stCondLst>
                                        </p:cTn>
                                        <p:tgtEl>
                                          <p:spTgt spid="129"/>
                                        </p:tgtEl>
                                        <p:attrNameLst>
                                          <p:attrName>style.visibility</p:attrName>
                                        </p:attrNameLst>
                                      </p:cBhvr>
                                      <p:to>
                                        <p:strVal val="visible"/>
                                      </p:to>
                                    </p:set>
                                    <p:anim calcmode="lin" valueType="num">
                                      <p:cBhvr additive="repl">
                                        <p:cTn id="183" dur="2000" fill="hold"/>
                                        <p:tgtEl>
                                          <p:spTgt spid="129"/>
                                        </p:tgtEl>
                                        <p:attrNameLst>
                                          <p:attrName>ppt_w</p:attrName>
                                        </p:attrNameLst>
                                      </p:cBhvr>
                                      <p:tavLst>
                                        <p:tav tm="0">
                                          <p:val>
                                            <p:strVal val="#ppt_w"/>
                                          </p:val>
                                        </p:tav>
                                        <p:tav tm="100000">
                                          <p:val>
                                            <p:strVal val="#ppt_w"/>
                                          </p:val>
                                        </p:tav>
                                      </p:tavLst>
                                    </p:anim>
                                    <p:anim calcmode="lin" valueType="num">
                                      <p:cBhvr additive="repl">
                                        <p:cTn id="184" dur="2000" fill="hold"/>
                                        <p:tgtEl>
                                          <p:spTgt spid="129"/>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85" dur="2000" fill="hold"/>
                                        <p:tgtEl>
                                          <p:spTgt spid="129"/>
                                        </p:tgtEl>
                                        <p:attrNameLst>
                                          <p:attrName>ppt_x</p:attrName>
                                        </p:attrNameLst>
                                      </p:cBhvr>
                                      <p:tavLst>
                                        <p:tav tm="0">
                                          <p:val>
                                            <p:strVal val="#ppt_x-.4"/>
                                          </p:val>
                                        </p:tav>
                                        <p:tav tm="100000">
                                          <p:val>
                                            <p:strVal val="#ppt_x"/>
                                          </p:val>
                                        </p:tav>
                                      </p:tavLst>
                                    </p:anim>
                                    <p:anim calcmode="lin" valueType="num">
                                      <p:cBhvr additive="repl">
                                        <p:cTn id="186" dur="2000" fill="hold"/>
                                        <p:tgtEl>
                                          <p:spTgt spid="129"/>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0">
                                  <p:stCondLst>
                                    <p:cond delay="0"/>
                                  </p:stCondLst>
                                  <p:iterate type="lt">
                                    <p:tmAbs val="50"/>
                                  </p:iterate>
                                  <p:childTnLst>
                                    <p:set>
                                      <p:cBhvr>
                                        <p:cTn id="190" dur="1" fill="hold">
                                          <p:stCondLst>
                                            <p:cond delay="0"/>
                                          </p:stCondLst>
                                        </p:cTn>
                                        <p:tgtEl>
                                          <p:spTgt spid="130">
                                            <p:txEl>
                                              <p:pRg st="0" end="0"/>
                                            </p:txEl>
                                          </p:spTgt>
                                        </p:tgtEl>
                                        <p:attrNameLst>
                                          <p:attrName>style.visibility</p:attrName>
                                        </p:attrNameLst>
                                      </p:cBhvr>
                                      <p:to>
                                        <p:strVal val="visible"/>
                                      </p:to>
                                    </p:set>
                                    <p:animEffect filter="fade" transition="in">
                                      <p:cBhvr additive="repl">
                                        <p:cTn id="191" dur="500">
                                          <p:stCondLst>
                                            <p:cond delay="0"/>
                                          </p:stCondLst>
                                        </p:cTn>
                                        <p:tgtEl>
                                          <p:spTgt spid="130">
                                            <p:txEl>
                                              <p:pRg st="0" end="0"/>
                                            </p:txEl>
                                          </p:spTgt>
                                        </p:tgtEl>
                                      </p:cBhvr>
                                    </p:animEffect>
                                    <p:anim calcmode="lin" valueType="num">
                                      <p:cBhvr additive="repl">
                                        <p:cTn id="192" dur="500" fill="hold">
                                          <p:stCondLst>
                                            <p:cond delay="0"/>
                                          </p:stCondLst>
                                        </p:cTn>
                                        <p:tgtEl>
                                          <p:spTgt spid="130">
                                            <p:txEl>
                                              <p:pRg st="0" end="0"/>
                                            </p:txEl>
                                          </p:spTgt>
                                        </p:tgtEl>
                                        <p:attrNameLst>
                                          <p:attrName>ppt_x</p:attrName>
                                        </p:attrNameLst>
                                      </p:cBhvr>
                                      <p:tavLst>
                                        <p:tav tm="0">
                                          <p:val>
                                            <p:strVal val="#ppt_x-.1"/>
                                          </p:val>
                                        </p:tav>
                                        <p:tav tm="100000">
                                          <p:val>
                                            <p:strVal val="#ppt_x"/>
                                          </p:val>
                                        </p:tav>
                                      </p:tavLst>
                                    </p:anim>
                                    <p:anim calcmode="lin" valueType="num">
                                      <p:cBhvr additive="repl">
                                        <p:cTn id="193" dur="500" fill="hold">
                                          <p:stCondLst>
                                            <p:cond delay="0"/>
                                          </p:stCondLst>
                                        </p:cTn>
                                        <p:tgtEl>
                                          <p:spTgt spid="1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40">
                                  <p:stCondLst>
                                    <p:cond delay="0"/>
                                  </p:stCondLst>
                                  <p:iterate type="lt">
                                    <p:tmAbs val="50"/>
                                  </p:iterate>
                                  <p:childTnLst>
                                    <p:set>
                                      <p:cBhvr>
                                        <p:cTn id="197" dur="1" fill="hold">
                                          <p:stCondLst>
                                            <p:cond delay="0"/>
                                          </p:stCondLst>
                                        </p:cTn>
                                        <p:tgtEl>
                                          <p:spTgt spid="130">
                                            <p:txEl>
                                              <p:pRg st="1" end="1"/>
                                            </p:txEl>
                                          </p:spTgt>
                                        </p:tgtEl>
                                        <p:attrNameLst>
                                          <p:attrName>style.visibility</p:attrName>
                                        </p:attrNameLst>
                                      </p:cBhvr>
                                      <p:to>
                                        <p:strVal val="visible"/>
                                      </p:to>
                                    </p:set>
                                    <p:animEffect filter="fade" transition="in">
                                      <p:cBhvr additive="repl">
                                        <p:cTn id="198" dur="500">
                                          <p:stCondLst>
                                            <p:cond delay="0"/>
                                          </p:stCondLst>
                                        </p:cTn>
                                        <p:tgtEl>
                                          <p:spTgt spid="130">
                                            <p:txEl>
                                              <p:pRg st="1" end="1"/>
                                            </p:txEl>
                                          </p:spTgt>
                                        </p:tgtEl>
                                      </p:cBhvr>
                                    </p:animEffect>
                                    <p:anim calcmode="lin" valueType="num">
                                      <p:cBhvr additive="repl">
                                        <p:cTn id="199" dur="500" fill="hold">
                                          <p:stCondLst>
                                            <p:cond delay="0"/>
                                          </p:stCondLst>
                                        </p:cTn>
                                        <p:tgtEl>
                                          <p:spTgt spid="130">
                                            <p:txEl>
                                              <p:pRg st="1" end="1"/>
                                            </p:txEl>
                                          </p:spTgt>
                                        </p:tgtEl>
                                        <p:attrNameLst>
                                          <p:attrName>ppt_x</p:attrName>
                                        </p:attrNameLst>
                                      </p:cBhvr>
                                      <p:tavLst>
                                        <p:tav tm="0">
                                          <p:val>
                                            <p:strVal val="#ppt_x-.1"/>
                                          </p:val>
                                        </p:tav>
                                        <p:tav tm="100000">
                                          <p:val>
                                            <p:strVal val="#ppt_x"/>
                                          </p:val>
                                        </p:tav>
                                      </p:tavLst>
                                    </p:anim>
                                    <p:anim calcmode="lin" valueType="num">
                                      <p:cBhvr additive="repl">
                                        <p:cTn id="200" dur="500" fill="hold">
                                          <p:stCondLst>
                                            <p:cond delay="0"/>
                                          </p:stCondLst>
                                        </p:cTn>
                                        <p:tgtEl>
                                          <p:spTgt spid="1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40">
                                  <p:stCondLst>
                                    <p:cond delay="0"/>
                                  </p:stCondLst>
                                  <p:iterate type="lt">
                                    <p:tmAbs val="50"/>
                                  </p:iterate>
                                  <p:childTnLst>
                                    <p:set>
                                      <p:cBhvr>
                                        <p:cTn id="204" dur="1" fill="hold">
                                          <p:stCondLst>
                                            <p:cond delay="0"/>
                                          </p:stCondLst>
                                        </p:cTn>
                                        <p:tgtEl>
                                          <p:spTgt spid="130">
                                            <p:txEl>
                                              <p:pRg st="2" end="2"/>
                                            </p:txEl>
                                          </p:spTgt>
                                        </p:tgtEl>
                                        <p:attrNameLst>
                                          <p:attrName>style.visibility</p:attrName>
                                        </p:attrNameLst>
                                      </p:cBhvr>
                                      <p:to>
                                        <p:strVal val="visible"/>
                                      </p:to>
                                    </p:set>
                                    <p:animEffect filter="fade" transition="in">
                                      <p:cBhvr additive="repl">
                                        <p:cTn id="205" dur="500">
                                          <p:stCondLst>
                                            <p:cond delay="0"/>
                                          </p:stCondLst>
                                        </p:cTn>
                                        <p:tgtEl>
                                          <p:spTgt spid="130">
                                            <p:txEl>
                                              <p:pRg st="2" end="2"/>
                                            </p:txEl>
                                          </p:spTgt>
                                        </p:tgtEl>
                                      </p:cBhvr>
                                    </p:animEffect>
                                    <p:anim calcmode="lin" valueType="num">
                                      <p:cBhvr additive="repl">
                                        <p:cTn id="206" dur="500" fill="hold">
                                          <p:stCondLst>
                                            <p:cond delay="0"/>
                                          </p:stCondLst>
                                        </p:cTn>
                                        <p:tgtEl>
                                          <p:spTgt spid="130">
                                            <p:txEl>
                                              <p:pRg st="2" end="2"/>
                                            </p:txEl>
                                          </p:spTgt>
                                        </p:tgtEl>
                                        <p:attrNameLst>
                                          <p:attrName>ppt_x</p:attrName>
                                        </p:attrNameLst>
                                      </p:cBhvr>
                                      <p:tavLst>
                                        <p:tav tm="0">
                                          <p:val>
                                            <p:strVal val="#ppt_x-.1"/>
                                          </p:val>
                                        </p:tav>
                                        <p:tav tm="100000">
                                          <p:val>
                                            <p:strVal val="#ppt_x"/>
                                          </p:val>
                                        </p:tav>
                                      </p:tavLst>
                                    </p:anim>
                                    <p:anim calcmode="lin" valueType="num">
                                      <p:cBhvr additive="repl">
                                        <p:cTn id="207" dur="500" fill="hold">
                                          <p:stCondLst>
                                            <p:cond delay="0"/>
                                          </p:stCondLst>
                                        </p:cTn>
                                        <p:tgtEl>
                                          <p:spTgt spid="13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600" y="30456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Old English Text MT"/>
              </a:rPr>
              <a:t>Conclusion</a:t>
            </a:r>
            <a:endParaRPr b="0" lang="en-US" sz="4800" spc="-1" strike="noStrike">
              <a:solidFill>
                <a:srgbClr val="000000"/>
              </a:solidFill>
              <a:latin typeface="Arial"/>
            </a:endParaRPr>
          </a:p>
        </p:txBody>
      </p:sp>
      <p:sp>
        <p:nvSpPr>
          <p:cNvPr id="134" name="PlaceHolder 2"/>
          <p:cNvSpPr>
            <a:spLocks noGrp="1"/>
          </p:cNvSpPr>
          <p:nvPr>
            <p:ph/>
          </p:nvPr>
        </p:nvSpPr>
        <p:spPr>
          <a:xfrm>
            <a:off x="1371600" y="1676160"/>
            <a:ext cx="7772400" cy="4724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3200" spc="-1" strike="noStrike">
                <a:solidFill>
                  <a:srgbClr val="000000"/>
                </a:solidFill>
                <a:latin typeface="Arial Narrow"/>
              </a:rPr>
              <a:t>Paper had the </a:t>
            </a:r>
            <a:r>
              <a:rPr b="0" lang="en-US" sz="3200" spc="-1" strike="noStrike">
                <a:solidFill>
                  <a:srgbClr val="0066cc"/>
                </a:solidFill>
                <a:latin typeface="Arial Narrow"/>
              </a:rPr>
              <a:t>greatest impact</a:t>
            </a:r>
            <a:r>
              <a:rPr b="0" lang="en-US" sz="3200" spc="-1" strike="noStrike">
                <a:solidFill>
                  <a:srgbClr val="000000"/>
                </a:solidFill>
                <a:latin typeface="Arial Narrow"/>
              </a:rPr>
              <a:t> on political, economical, and social change, as it </a:t>
            </a:r>
            <a:r>
              <a:rPr b="0" lang="en-US" sz="3200" spc="-1" strike="noStrike">
                <a:solidFill>
                  <a:srgbClr val="0066cc"/>
                </a:solidFill>
                <a:latin typeface="Arial Narrow"/>
              </a:rPr>
              <a:t>allowed all printing-related activity to develop</a:t>
            </a:r>
            <a:r>
              <a:rPr b="0" lang="en-US" sz="3200" spc="-1" strike="noStrike">
                <a:solidFill>
                  <a:srgbClr val="000000"/>
                </a:solidFill>
                <a:latin typeface="Arial Narrow"/>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r>
              <a:rPr b="0" lang="en-US" sz="3200" spc="-1" strike="noStrike">
                <a:solidFill>
                  <a:srgbClr val="0066cc"/>
                </a:solidFill>
                <a:latin typeface="Arial Narrow"/>
              </a:rPr>
              <a:t>Without</a:t>
            </a:r>
            <a:r>
              <a:rPr b="0" lang="en-US" sz="3200" spc="-1" strike="noStrike">
                <a:solidFill>
                  <a:srgbClr val="000000"/>
                </a:solidFill>
                <a:latin typeface="Arial Narrow"/>
              </a:rPr>
              <a:t> inexpensive, easy to produce paper, </a:t>
            </a:r>
            <a:r>
              <a:rPr b="0" lang="en-US" sz="3200" spc="-1" strike="noStrike">
                <a:solidFill>
                  <a:srgbClr val="0066cc"/>
                </a:solidFill>
                <a:latin typeface="Arial Narrow"/>
              </a:rPr>
              <a:t>words could not have wide distribution</a:t>
            </a:r>
            <a:r>
              <a:rPr b="0" lang="en-US" sz="3200" spc="-1" strike="noStrike">
                <a:solidFill>
                  <a:srgbClr val="000000"/>
                </a:solidFill>
                <a:latin typeface="Arial Narrow"/>
              </a:rPr>
              <a:t>.</a:t>
            </a:r>
            <a:endParaRPr b="0" lang="en-US" sz="3200" spc="-1" strike="noStrike">
              <a:solidFill>
                <a:srgbClr val="000000"/>
              </a:solidFill>
              <a:latin typeface="Arial"/>
            </a:endParaRPr>
          </a:p>
        </p:txBody>
      </p:sp>
      <p:sp>
        <p:nvSpPr>
          <p:cNvPr id="135" name="TextBox 6"/>
          <p:cNvSpPr/>
          <p:nvPr/>
        </p:nvSpPr>
        <p:spPr>
          <a:xfrm>
            <a:off x="1219320" y="647712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213" dur="1299" fill="hold">
                                          <p:stCondLst>
                                            <p:cond delay="0"/>
                                          </p:stCondLst>
                                        </p:cTn>
                                        <p:tgtEl>
                                          <p:spTgt spid="133"/>
                                        </p:tgtEl>
                                      </p:cBhvr>
                                    </p:animMotion>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37">
                                  <p:stCondLst>
                                    <p:cond delay="0"/>
                                  </p:stCondLst>
                                  <p:childTnLst>
                                    <p:set>
                                      <p:cBhvr>
                                        <p:cTn id="217" dur="1" fill="hold">
                                          <p:stCondLst>
                                            <p:cond delay="0"/>
                                          </p:stCondLst>
                                        </p:cTn>
                                        <p:tgtEl>
                                          <p:spTgt spid="134">
                                            <p:txEl>
                                              <p:pRg st="0" end="0"/>
                                            </p:txEl>
                                          </p:spTgt>
                                        </p:tgtEl>
                                        <p:attrNameLst>
                                          <p:attrName>style.visibility</p:attrName>
                                        </p:attrNameLst>
                                      </p:cBhvr>
                                      <p:to>
                                        <p:strVal val="visible"/>
                                      </p:to>
                                    </p:set>
                                    <p:animEffect filter="fade" transition="in">
                                      <p:cBhvr additive="repl">
                                        <p:cTn id="218" dur="1000"/>
                                        <p:tgtEl>
                                          <p:spTgt spid="134">
                                            <p:txEl>
                                              <p:pRg st="0" end="0"/>
                                            </p:txEl>
                                          </p:spTgt>
                                        </p:tgtEl>
                                      </p:cBhvr>
                                    </p:animEffect>
                                    <p:anim calcmode="lin" valueType="num">
                                      <p:cBhvr additive="repl">
                                        <p:cTn id="219" dur="10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repl">
                                        <p:cTn id="220" dur="898" fill="hold"/>
                                        <p:tgtEl>
                                          <p:spTgt spid="134">
                                            <p:txEl>
                                              <p:pRg st="0" end="0"/>
                                            </p:txEl>
                                          </p:spTgt>
                                        </p:tgtEl>
                                        <p:attrNameLst>
                                          <p:attrName>ppt_y</p:attrName>
                                        </p:attrNameLst>
                                      </p:cBhvr>
                                      <p:tavLst>
                                        <p:tav tm="0">
                                          <p:val>
                                            <p:strVal val="#ppt_y+1"/>
                                          </p:val>
                                        </p:tav>
                                        <p:tav tm="100000">
                                          <p:val>
                                            <p:strVal val="#ppt_y-.03"/>
                                          </p:val>
                                        </p:tav>
                                      </p:tavLst>
                                    </p:anim>
                                    <p:anim calcmode="lin" valueType="num">
                                      <p:cBhvr additive="repl">
                                        <p:cTn id="221" dur="100" fill="hold">
                                          <p:stCondLst>
                                            <p:cond delay="898"/>
                                          </p:stCondLst>
                                        </p:cTn>
                                        <p:tgtEl>
                                          <p:spTgt spid="13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37">
                                  <p:stCondLst>
                                    <p:cond delay="0"/>
                                  </p:stCondLst>
                                  <p:childTnLst>
                                    <p:set>
                                      <p:cBhvr>
                                        <p:cTn id="225" dur="1" fill="hold">
                                          <p:stCondLst>
                                            <p:cond delay="0"/>
                                          </p:stCondLst>
                                        </p:cTn>
                                        <p:tgtEl>
                                          <p:spTgt spid="134">
                                            <p:txEl>
                                              <p:pRg st="2" end="2"/>
                                            </p:txEl>
                                          </p:spTgt>
                                        </p:tgtEl>
                                        <p:attrNameLst>
                                          <p:attrName>style.visibility</p:attrName>
                                        </p:attrNameLst>
                                      </p:cBhvr>
                                      <p:to>
                                        <p:strVal val="visible"/>
                                      </p:to>
                                    </p:set>
                                    <p:animEffect filter="fade" transition="in">
                                      <p:cBhvr additive="repl">
                                        <p:cTn id="226" dur="1000"/>
                                        <p:tgtEl>
                                          <p:spTgt spid="134">
                                            <p:txEl>
                                              <p:pRg st="2" end="2"/>
                                            </p:txEl>
                                          </p:spTgt>
                                        </p:tgtEl>
                                      </p:cBhvr>
                                    </p:animEffect>
                                    <p:anim calcmode="lin" valueType="num">
                                      <p:cBhvr additive="repl">
                                        <p:cTn id="227" dur="10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repl">
                                        <p:cTn id="228" dur="898" fill="hold"/>
                                        <p:tgtEl>
                                          <p:spTgt spid="134">
                                            <p:txEl>
                                              <p:pRg st="2" end="2"/>
                                            </p:txEl>
                                          </p:spTgt>
                                        </p:tgtEl>
                                        <p:attrNameLst>
                                          <p:attrName>ppt_y</p:attrName>
                                        </p:attrNameLst>
                                      </p:cBhvr>
                                      <p:tavLst>
                                        <p:tav tm="0">
                                          <p:val>
                                            <p:strVal val="#ppt_y+1"/>
                                          </p:val>
                                        </p:tav>
                                        <p:tav tm="100000">
                                          <p:val>
                                            <p:strVal val="#ppt_y-.03"/>
                                          </p:val>
                                        </p:tav>
                                      </p:tavLst>
                                    </p:anim>
                                    <p:anim calcmode="lin" valueType="num">
                                      <p:cBhvr additive="repl">
                                        <p:cTn id="229" dur="100" fill="hold">
                                          <p:stCondLst>
                                            <p:cond delay="898"/>
                                          </p:stCondLst>
                                        </p:cTn>
                                        <p:tgtEl>
                                          <p:spTgt spid="134">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2T14:33:33Z</dcterms:created>
  <dc:creator>Intel(R) Innovation in Education</dc:creator>
  <dc:description/>
  <dc:language>en-US</dc:language>
  <cp:lastModifiedBy>ljfishex</cp:lastModifiedBy>
  <dcterms:modified xsi:type="dcterms:W3CDTF">2010-06-05T17:25:35Z</dcterms:modified>
  <cp:revision>40</cp:revision>
  <dc:subject/>
  <dc:title>Papyrus to PDA - Student Example</dc:title>
</cp:coreProperties>
</file>